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3657600" cy="4572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22C6-E6F0-48EE-B7B2-40555204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1066320"/>
            <a:ext cx="329256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2642760"/>
            <a:ext cx="329256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34C7-057E-4B5E-A1EB-392F640E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106632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106632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264276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264276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BD4C-10DE-4149-9D30-92F9441A6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1066320"/>
            <a:ext cx="105984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1066320"/>
            <a:ext cx="105984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1066320"/>
            <a:ext cx="105984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2642760"/>
            <a:ext cx="105984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2642760"/>
            <a:ext cx="105984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2642760"/>
            <a:ext cx="105984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4C8C-B4F2-4029-871A-6764BB50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1066320"/>
            <a:ext cx="329256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D438-9DF2-4B96-87D9-6DADBD66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1066320"/>
            <a:ext cx="3292560" cy="3017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39D4-6539-4F8C-A0D9-7DDAF74E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1066320"/>
            <a:ext cx="1606680" cy="3017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1066320"/>
            <a:ext cx="1606680" cy="3017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3918-CAF9-4198-AC3D-4ABA212E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05DF-535B-4578-96CC-4F34D54C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182160"/>
            <a:ext cx="3292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709E-C789-469A-9598-A83F3A66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106632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1066320"/>
            <a:ext cx="1606680" cy="3017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264276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C039-985D-40F1-87CF-73856546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1066320"/>
            <a:ext cx="1606680" cy="3017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106632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264276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EF02-D503-49C8-8124-709F2EC9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106632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106632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2642760"/>
            <a:ext cx="329256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D178-5781-456B-8A89-04F2F182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1066320"/>
            <a:ext cx="3292560" cy="3017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-176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2680" indent="-147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87520" indent="-117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822240" indent="-1173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057320" indent="-1173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057320" indent="-1173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057320" indent="-1173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4164120"/>
            <a:ext cx="854280" cy="3175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4164120"/>
            <a:ext cx="1159200" cy="3175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4164120"/>
            <a:ext cx="854280" cy="3175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Autofit/>
          </a:bodyPr>
          <a:lstStyle>
            <a:lvl1pPr indent="0" algn="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A91FC223-2E38-4AB6-83A9-8F1782DEE160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1420560"/>
            <a:ext cx="3108240" cy="9795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Arial"/>
              </a:rPr>
              <a:t>APARIŢIA ŞI RĂSPÂNDIREA CREŞTINISMULUI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22400" y="254160"/>
            <a:ext cx="335268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ro-RO" sz="5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500"/>
            </a:br>
            <a:r>
              <a:rPr b="0" lang="ro-RO" sz="5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6720" y="2590560"/>
            <a:ext cx="2711520" cy="11682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Autofit/>
          </a:bodyPr>
          <a:p>
            <a:pPr>
              <a:spcBef>
                <a:spcPts val="125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fr-FR" sz="5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fr-FR" sz="5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FR" sz="5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fr-FR" sz="5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ro-RO" sz="5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500"/>
            </a:br>
            <a:r>
              <a:rPr b="0" lang="ro-RO" sz="5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2100"/>
            </a:b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82160" y="1066320"/>
            <a:ext cx="1616040" cy="23367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Trimisul lui Dumnezeu, fiul său, Isus, se naşte la Bethleem şi trăieşte la Nazareth. Viaţa sa este povestită în cele patru Evanghelii cunoscute şi sub numele de Noul Testament – scrierea sfântă a creştinilor. La 30 de ani, Isus începe să predice cuvântul lui Dumnezeu în Galileea, o provincie a Palestinei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Pentru a arăta natura sa divină, Isus săvârşeşte miracole. Dintre discipolii săi, doisprezece sunt aleşi pentru a duce mai departe în întreaga lume noua învăţătură. Ei sunt numiţi apostoli, iar cel mai important este Petru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Isus predică pentru cei slabi, săraci sau persecutaţi, promiţându-le împărăţia cerurilor, a lui Dumnezeu cel unic şi atotputernic. Noua credinţă se răspândeşte repede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Evreii aşteptau un alt fel de Mesia, venind să-i elibereze de sub stăpânirea romană. De aceea nu îl recunosc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Considerându-l impostor, preoţii îl predau romanilor. Aceştia îl judecă şi îl condamnă la moarte prin crucificare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2073240" y="965160"/>
            <a:ext cx="144792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ro-RO" sz="5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500"/>
            </a:br>
            <a:r>
              <a:rPr b="0" lang="ro-RO" sz="5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2100"/>
            </a:b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82520" y="1066680"/>
            <a:ext cx="3200400" cy="1727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312840" indent="-31284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Redactaţi pe scurt semnificaţia următorilor termeni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746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lphaLcParenR"/>
              <a:tabLst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746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lphaLcParenR"/>
              <a:tabLst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lim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746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lphaLcParenR"/>
              <a:tabLst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mercena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Ordonaţi cronologic următoarele evenimente 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746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lphaLcParenR"/>
              <a:tabLst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divizarea Imperiului roma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746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lphaLcParenR"/>
              <a:tabLst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retragerea administraţiei şi armatei romane din Daci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746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lphaLcParenR"/>
              <a:tabLst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venirea hunilor în Europ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Ce urmări au avut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746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lphaLcParenR"/>
              <a:tabLst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pătrunderea ostrogoţilor în Itali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746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lphaLcParenR"/>
              <a:tabLst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domnia împăratului Justinia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746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lphaLcParenR"/>
              <a:tabLst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domnia împăratului Diocleţian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3S1</cp:lastModifiedBy>
  <dcterms:modified xsi:type="dcterms:W3CDTF">2012-06-19T11:25:41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