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A11-9C8D-4E6E-8931-999FEE1C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C1A6-AC94-4C89-8B33-28B314B5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D600-DB68-4733-9A4E-AE12369E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ECB-D66A-4FF2-BFBA-A9EDB4FF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AFD3-59FB-4EBF-86BF-0F4E110C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12A8-3DB1-4432-8060-1C703C38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3D4A-6371-44FB-BB76-D55B4132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BBD5-BC3C-44B9-8CDA-D5A8A3D7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B73-B258-4B36-923B-50ABB94B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218-3ADC-48A7-8369-3D6FC054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C51-F70D-41A7-A14E-DCD747E1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4AD-841B-4420-BC11-F52CDED6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FBAB-1328-4CFD-A1A3-B2B08AC8F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57400" y="1828800"/>
            <a:ext cx="5181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esiunea iunie - 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 advTm="5000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2</cp:lastModifiedBy>
  <dcterms:modified xsi:type="dcterms:W3CDTF">2012-06-18T10:52:21Z</dcterms:modified>
  <cp:revision>38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