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6A24-7F2E-4B57-A737-9F0D893DE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D526-8240-4BA6-BC36-310D2FED1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15E97-0B13-4C3D-B113-CF7870E38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8B650-747D-457C-8492-8188DFF1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7F4B9-37A6-490C-AE6F-AC522FBD6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956D-DEA2-4586-9F45-CED22A13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C542A-40E1-498B-82EC-08158B02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AACF1-D4DA-4303-A127-CFA8C725F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DE3DF-7EEA-45DE-AE45-E1BD29BB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5F64-F35A-4D42-A129-2DF18472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8282-EA54-42AA-ABFC-A1D767A3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CC9A-7EFF-4DA2-9E0A-9B9B17189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BDFC-CCC6-46C7-BB20-FCF02FD5C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1523880" y="4114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aptat după Manualul de Istorie, clasa a V-a, Zoe Petre,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graphicFrame>
        <p:nvGraphicFramePr>
          <p:cNvPr id="48" name=""/>
          <p:cNvGraphicFramePr/>
          <p:nvPr/>
        </p:nvGraphicFramePr>
        <p:xfrm>
          <a:off x="1523880" y="1371600"/>
          <a:ext cx="6096240" cy="4067280"/>
        </p:xfrm>
        <a:graphic>
          <a:graphicData uri="http://schemas.openxmlformats.org/presentationml/2006/ole">
            <p:oleObj r:id="rId2" spid="">
              <p:embed/>
              <p:pic>
                <p:nvPicPr>
                  <p:cNvPr id="49" name="" descr=""/>
                  <p:cNvPicPr/>
                  <p:nvPr/>
                </p:nvPicPr>
                <p:blipFill>
                  <a:blip r:embed="rId3"/>
                  <a:stretch/>
                </p:blipFill>
                <p:spPr>
                  <a:xfrm>
                    <a:off x="1523880" y="13716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13:24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