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4DB-058D-4489-93F7-5EA9E61A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126-03C6-4B9C-84B4-DE47E2FB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E02-8A5B-4418-88C0-EB29C493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463-FC0B-40D9-8860-6DAA4022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3E7-421A-4513-8CCA-DFC246D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39A-2CF6-4299-8B81-D0D7164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6B8-EC22-4299-BDF5-73FAADAF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1B2-45AD-42C2-89FE-D2FE7B4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274-0B9B-4EC2-B5EB-F308B6A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7C1-1D70-4813-9823-A8D5031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837-73FA-48F9-A1F8-C5E6FDF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7A2-436B-4166-8192-D10ED32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0DD-18E2-4760-A642-E1095FAC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12000"/>
          </a:blip>
          <a:srcRect l="26496" t="67263" r="21116" b="31042"/>
          <a:stretch/>
        </p:blipFill>
        <p:spPr>
          <a:xfrm>
            <a:off x="6218280" y="3357720"/>
            <a:ext cx="140184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8:06Z</dcterms:modified>
  <cp:revision>30</cp:revision>
  <dc:subject/>
  <dc:title>SALARIUL</dc:title>
</cp:coreProperties>
</file>