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B9196-54E9-4285-AFC3-E6BFDF868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CCE45-7CB4-48D9-9DC9-DE4A8988C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868F8-C763-40FB-AF43-9C289CEC6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E2A83-0B3B-4A89-85DA-FB3EEAE4C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AAE90-428C-4943-AE3E-7938D55B0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9F83B-1424-4F65-960D-6CA64F326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C475E-0F30-4C52-B4B7-DB07406D6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36C4D-2603-4DB1-AA3F-1C9786416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0E610-DD5B-4956-A424-27CB23A85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2272A-158A-40FD-90EC-20D48B329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11242-8C12-427C-8BF2-051CFDA30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E3724-A4D2-4070-8DFE-B885C701F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4753A-D8FB-4F3F-8C8F-96BFF4E462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06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p:transition spd="med">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stretch/>
        </p:blipFill>
        <p:spPr>
          <a:xfrm>
            <a:off x="5148360" y="1484280"/>
            <a:ext cx="1439640" cy="1440000"/>
          </a:xfrm>
          <a:prstGeom prst="rect">
            <a:avLst/>
          </a:prstGeom>
          <a:ln w="9360">
            <a:solidFill>
              <a:srgbClr val="969696"/>
            </a:solidFill>
            <a:miter/>
          </a:ln>
        </p:spPr>
      </p:pic>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13a3</cp:lastModifiedBy>
  <dcterms:modified xsi:type="dcterms:W3CDTF">2012-06-19T11:00:04Z</dcterms:modified>
  <cp:revision>43</cp:revision>
  <dc:subject/>
  <dc:title>SALARIUL</dc:title>
</cp:coreProperties>
</file>