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FDD7-265C-4BD5-AB7E-C0C471C8A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754B-5BE2-4950-8413-97EB0C4AE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55F2-ECE7-4BD0-8B2B-4A41EDC4F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DD7C-A102-46B8-ACA1-8764EA191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7E1F-CFEE-4A07-BCA4-7C838FC91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8FD3-179B-4972-8FE0-DC9DCB1BC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A671-1B26-42C3-8315-61A3931B4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79B3-5EF1-4C73-9E53-AA01C8D8F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9B17-9C70-401B-B785-9D09068AB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BAB1-C176-4E3D-AEC3-06AF144E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F554-E769-4E3A-A008-C080A505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9700-90CF-436F-87B2-F5344078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E9935-73F4-44F9-88C8-90C5EA6268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METODA BACKTRACKING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Informatică, clasa a X-a,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 Livia Ţoca, Andreea-Ruxanda Demco, Cristian Opincaru, Adrian Sindi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214200" y="57240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 multe ori, în aplicaţii apar probleme în care se cere găsirea unor soluţii de forma x=x1x2…xn, unde xi</a:t>
            </a:r>
            <a:r>
              <a:rPr b="0" lang="ro-RO" sz="1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i, i=1,…,n, în care x1...xn trebuie să îndeplinească anumite condiţii. Am putea să generăm toate combinaţiile posibile de valori şi apoi să le alegem doar pe cele convenabi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siderând mulţimile Ai={ai,1, ai,2,…,ai,n(i)}, aceste combinaţii s-ar putea construi astfel: pentru fiecare valoare posibilă fixată pentru componenta xi, vom alege toate valorile posibi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ntru componenta x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1 şi pentru fiecare astfel de valoare fixată pentru x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1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vom alege toate valorile posibile pentru componenta x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zolvând problema în acest mod, deci generând toate elementele produsului cartezian A1xA2x..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n şi verificând abia apoi dacă fiecare combinaţie este o soluţie, eficienţa este scăzut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tfel, dacă de exemplu ne propunem să generăm toate cuvintele formate cu literele a, b, c, aşa încât fiecare literă să apară o singură dată, combinaţiile posibile sunt în număr de 27, dintre care convin doar 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hnica Backtracking propune generarea soluţiei prin completarea vectorului x în ordinea x1x2...xn şi are la bază un principiu „de bun simţ”: dacă se constată că având o combinaţie parţială de forma v1v2...vk-1 (unde v1, ..., vk-1 sunt valori deja fixate), dacă alegem pentru xk o valoare vk şi combinaţia rezultată nu ne permite să ajungem la o soluţie, se renunţă la această valoare şi se încearcă o alta (dintre cele netestate în această etapă). Într-adevăr, oricum am alege celelalte valori, dacă una nu corespunde nu putem avea o soluţie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539640" y="26028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1"/>
          <a:stretch/>
        </p:blipFill>
        <p:spPr>
          <a:xfrm>
            <a:off x="5364000" y="1773360"/>
            <a:ext cx="1440000" cy="14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erciţii şi problem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acă pentru nivelul k oarecare al vectorului soluţie am verificat toate valorile posibi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goritmul se închei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 revine pe nivelul anterio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 trece pe nivelul urmă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upă ce s-a găsit o valoare convenabilă pentru componenta k, următorul pas est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 trece la componenta următoare, 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1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(dacă nu s-a ajuns la soluţie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 rămâne la componenta k, căutând în continuare o altă valoare convenabil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 revine la componenta k-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diţii se revine la componenta anterioar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upă ce am găsit o valoare convenabilă pentru componenta k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acă valoarea testată pentru componenta k nu convin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acă am testat toate valorile posibile pentru componenta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539640" y="260280"/>
            <a:ext cx="78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s11a3</cp:lastModifiedBy>
  <dcterms:modified xsi:type="dcterms:W3CDTF">2012-06-19T10:46:54Z</dcterms:modified>
  <cp:revision>32</cp:revision>
  <dc:subject/>
  <dc:title>SALARIUL</dc:title>
</cp:coreProperties>
</file>