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16C13-B676-432F-B19A-CE074E1E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598A4-37BD-4DF4-878E-F7A6DE74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F5D0E-E86B-4E02-83B4-15AC521DB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5D0F1-58FA-4FFC-9E0B-C4CFB32D6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61674-A8B2-4E43-8F9E-4B7F420C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33D6-D70E-43CC-AB58-8E55CED4C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5D99-5D09-4CE3-BDF5-37FC2DB3A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CBC27-495A-4BFB-B851-01581566C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FE03C-CE6A-4EC1-B783-4448CE2A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97EB-0049-40A2-A91C-E37D1CE96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E121-3C4E-47E5-A7A8-BFE5AC50D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A750-6180-4AB6-8B3E-565814B33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7BC0-17F0-4B95-84EE-2AC79C8EFC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7"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8" name="Picture 5" descr=""/>
          <p:cNvPicPr/>
          <p:nvPr/>
        </p:nvPicPr>
        <p:blipFill>
          <a:blip r:embed="rId1">
            <a:grayscl/>
          </a:blip>
          <a:stretch/>
        </p:blipFill>
        <p:spPr>
          <a:xfrm>
            <a:off x="5105520" y="160020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50"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3: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