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E413-FA23-425F-BC64-78343316C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BF23-508E-4BB0-AF7D-845E68AF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A5F6-C845-42D5-9178-04C6B22FD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C9EA-D520-40F1-9385-377EB3A82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DE48-60DC-486C-B650-2FDE831B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62A1-D4DE-4D89-B6FC-758E7F0B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43E4-57C3-43C7-86FB-77BBB8B0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90F5-FBF1-4446-8498-28AA641B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5DDE-7397-4278-B865-16979DB1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F58B-568F-4E4A-A26A-04CBD04C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8582-D1A5-4AF3-BA70-29B60D47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C59C-3EFB-4BF3-9CDE-024CC404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0FD1-D8F6-4A09-B7A3-695CDBDDF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O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ZIŢII COMP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41911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ogică şi argumen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, Maria Dorina Stoic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8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33520" y="914400"/>
            <a:ext cx="449568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mba  naturală conţine expresii lingvistice care nu pot fi formaliza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...], în cadrul unei logici a termenilor şi prin intermediul propoziţiilor categorice. O expresie propoziţională precum: - Dacă este prea frig, nu voi merge la plimbare - nu poate fi abordată ca o propoziţie categorică, în acest sens fiind creată o altă logică numită fie „logică propoziţională”, fie „logica propoziţiilor compuse”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ele de „propoziţie compusă”, provine de la faptul că în structura unei propoziţii compuse se pot pune în evidenţă cel puţin o propoziţie simplă şi cel puţin o constantă logică. [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oziţiile compuse se obţin aplicând anumite operaţii logice la propoziţiile simple, iar mai precis este vorba de a aplica aceste operaţii la valoarea de adevăr a propoziţiilor simple.  De aceea, propoziţiile compuse sunt tratate ca funcţii de adevăr, respectiv valoarea de adevăr a unei propoziţii compuse depinde de valoarea de adevăr a propoziţiilor simple. [...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limbile naturale, mecanismul negării este neuniform, respectiv modul de construire a negaţiei unei propoziţii este în funcţie de forma logico-lingvistică pe care propoziţia o are dej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tfel, propoziţia negativă „Nu p” este echivalentă, în esenţă, cu „Nu este adevărat că p”, dar, în anumite contexte, diferenţa dintre cele două moduri de exprimare este evidentă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dacă din punct de vedere gramatical se spune despre conjuncţie că leagă părţi de propoziţie, din punct de vedere logic este vorba de legarea a două propoziţii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 toate acestea, conjuncţia gramaticală „şi” nu îndeplineşte întotdeauna rolul unei conjuncţii logice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comp_i"/>
          <p:cNvPicPr/>
          <p:nvPr/>
        </p:nvPicPr>
        <p:blipFill>
          <a:blip r:embed="rId1"/>
          <a:stretch/>
        </p:blipFill>
        <p:spPr>
          <a:xfrm>
            <a:off x="5791320" y="1981080"/>
            <a:ext cx="26762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33520" y="1295280"/>
            <a:ext cx="76197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rietăţile principalilor operatori propoziţional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eg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terţului exclu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noncontradi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egea dublei negaţ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junc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dempotenţ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ger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utativitat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ociativitatea conjuncţie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zitivitate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poziţi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conjuncţi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disjuncţ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</cp:lastModifiedBy>
  <dcterms:modified xsi:type="dcterms:W3CDTF">2012-06-15T12:32:5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