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48B69-E9F3-44AE-B394-CD79B5650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5EFAD-1D8B-47FC-B4ED-FA645A752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42E608-6AC2-4B81-8F6B-DC182B82BB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2383A-BCDF-4A6A-A892-580787E317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3762C-4957-4556-9239-0935617CD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A22DA-F26E-412C-85C8-3A92E96D3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69D95-188A-40F4-B4AD-44C570323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16C14-E36F-49F3-9225-CBEF3BABF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89C0D-E89E-47A7-8B22-4188F5D30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BAA53-35E2-4B94-AA92-95BB805F5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40B71-C654-46BE-86F9-59DE0DD30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0ED4C-5CDA-4DB2-8B5A-8C37FB8ED2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5DB49-4435-418A-89C6-CF4EE32142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981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6" name="Picture 5" descr=""/>
          <p:cNvPicPr/>
          <p:nvPr/>
        </p:nvPicPr>
        <p:blipFill>
          <a:blip r:embed="rId1">
            <a:grayscl/>
          </a:blip>
          <a:stretch/>
        </p:blipFill>
        <p:spPr>
          <a:xfrm>
            <a:off x="4724280" y="1371600"/>
            <a:ext cx="1440000" cy="1440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3s5</cp:lastModifiedBy>
  <dcterms:modified xsi:type="dcterms:W3CDTF">2012-06-19T11:12:18Z</dcterms:modified>
  <cp:revision>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