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C4A33-E3B6-41DA-A6DE-2399D3CF3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75D79-FA4D-4FE1-B5E6-3811DD08A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CD5C7-E0C5-473F-A3B9-8E872FCCF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31021-C9FE-4554-86BF-2353E4B5A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11AF5-DB02-4A0A-AD9B-2696D4A98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95413-9FAC-4567-ADE4-31CE75731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6C5C3-26D6-4DE7-8785-BC3867793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7ACDE-A158-4005-80B5-DF69FA3AA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A22A3-3BF3-4178-8CF9-7AB4D98E6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84DBC-6E08-4394-A24F-5197C9742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C88EC-972C-436D-AD5C-DDCB5C408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3A85A-EF9C-4540-B7FD-E8BAD328B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25F1-2FBB-46CA-BB99-C83501AE49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pic>
        <p:nvPicPr>
          <p:cNvPr id="45" name="Picture 8" descr="comp_i"/>
          <p:cNvPicPr/>
          <p:nvPr/>
        </p:nvPicPr>
        <p:blipFill>
          <a:blip r:embed="rId1"/>
          <a:stretch/>
        </p:blipFill>
        <p:spPr>
          <a:xfrm>
            <a:off x="152280" y="3124080"/>
            <a:ext cx="3067200" cy="3067200"/>
          </a:xfrm>
          <a:prstGeom prst="rect">
            <a:avLst/>
          </a:prstGeom>
          <a:ln w="0">
            <a:noFill/>
          </a:ln>
        </p:spPr>
      </p:pic>
    </p:spTree>
  </p:cSld>
  <p:transition spd="slow" advTm="5000">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transition spd="slow" advTm="5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50"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transition spd="slow" advTm="5000">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s11b2</cp:lastModifiedBy>
  <dcterms:modified xsi:type="dcterms:W3CDTF">2012-06-18T11:00:37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