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74ED6-2E3A-4C0F-9FCA-4CC3027AA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C1E5E-8970-4936-B3EF-CF9B9970A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44027-D021-4301-878A-B91392A91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D2587-FAA5-4400-B92B-A284AF6B8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EA26D-BA5C-41E1-B136-877260F2E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2DB7F-39A6-425E-86F1-148C99974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E798E-CE7E-4B59-B1AE-54FA170E4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AEE15-1DDE-486C-AE76-165223FFA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BBE40-FF15-4EDA-B616-13B9EC6C4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41EE5-2940-49F5-8DBF-9039D2E42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967A8-B5F0-4F76-9544-81E4F5B17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2C84F-6F6B-4B0A-AE33-F151D0418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DA90-FA5E-415E-BD51-B8F1764A9C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590920" y="1143000"/>
            <a:ext cx="3781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esiunea iunie-iuli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9</cp:lastModifiedBy>
  <dcterms:modified xsi:type="dcterms:W3CDTF">2012-06-18T11:04:20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