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861-1AA5-41E7-BDF4-ABA3D27B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121-35B8-4781-9863-514AB5BC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CD4-E4B9-484A-9C39-4E5D5CBD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76D-3179-4409-B187-614B8154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D88-D8FA-4A3B-B54B-09975861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197-86CA-4F33-A166-C139224F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5F9-3E35-41DD-87C2-A9AB234F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812-BAC5-492B-A478-BE6CE0CC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34A-BE01-43E5-A0C0-8C6FCFD7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0A3-871E-4AA0-841B-73BC817B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B8F-7B25-4686-99F4-C936AD7F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710-4230-4AAF-8C4E-0F1DEA38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7007-9ED0-4BBD-A181-79CA7589B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spberry" TargetMode="External"/><Relationship Id="rId2" Type="http://schemas.openxmlformats.org/officeDocument/2006/relationships/hyperlink" Target="http://en.wikipedia.org/wiki/Rubus" TargetMode="External"/><Relationship Id="rId3" Type="http://schemas.openxmlformats.org/officeDocument/2006/relationships/hyperlink" Target="http://en.wikipedia.org/wiki/Europe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ed 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; occasionally as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uropean 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rambois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or simply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is a red-fruited species of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b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native to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urop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and northern Asia and commonly cultivated in other temperate regions.[1][2] A closely related plant in North America, sometimes regarded as the variety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var.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trigos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is more commonly treated as a distinct species,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strigos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(American Red Raspberry), as is done here.[3] Red-fruited cultivated raspberries, even in North America, are generally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or horticultural derivatives of hybrids of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.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. strigosus;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these plants are all addressed in the present art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20:50Z</dcterms:created>
  <dc:creator>Elev</dc:creator>
  <dc:description/>
  <dc:language>en-US</dc:language>
  <cp:lastModifiedBy>Elev</cp:lastModifiedBy>
  <dcterms:modified xsi:type="dcterms:W3CDTF">2012-06-18T10:3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