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740-08D7-4EB4-8497-FE1CA928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908-E21F-40E0-AA1F-6559D3C1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BE7-24B5-4234-802C-C64CB3F7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C17-7761-41C5-8DD8-4DA3C7F9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4BB3-1DC1-4A3B-AEEE-EE9DEA0C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D73F-6B31-4960-B01A-DB43884C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D43C-2646-4444-A985-6BE99680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3EE8-97BA-4367-B0E9-F14D08F2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A6B6-4B12-4CEA-869B-51C89A88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EB6A-D31A-46DD-ABB0-B071A4D0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2FBD-D2C9-4E14-9E47-35F07AB3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B42-751C-48E9-9C2D-5D03D664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4B60-F4B8-4314-A413-04C62818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DCD0-BD84-4400-9C04-7158E7F5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ED1A-BF7B-47EF-9F58-C108B105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E7B9-314B-4730-B962-30C5ACCD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D92E-9044-43B5-81CF-81C48427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6DB-3462-4892-8BAE-D911C008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D4A-76B6-4FC7-84A4-15006498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408-C24F-4ECB-9F40-CFAF42EC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35F-D357-4C38-B615-52D85C67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5E9-3F87-4FA3-B0AE-5F111ACB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D2D-199E-479B-A701-B609EF54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4F8-04E8-4706-9C4E-9DABCD5C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92D0-EA81-43AE-AAB1-4976C9BFBC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81E0-7031-4E52-9A48-37D5BFC246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0033"/>
                </a:solidFill>
                <a:latin typeface="Times New Roman"/>
              </a:rPr>
              <a:t>ALTE ROMANE  REALISTE INTERBELICE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68240" y="4037040"/>
            <a:ext cx="60469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330033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330033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33003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33003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57200" y="2857680"/>
            <a:ext cx="64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TE ROMANE  REALISTE INTERBEL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7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330033"/>
                </a:solidFill>
                <a:latin typeface="Times New Roman"/>
              </a:rPr>
              <a:t>Examenul de bacalaureat 201</a:t>
            </a:r>
            <a:r>
              <a:rPr b="0" lang="en-US" sz="900" spc="-1" strike="noStrike">
                <a:solidFill>
                  <a:srgbClr val="330033"/>
                </a:solidFill>
                <a:latin typeface="Times New Roman"/>
              </a:rPr>
              <a:t>2</a:t>
            </a:r>
            <a:br>
              <a:rPr sz="900"/>
            </a:br>
            <a:r>
              <a:rPr b="0" lang="ro-RO" sz="900" spc="-1" strike="noStrike">
                <a:solidFill>
                  <a:srgbClr val="330033"/>
                </a:solidFill>
                <a:latin typeface="Times New Roman"/>
              </a:rPr>
              <a:t>Proba de evaluare a competenţelor digitale</a:t>
            </a:r>
            <a:r>
              <a:rPr b="0" lang="en-US" sz="900" spc="-1" strike="noStrike">
                <a:solidFill>
                  <a:srgbClr val="330033"/>
                </a:solidFill>
                <a:latin typeface="Times New Roman"/>
              </a:rPr>
              <a:t> – document de lucru</a:t>
            </a:r>
            <a:endParaRPr b="0" lang="en-US" sz="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1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4</cp:lastModifiedBy>
  <dcterms:modified xsi:type="dcterms:W3CDTF">2012-06-18T11:04:35Z</dcterms:modified>
  <cp:revision>2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