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94C6A-99AA-4C50-80A4-0F8D10543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304F7-612E-4095-BF0F-25EB0880E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EAF82-FEDE-416E-B997-06317E714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4306E-19FD-4ACE-85DA-BA6C4C343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3957B-E171-45EE-A7F4-08D9CDF90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49831-31D1-4CD9-9352-3361B55D1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90706-514B-4E2D-BADE-603075839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DDE30-F400-4134-8AD7-A21E3E168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653C6-4B80-4594-9C77-0CCD6918C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D9CFD-06EA-455D-B2E1-AEFAE197A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4E046-9E31-4107-8586-7A18F6B88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724F8-5342-4F25-9E49-C22EC7D8A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600A-5A6D-426A-B441-CCEAF31EF9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1828800" y="3143160"/>
            <a:ext cx="6400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Adaptat după Manualul de Fizică, clasa a IX-a, Mircea Nistor,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2f"/>
            </a:gs>
            <a:gs pos="100000">
              <a:srgbClr val="ccff66"/>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8" name="Content Placeholder 5" descr="comp_i.jpg"/>
          <p:cNvPicPr/>
          <p:nvPr/>
        </p:nvPicPr>
        <p:blipFill>
          <a:blip r:embed="rId1"/>
          <a:stretch/>
        </p:blipFill>
        <p:spPr>
          <a:xfrm>
            <a:off x="5334120" y="1828800"/>
            <a:ext cx="2523960" cy="2523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Elev</cp:lastModifiedBy>
  <dcterms:modified xsi:type="dcterms:W3CDTF">2012-06-18T11:09:06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