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0C6-537F-4F2E-A618-BAD207C4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BF9-836A-4E0B-A4FA-355C6AD8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DEC-71EB-48AA-BA70-68853D5E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17B-C222-4FC9-8CB9-27A5372C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BE14-A780-41A0-ADA9-FD3C8D9B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8773-A580-4F4F-841D-13E754B1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A602-38AE-45AE-B82B-E5213C1B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B8F4-9C1E-4BEA-9FD1-363D0EF8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5DC1-89F1-4643-ADE0-57B41F62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36BE-6B4D-46E9-8ABD-FCFC5BBE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1FA7-87C2-404B-927D-9CC65A98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C1B-5E88-4A27-9B38-4AF70033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080B-D7E3-442E-8F31-FCF98080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78C6-DDBC-44EC-AA3E-5D1CF1A9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4C7E-A975-4C70-82D3-CA829372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AF4C-6C0E-4EC2-95F9-50F34B41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9B46-C79A-4562-86DE-1CDBB0BC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B01-BB34-4EA5-967D-DE3ECF5C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34B-A1C8-49B4-AE86-D0DF844A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D53-0C48-452A-82FB-84753B4E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C85-E2E7-433E-B2DD-3AC13FA7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A87-7F0E-4C1A-831B-295F73C5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B02-5234-4CFA-A25B-9FCEEE85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BCD-9F0E-4BA6-9A39-B0222DE7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F245-B2F9-44EB-A886-D49A78A72D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1874-6B96-4315-AE5D-C49F2E5C54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b7"/>
                </a:solidFill>
                <a:latin typeface="Allegro BT"/>
              </a:rPr>
              <a:t>ALTE ROMANE  REALISTE INTERBELICE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43040" y="4162320"/>
            <a:ext cx="6228000" cy="9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b7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b7"/>
                </a:solidFill>
                <a:latin typeface="Arial Black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ffffb7"/>
                </a:solidFill>
                <a:latin typeface="Arial Black"/>
              </a:rPr>
              <a:t>Proba de evaluare a competenţelor digitale</a:t>
            </a:r>
            <a:r>
              <a:rPr b="1" lang="en-US" sz="1000" spc="-1" strike="noStrike">
                <a:solidFill>
                  <a:srgbClr val="ffffb7"/>
                </a:solidFill>
                <a:latin typeface="Arial Black"/>
              </a:rPr>
              <a:t> – document de lucru</a:t>
            </a:r>
            <a:endParaRPr b="1" lang="en-US" sz="1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b7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0</cp:lastModifiedBy>
  <dcterms:modified xsi:type="dcterms:W3CDTF">2012-04-12T08:32:19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