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77C7-BC96-43E7-9F84-8D004995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2B9D-C566-4D91-A79A-86D80AE7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B7A6-41A0-4E3F-AD44-C27C2E94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A691-E5E1-43F1-B51B-10C0A194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93FD-7549-4049-9DC6-216B0D2A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2650-B65B-4C35-97BD-910D8EB0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D3E0-44CF-4681-BF3C-630E56AD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83B9-8717-4ED5-832C-F9B2B8FE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B578-B75B-42ED-8BDA-C421171A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3BED-F85A-43EC-AE09-50D26713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2E8B-10D2-459B-929C-9897AFA4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9E48-BCDE-4ADE-AD7E-52709C19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CD9E-DB17-45A5-82AE-C10144F4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742B-C2C0-42CF-98B4-CDD3106D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EB91-4D41-44A2-9FE8-A8346361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E029-52B4-4265-8398-B9D0601C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1AE2-2849-43B6-806A-DA836615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25D6-5273-4BC2-951A-B880E4C6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2F09-9B8E-4E88-984C-EF8BB0E7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128C-D77E-4508-AD61-4AEA2EEE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3ED8-1C38-486B-87DC-381D7433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0691-65EF-4112-843C-1CBB064B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B181-5DFE-4658-A9E0-FC610717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0106-77EB-4612-ACEB-1BAC47F3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965F-6209-4018-A8CB-F58E373AB8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F2FB-6908-416B-B9BE-7FDF24202C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ecff"/>
                </a:solidFill>
                <a:latin typeface="Arial"/>
              </a:rPr>
              <a:t>VIAŢA SPIRITUALĂ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52280" y="228600"/>
            <a:ext cx="838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ffffff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ffffff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15238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3s14</cp:lastModifiedBy>
  <dcterms:modified xsi:type="dcterms:W3CDTF">2012-06-19T10:45:02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