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AFFE-D34D-48AC-BF63-CB4FCFAE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5E62-B83A-4B69-94DA-CA810509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8A6A-B032-419D-AAD3-E99F47F5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E62F-CD6B-4822-B0EF-E449DB2F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BFA-3CBA-4186-915B-F19D26D2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ED61-40FA-40E2-AD1A-92DBD3F5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150F-AD45-4B5F-8DEB-1119C383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AF9-C076-4ED2-8963-FE37E97A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0DBC-5DAC-4446-90D8-0333E1E2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F8C7-3D67-47BB-8E3B-DFE999A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53D-DEAC-45E5-991A-93A35382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C028-1BBC-48A0-A0DB-34DA03F2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40A7-99E3-4439-8B33-26676ED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8651-72B7-4168-A53C-E7D6139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C0F5-2C17-4073-8569-171E99E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4BE8-D06D-4E8C-BD03-AF77183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88D8-248C-4854-8F6E-A1784C7D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3AD5-13B6-4722-A530-E58C95BC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9B10-4AAD-43DA-8A97-EAE00DF6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EFA2-0C7A-44FD-82E8-54BA90C4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606F-5281-4BCD-B93E-FF2A652A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B6CC-5EE8-41BD-96BA-A3D446B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C2A2-F2BC-4DE3-858B-3C5D6B4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C077-25C0-4F3F-82FF-D899C529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D102-38B7-48A1-86F8-AB87D1489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B065-1D80-47DF-819C-50934F0311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fdef6"/>
                </a:solidFill>
                <a:latin typeface="Arial"/>
              </a:rPr>
              <a:t>APARIŢIA ŞI RĂSPÂNDIREA CREŞTINISMULUI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90720" y="3890520"/>
            <a:ext cx="678168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rcRect l="0" t="53063" r="0" b="0"/>
          <a:stretch/>
        </p:blipFill>
        <p:spPr>
          <a:xfrm>
            <a:off x="5181480" y="3368520"/>
            <a:ext cx="1435320" cy="67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ica</cp:lastModifiedBy>
  <dcterms:modified xsi:type="dcterms:W3CDTF">2012-06-19T10:59:5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