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91B-0A98-4B50-81D9-96AEC0B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1BC-AE61-4229-835D-1B787F9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889-B8B1-40F1-863B-A59E7745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9F0-91A9-4C6C-B058-66089254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0C0-D62D-4603-81A8-67C7442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B2F-6A88-4062-B591-3D3F8D16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6FD-F25F-4A7A-AD55-EE1A283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0B1-CC2A-4602-9EC0-08B375A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D76-A909-45EE-9046-34FD406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04E-484F-4D29-A22B-4EA4C63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618-9A7A-48FD-9BE9-14F33652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F32-2D91-47F2-AB1B-3176C2E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29BB-77E6-4DA6-AF35-D3AED18F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editare) şi memorat într-un fişier sursă cu extensia pas pentru limbajul Pascal (exemplu: program1.cpp) sau extensia cpp pentru limbajul C/C++ (exemplu: program1.cpp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compilator prin compilare. Compilatorul realizează și verificarea sintactică a programului, semnalând erorile detect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rectarea erorilor se face prin editare, de la tastatură, fiind urmată de o nouă compilare. Când textul programului nu mai conţine nicio eroare, compilatorul generează un fişier obiect cu extensia obj (exemplu: program1.obj). Fişierul obiect este executat prin comanda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mediile de program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 fişier text este format dintr-o succesiune de caractere ASCII scrise pe una sau mai multe linii (rânduri), pe memorie externă (disc). Sfârşitul fişierului este marcat de o etichetă specială: EOF (End Of File). Prelucrarea unui fişier se face prin mai multe operaţii: deschidere (pentru citire sau scriere), citire, scriere, închide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n+m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A din primele n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B din următoarele m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x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R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A și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1,n2, respectiv n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6:24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