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FA9-9827-48F8-8B2F-1CD20CCC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283-F17E-4BC5-9141-23FF8BFD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4FD-B6BB-445A-834F-3BA8BF64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3E1-0AE8-4905-BBD1-B4DED80A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F02-BFD1-487C-9827-279A2B46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4FB-7D57-437B-ACC2-05927A90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581-26B4-4721-9F5E-E3E7A2ED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417-E644-4B08-9A9C-99174CFE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709-6A95-44FB-9D8E-F5D507B4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3E6-9386-46BC-8555-C85D588D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338-0675-42DC-A3E4-D2E63EAD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496-40F3-4694-9FA2-72696076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FF61-D8D0-477B-9ABD-345C852BC043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CONSTITUIREA STATELOR MEDIEVALE ÎN SPAȚIUL ROMÂNES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5840"/>
            <a:ext cx="7286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125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cesul european de constituire a statelor medievale s-a înregistrat şi în spaţiul românesc. Au existat premise interne şi exte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interne au fost diverse: creşterea demografică, determinată de dărnicia pământului, resursele solului şi subsolului, configuraţia reliefului, care au asigurat protecţia românilor în vremuri de restrişte; dezvoltarea economică (agricultura, meşteşugurile, creşterea vitelor, comerţul, circulaţia monetară); evoluţia politico-socială, care a condus la procesul de feudalizare, realizându-se trecerea de la uniunile de obşti (romanii populare) la constituirea primelor formaţiuni politice numite cnezate şi voievodate, conduse de cneji, respectiv voievozi. Aceştia aveau atribuţii militare, politice, judecătoreşti şi administrative.[…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 particularitate o reprezintă contribuţia românilor din Transilvania la geneza statelor extracarpatice (Ţara Românească şi Moldova) reflectată în tradiţia descălecatulu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externe au stimulat procesul de constituire a statelor medievale. Astfel, prezenţa cumanilor (aceştia au organizat în secolele XI-XIII un stat în câmpia nord-dunăreană) şi a tătarilor (Hanatul Hoardei de Aur în nordul Mării Negre) a creat un echilibru de forţe care a împiedicat Regatul Ungaria, Imperiul Bizantin şi statele ruse Kiev şi Halici să-şi extindă dominaţia asupra spaţiului românes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asemenea, un fapt notabil l-a reprezentat criza internă din Regatul Ungariei, determinată de luptele pentru tron apărute în urma stingerii dinastiei arpadiene, în anul 1301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denush.jpg"/>
          <p:cNvPicPr/>
          <p:nvPr/>
        </p:nvPicPr>
        <p:blipFill>
          <a:blip r:embed="rId1"/>
          <a:stretch/>
        </p:blipFill>
        <p:spPr>
          <a:xfrm>
            <a:off x="5435640" y="227664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iploma ioaniţilor este atestată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2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4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Formaţiunile politice din Dobrogea sunt unificate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l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sarab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săvârşirea unificării Moldovei aparţine voievodulu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rago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etru Muș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Ordonaţi cronolog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upta de la Pos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descălecatul” lui Negru Vod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obrotic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NEE</dc:creator>
  <dc:description/>
  <dc:language>en-US</dc:language>
  <cp:lastModifiedBy>Guest</cp:lastModifiedBy>
  <dcterms:modified xsi:type="dcterms:W3CDTF">2012-03-08T12:46:19Z</dcterms:modified>
  <cp:revision>2</cp:revision>
  <dc:subject>CNEE</dc:subject>
  <dc:title>CNEE</dc:title>
</cp:coreProperties>
</file>