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DF11-786D-4542-89BF-0B416DB6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1E5-E03F-43CE-9206-A3263E88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EBB-BFF3-4293-9E8A-A2C1A0F6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954-39D6-40D5-90BD-702A9E0B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414-B798-4C29-B9DC-17908C9C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590E-DFB5-497C-ADB4-996CE9B7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911-D7A6-4E35-B157-490ABD92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F994-3A0A-4619-8D0A-0C0969AB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DEA-0D9E-478A-B54E-27B944CB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255-663B-4299-8445-B6177351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584E-8B28-480D-999E-329F7365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297-9335-4CA2-9C35-B3A1900E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0038-5302-46B7-8DCB-962B8B3E4BD7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FRUMOSU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stetică, clasa a XII-a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Adrian Iorgulescu, Doina Pungă, Gheorghe Stroi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Categorie fundamentală a esteticii, frumosul reflectă însu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ir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i propriet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le naturii, vi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 socia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le cr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lor umane capabile să trezească în personalitatea valorificatoare stări de satisfa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, em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bucurie estetică, precum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ptitudin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înzestrările specifice ale fi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i ome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 generatoare a sentimentelor de plăce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dmir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. Frumosul oglindeşte deopotrivă ordinea lumii exterioare, obiective şi armonia trăirilor interioare, subiective, sociabilitatea şi individualitatea omului, îmbinând planul senzorialităţii afective cu cel al raţionalităţii lucide în efortul de a obţine o imagine globală unitară asupra condiţiei uman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 plan european, primele reflecţii asupra frumosului s-au ivit în orizontul spiritual elen. Întrebându-se „ce e frumos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”, Platon îl aprecia ca pe un lucru folositor, potrivit scopului său, făcut cu meşteşug şi care produce o plăcere recepţionată cu ajutorul văzului şi auzulu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el, ca şi pentru mulţi alţii, nu toate plăcerile sunt estetice, ci numai acelea care ţin de simţurile superioare, singurele apte să asigure o stare agreabilă, de desfătare spiritual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 trebuie să năzuieşti către orice plăcere, spunea Democrit, ci numai către plăcerea pentru ceea ce este frumo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şi de natură ideală, abstractă, plasat ca arhetip universal în zonele ideii pure, frumosul, afirma Platon, are strânse contacte cu binele, „identificându-se pretutindeni cu măsura şi proporţia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natural, asigurat de existenţa elementelor primordia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an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m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e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uman, constituit di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corpului omenesc, alcătuită în principal din elemente naturale, native, dar şi dintr-o îndelungată şlefuire civilizatoar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sufletească, rezultat aproape integral al eforturilor de înnobilare uman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etică a vastelor relaţii dintre oamen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ambientală a locului şi rezultatele muncii omeneşt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artistic. Existenţa sa este asigurată […] 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urile reflectării frumuseţii din realitate;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ăţile demiurgice ale omului de artă care, pornind de la lumea reală, făureşte o realitate nouă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LiviaT</cp:lastModifiedBy>
  <dcterms:modified xsi:type="dcterms:W3CDTF">2012-03-14T12:49:49Z</dcterms:modified>
  <cp:revision>37</cp:revision>
  <dc:subject/>
  <dc:title>SALARIUL</dc:title>
</cp:coreProperties>
</file>