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08EB-C72D-49FA-BCAE-32B0B81CF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3DA7-B614-418E-BC77-DA3018B67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A0AA-1431-45AE-96FF-28E31FD6B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3144-C6F9-4FEF-969F-8F46A69A3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8A16-DA26-4123-850A-AEFF332E7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CA07-358B-4FE5-B733-CA941DF20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64A2-C449-432B-A3EB-B92C94646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8564-D39B-41BB-B465-00C0CA64B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3F3C-73E3-47DE-BE27-57174E603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9365-4D85-4665-8F3A-18B366D13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BCC8-50EE-4082-BA62-2CD1A3F2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3818-8B26-4749-AC46-25D796BA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6B50F-7B33-4FBF-8EB4-725B678347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ASIA DE SU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ŞI OCEANUL INDI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9621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Manualul de Geografie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clasa a VII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-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, Silviu Neguţ, Gabriela Aposto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2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5720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ia de Sud se află în partea meridională a continentului. Are în egală măsură limite marine, în sud, unde este scăldată de apele Oceanului Indian, şi terestre, în rest, fiind mărginită de alte regiuni asiatice. Cuprinde o parte continentală, o mare peninsulă (Peninsula Indiană), o insulă mai întinsă (Ceylon) şi câteva arhipeleaguri (Maldive, Andaman, Nicobare)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ansambl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Asia de Sud este o regiune de platouri şi munţi înalţi. Platouri există îndeosebi în partea sudică [...]. În schimb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munţii se desfăşoară în partea nordică, unde formează cel mai înalt şi mai masiv lanţ muntos de pe glob: Hindu Kush – Karakorum – Himalaya. În acest lanţ muntos sunt concentrate toate cele opt vârfuri de peste 800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 de pe glob, inclusiv cel mai înalt pisc: Chomolungma, cu 884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acestă regiune există şi câmpii, fără să egalez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însă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dimensiunile platourilor şi ale munţilor. Face excepţie Câmpia Indo–Gangetică, una dintre cele mai întinse de pe glob: se desfăşoară pe circa 2000 km lungime şi pe câteva sute de kilometri lăţime. Este o câmpie joasă şi fertilă, udată de fluviile Indus, Gange şi Brahmaputra, care sunt cele mai mari din regiu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ia de Sud este una dintre cele mai populate regiuni ale continentului ş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totodată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de pe întreaga planetă: concentrează mai mult de o treime din populaţia Asiei. Totuş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în Asia de Su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e întâlnesc mai puţine populaţii decât în alte regiuni ale continentului, între care: indieni, pakistanezi, bengalezi, afghani, nepalezi, singhalezi.[…]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ceanul Indian, cu cei 73,4 milioane km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ai săi, este al treilea ca întindere între oceanele plane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fiind delimitat de patru continente: Africa (în vest), Asia (în nord), Australia (în est) şi Antartica (în sud). Spre deosebire de oceanele Pacific şi Atlantic, se desfăşoară în cea mare parte în emisfera sud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3" descr="comp_i"/>
          <p:cNvPicPr/>
          <p:nvPr/>
        </p:nvPicPr>
        <p:blipFill>
          <a:blip r:embed="rId1"/>
          <a:stretch/>
        </p:blipFill>
        <p:spPr>
          <a:xfrm>
            <a:off x="5257800" y="1905120"/>
            <a:ext cx="3238560" cy="323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2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ăspundeţi la următoarele întrebăr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rmăriţi harta şi tabelul ţărilor din Asia de Sud şi notaţi în caie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ările insular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ările fără ieşire la mar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ara cea mai populat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regiunea Asia de Sud prin trei elemente specifi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ef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rse ale subsolulu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m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nalizaţi harta Oceanului Indian şi numiţ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aralelele importante care-l traverseaz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zonele climatice în care se desfăşoară suprafaţa oceanulu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incipalele insul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anţul muntos submar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Guest</cp:lastModifiedBy>
  <dcterms:modified xsi:type="dcterms:W3CDTF">2012-06-15T12:33:57Z</dcterms:modified>
  <cp:revision>38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