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C893D-CCB2-4B27-A1DA-CC05570FC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03D95-A2B6-4433-B305-829B9FA9D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18EAE-58D3-4F14-ABAA-20259BDA8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48856-F755-424A-A6B7-AFEB63566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55131-59F4-4094-86AA-CBEAA7962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34E08-BF50-449D-A140-5B37E356C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038C4-B31F-4B74-AB56-92295E683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98910-4D5B-4FD7-855A-DF38DE530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3F44C-8108-42C1-9843-2257486F1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677B0-7EC3-44E8-AC54-0AAC3462F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20416-C131-4FCD-935E-16F19E4BF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37F14-0C8D-4D77-953C-19E012A6D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69BA9-F75B-49B0-A0F2-41042172C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76EE9-C262-4610-A656-931E40942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141A6-0341-4ED0-BC2F-AD4532CFC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47F83-031C-4D43-B259-8F6F0FCE1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01DF3-A151-4064-B94B-2ED118CB1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7F7A9-13EB-4C1C-B6BC-8CC828112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465C1-2BC7-4CB2-846A-E54DEF54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6DFF-D98E-4ECE-8952-F94513CB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AFA30-01E7-4AAB-B448-E93B3D900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D72B-9289-4527-A641-CB46AD56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C371-2759-4C9F-8169-144DA4D3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02FBB-52F2-445A-9FC7-E13E7E1BA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6E64-1770-49D1-9703-29DD40CF98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AF8C-38FF-4B0E-AE74-2A0D7E3ADF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UNITATEA ŞI DIVERSITATEA LUMII VII</a:t>
            </a:r>
            <a:endParaRPr b="0" lang="en-US" sz="1400" spc="-1" strike="noStrike">
              <a:solidFill>
                <a:srgbClr val="ffff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lum contrast="-48000"/>
          </a:blip>
          <a:stretch/>
        </p:blipFill>
        <p:spPr>
          <a:xfrm>
            <a:off x="5638680" y="1752480"/>
            <a:ext cx="155916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17</cp:lastModifiedBy>
  <dcterms:modified xsi:type="dcterms:W3CDTF">2012-06-19T11:10:05Z</dcterms:modified>
  <cp:revision>34</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