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710CC-267A-4F02-89B5-95D253CEC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9E646-583A-4303-89B0-9BBDF7981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1C8B1-11C8-4211-863E-8EACB6AE3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B7885-1086-4DB0-9F5C-ADD6003D8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86250-9049-482D-A3F1-3C8AB6869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7CD83-C460-4BF9-B292-CC0721ED5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C3393-48A6-466D-8510-8BBAA77CD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EE1F9-A3F7-44DA-B210-511B6548F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D3806-0716-401F-A15E-614466875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C4974-AC14-40D0-83C0-348B534F6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84329-F38B-4965-A234-3D6F8B593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830F3-D0D8-456B-B735-41AE055FC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9B53-54F5-48D4-B82C-73E8D00D0D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2819520" y="4572000"/>
            <a:ext cx="374328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Sesiunea iunie - iulie</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advTm="5000">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66"/>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
          <p:cNvPicPr/>
          <p:nvPr/>
        </p:nvPicPr>
        <p:blipFill>
          <a:blip r:embed="rId1"/>
          <a:stretch/>
        </p:blipFill>
        <p:spPr>
          <a:xfrm>
            <a:off x="5257800" y="1752480"/>
            <a:ext cx="2943360" cy="3019680"/>
          </a:xfrm>
          <a:prstGeom prst="rect">
            <a:avLst/>
          </a:prstGeom>
          <a:ln w="0">
            <a:noFill/>
          </a:ln>
        </p:spPr>
      </p:pic>
    </p:spTree>
  </p:cSld>
  <p:transition advTm="5000">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p:transition advTm="5000">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s13b2</cp:lastModifiedBy>
  <dcterms:modified xsi:type="dcterms:W3CDTF">2012-06-18T10:57:56Z</dcterms:modified>
  <cp:revision>30</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