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0E89-1C52-4462-8F91-4AB21EA4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7DA-D1DB-48DB-8B06-1A15955B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9202-6DFB-420A-92AE-F99610B7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09B-82D3-439D-85CF-9B4DA8A6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3EE2-C8A1-40B8-B5E1-B31CC54C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401D-E5A3-41BE-AAEF-54B0061F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9FB7-B3C4-4752-AD84-0E3CDB8B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310A-C279-4160-900C-705D23B1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53B0-34A3-4462-907F-B006AA11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7D12-F2D4-47A6-B381-2339AC25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D746-5629-48D1-967D-4F076A0A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483-CBB6-44EB-8165-C3E1CE2F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5B2C-4794-42B6-AB79-65C40F85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DE69-5982-462F-AF7C-90D1D886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4D47-96CD-4C6D-AB0B-D8D36145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382A-36CD-48AB-9576-8EA4F868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83DD-7302-406B-A7F9-7585A264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D88-E840-43CA-ABE7-479A503A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A6F9-1C31-48A9-A9BE-97C10B23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9CC6-EC03-4705-B82B-003233A9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B17-9628-4A76-B969-6E1D505F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CF54-1114-4461-9EB5-658CC998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CBD9-6F92-4773-80E4-1078ED61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1960-0A98-462A-A7E3-EB90F6CF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26F4-7F99-4231-B068-DC2875AA595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7E81-59CF-402C-8667-DC413F0BD6E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ETODA BACKTRACKING</a:t>
            </a:r>
            <a:endParaRPr b="1" lang="en-US" sz="1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5120" y="4059000"/>
            <a:ext cx="586728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64000" y="177336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ws16</cp:lastModifiedBy>
  <dcterms:modified xsi:type="dcterms:W3CDTF">2012-06-19T11:04:52Z</dcterms:modified>
  <cp:revision>32</cp:revision>
  <dc:subject/>
  <dc:title>SALARIUL</dc:title>
</cp:coreProperties>
</file>