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BA483-A25D-4993-8EBD-4E09E8EE9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45F5-D5B7-4478-9423-39B8F665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673A-C995-4E26-83FB-608FFB173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D1200-7DBD-440C-8E77-0CF077A51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F597A-E56E-4AF6-9AA8-3B5BF444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81F3-7F15-4CA2-97AD-47D65E73E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26671-40BF-420D-B681-05201A791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54BA-501B-42FE-980D-222077A4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A2D5F-A391-4DF4-9B1D-3E4A807C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3949-118C-4A91-A0D2-E3E23341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703D-6E61-49E4-B59F-BC46C4CB0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3CE7-07F7-4EE5-B85A-70767FC7B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3115-9C1F-41EF-8769-E040350E8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95640" y="170028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siunea iunie-iul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66"/>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p:transition spd="med"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p:transition spd="med"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8T10:56:26Z</dcterms:modified>
  <cp:revision>47</cp:revision>
  <dc:subject/>
  <dc:title>SALARIUL</dc:title>
</cp:coreProperties>
</file>