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591D-2F9C-45E3-8353-894874077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8A56-2115-4A58-AC5E-5F8161CA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E22A-0C20-4F90-8A64-6E7152FA1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073C-45E0-4263-9CC0-D0B25180C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6A66-8660-4B6F-99EF-5F73A823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8AF9-2E53-440A-9773-C7B0E1D4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5070-EA12-4B8A-907C-1E1E85D1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B1A3-898A-4A9A-BFA7-5AB36233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FBD5-DCE4-4A60-B2E5-19203028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A627-3F40-4FC0-AA4C-DE6468B5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3FCE-470C-489A-A25F-870CA8BE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86C9-0891-46ED-BE70-37863B87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7D6C-BBD4-40DC-BC5D-940D5444D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CREŞTEREA ŞI DEZVOLTAREA ECONOMICĂ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Economie, clasele a X-a şi a XI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Maria Liana Lăcătuş, George-Paul Lăcătuş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267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ar economiile cele mai dinamice, care au promovat progresul tehnic şi au înregistrat creşteri rapide la nivelul capacităţilor de producţie, nu au putut asigura o creştere economică permanent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reşterea economică din anumite perioade de timp a fost urmată de recesiune şi depresiune, cu alte cuvinte, de scăderea nivelului producţiei şi a gradului de ocupare a forţei de muncă, de şomaj și infla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tivitatea economică evoluează ciclic, înregistrând creşteri şi căderi period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tivitatea economică este fluctuantă. Unele fluctuaţii reprezintă variaţii sezoniere ale activităţii desfăşurate, însă altele sunt periodice şi ţin de o evoluţie ciclică a econom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clul economic este intervalul dintre două perioade succesive de creştere economic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ecare ciclu economic are o anumită intensitate şi durată şi se deosebeşte, prin acestea, de celelalte, deşi presupune parcurgerea aceloraşi patru faze. Periodicitatea medie a unui ciclu este de 8-10 ani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comp_i"/>
          <p:cNvPicPr/>
          <p:nvPr/>
        </p:nvPicPr>
        <p:blipFill>
          <a:blip r:embed="rId1"/>
          <a:stretch/>
        </p:blipFill>
        <p:spPr>
          <a:xfrm>
            <a:off x="5181480" y="1752480"/>
            <a:ext cx="337212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omajul este un dezechilibru economic care constă în existenţa unui surplus de ofertă pe piaţa forţei de mun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a totală cuprin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e inap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e aptă, dar care nu este disponibil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orţa de muncă - populaţia ocupa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ome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ipuri de şomaj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cțional (voluntar sau sezoni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ructur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cl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a combate şomajul, statul promovează politici active de ocupare a forţei de muncă, adoptând măsuri prec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prijinirea creării de locuri de muncă pentru şome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ordarea de facilităţi fiscale agenţilor economici care angajează şome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tegrarea şomerilor în programe de recalificare și creştere a gradului de reintegrare a acestor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ordarea de subsidii agenţilor economici care angajează absolvenţ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b3s13</cp:lastModifiedBy>
  <dcterms:modified xsi:type="dcterms:W3CDTF">2012-06-19T11:25:51Z</dcterms:modified>
  <cp:revision>32</cp:revision>
  <dc:subject/>
  <dc:title>CREŞTEREA ŞI DEZVOLTAREA ECONOMIC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