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391C7-CEC0-4F0E-8993-98893FBC7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8674A-968A-4174-B9DA-FA27DDFD7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CA609-7885-4795-9A3C-C89A4025B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A2553-7EBB-422F-A3AE-64185893F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A901D-3557-42AC-BD31-A8424FD84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EBDD1-037C-4753-9C4A-6D93347EF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4B086-27E0-41CF-B832-CBFD060E0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68BFA-2D77-4EBC-A9ED-01CCE914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EE205-18E8-4538-87A5-E88FD30FB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BC4E-2A26-4FCF-9F5A-BAE0199F7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AF3B3-1CD5-4656-8866-C933ABD28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4BB6-823C-47E3-A3B4-DDF871622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3782-3B50-4739-AD6A-6447B51CB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19520" y="1219320"/>
            <a:ext cx="34574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siunea iunie - iulie</a:t>
            </a:r>
            <a:endParaRPr b="0" lang="en-US" sz="24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7a3</cp:lastModifiedBy>
  <dcterms:modified xsi:type="dcterms:W3CDTF">2012-06-10T05:14:4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