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66B-48CD-448C-9167-5AA8AEA2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6C1-9287-414D-A566-4A2DBDD3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701-B671-45A0-BD5F-E2CD5173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1031-5655-4A2E-84D5-0FF85978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E83-E194-4FC8-8293-70161095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5C5-4C2E-4EA6-B290-4538FC2F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514-70AB-4ECF-B8EA-0CF991C3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0B7-9CBC-4453-AF5D-FC71A874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615-1BEC-40B2-B3C8-9EED8995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CC5-7E28-4BBC-8E05-06E21FB9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5BA-6029-412D-8968-D4DD5E32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29C-DB3B-40C0-9179-4B0A5E7F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C70B-DE3A-4F7B-AD59-C3C8E69D7007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Guest</cp:lastModifiedBy>
  <dcterms:modified xsi:type="dcterms:W3CDTF">2012-06-15T12:33:30Z</dcterms:modified>
  <cp:revision>29</cp:revision>
  <dc:subject/>
  <dc:title>SALARIUL</dc:title>
</cp:coreProperties>
</file>