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E90-7731-40B2-8C29-44F49D4D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523-DEBD-4CA9-AF8E-D9B31618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407-5336-4833-82E1-2E84F3BC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01A-5813-41D1-9CB2-64BD68F9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330-9038-4643-8D81-DA91557C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AE5-8158-4BA2-A2BC-3DAE90C3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714-E984-4513-B8C6-193E977F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AA7-AB08-4B5D-9AC8-C5F8ACFB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344-B414-4DC4-A065-5C303E07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B8A-D7F9-40B7-A7E6-4AF7AC1A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118-0028-4B60-BFE6-FE916840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FB0-DF19-4F6D-85C3-4BC39D4F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C9FA-8C7E-4637-A620-AAA3AB4A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8120" y="1828800"/>
            <a:ext cx="2752560" cy="36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-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5a3</cp:lastModifiedBy>
  <dcterms:modified xsi:type="dcterms:W3CDTF">2012-06-12T14:10:07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