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D7D8C-BB23-4FB7-9416-BC1AD9ECA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1A25A-E839-4282-947F-9EF63DB37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E49B4-B5A6-4A9F-A69E-D91E56AA1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FD2CE-B8ED-4A0D-BB67-767DF266E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FF642-E1E8-4328-AEBD-85435B2BF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5A0E2-D6B8-408F-AE41-3CA56B756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9F4DA-2766-42B4-99D0-4DAEC41AA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3A2AE-C9CC-490F-B0CB-7F76C5A61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F4D4B-1DBD-44BC-B906-154099E64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89E25-8EE1-4B9C-80E6-35A1653E9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7E9D3-FBD0-48D5-9BD8-6FDD4C781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BBDB1-95C2-401F-8C0F-D6129DC3C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85E10-7502-4754-B211-C785559D7A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04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1447920" y="9144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1752480" y="3657600"/>
            <a:ext cx="5238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siunea Iunie - Iulie</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comp_i"/>
          <p:cNvPicPr/>
          <p:nvPr/>
        </p:nvPicPr>
        <p:blipFill>
          <a:blip r:embed="rId1"/>
          <a:stretch/>
        </p:blipFill>
        <p:spPr>
          <a:xfrm>
            <a:off x="5715000" y="1600200"/>
            <a:ext cx="3067200" cy="3067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b3s10</cp:lastModifiedBy>
  <dcterms:modified xsi:type="dcterms:W3CDTF">2012-06-18T11:33:48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