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4F76-EE7B-4525-B718-6374F3E92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0621-3CA7-47A5-9469-4DC3422B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F9CA-5453-4D90-A1F2-8F3E5FF85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AF47-4A31-435D-8472-CE5D4E6C7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E093-7EF4-47F3-83A2-8BAB537A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842B-5F95-4011-BDAF-FBA5230C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E569-FFA0-4BD4-9AF5-DD097FCF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8371-E798-4CC3-8B3B-A12797F3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8956-EA5F-4316-84A1-63E2FA42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C397-7DE5-42DB-89DB-112575B4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5327-EB3A-45B1-BE19-B87BD310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159A-70FE-4A11-845D-A5E0E002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EBAD-EE7B-47F3-994C-617BD3CFFF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14480" y="3076560"/>
            <a:ext cx="35150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esiunea iunie-iuli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ent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comp_i"/>
          <p:cNvPicPr/>
          <p:nvPr/>
        </p:nvPicPr>
        <p:blipFill>
          <a:blip r:embed="rId1"/>
          <a:stretch/>
        </p:blipFill>
        <p:spPr>
          <a:xfrm>
            <a:off x="5508720" y="1557360"/>
            <a:ext cx="2676600" cy="2676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Elev</cp:lastModifiedBy>
  <dcterms:modified xsi:type="dcterms:W3CDTF">2012-06-18T11:23:36Z</dcterms:modified>
  <cp:revision>38</cp:revision>
  <dc:subject/>
  <dc:title>SALARIUL</dc:title>
</cp:coreProperties>
</file>