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BD27C-F5A3-49CB-A1EE-2686B7E1B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F80F-B8E3-474E-A8E9-5946105E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64F69-FF09-4AE4-88FC-0CC168FFF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F8255-7D29-4671-9220-402E5ED74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8D22C-C1EE-4502-89C5-2108EDA94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1DF3-DA09-4FF9-8B6B-DAA8F21A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A684-9146-402A-9E76-0331BBFF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374B-6CF1-4486-82CF-AF2E38C5E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956B0-4CC8-4021-BDA0-B933CFC7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223D7-3EF7-43E1-B567-05A5DEB9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E7EA-350C-4E6B-8F71-092F2F64D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AC2A-778C-419D-A41A-4100794AB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CEC3-FFB0-42F1-8837-A50015472F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486240" y="3255840"/>
            <a:ext cx="2171520" cy="344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Sesiunea iunie - iulie</a:t>
            </a:r>
            <a:endParaRPr b="0" lang="en-US" sz="2000" spc="1" strike="noStrike">
              <a:ln w="9360">
                <a:solidFill>
                  <a:srgbClr val="000000"/>
                </a:solidFill>
                <a:miter/>
              </a:ln>
              <a:solidFill>
                <a:srgbClr val="000000"/>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3312"/>
            </a:gs>
            <a:gs pos="100000">
              <a:srgbClr val="ffff00"/>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8</cp:lastModifiedBy>
  <dcterms:modified xsi:type="dcterms:W3CDTF">2005-12-05T03:36:07Z</dcterms:modified>
  <cp:revision>48</cp:revision>
  <dc:subject/>
  <dc:title>SALARIUL</dc:title>
</cp:coreProperties>
</file>