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334-DC9B-4570-844D-6A3C8A87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8B1-8BC9-4FD4-BD0B-192D49C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D92-4076-43CC-8968-F17D5534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B23-51F8-4B0A-9A45-988AD8B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C41-949F-44CE-8342-39094F53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680-45A3-40AF-AF83-5AE066C1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E6E-DD05-4FD6-A048-DD19513B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E04-8B5E-41A7-8336-ADDAB1C6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D8D-913F-49FB-A3C3-4570FC6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E11-435E-41E6-B4DD-432515A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0B0-3CF5-4037-9115-C531CF0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C69-9E50-44EF-92B7-AB3529B5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0A5-8543-48B5-8071-ED584E3697D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41:32Z</dcterms:modified>
  <cp:revision>31</cp:revision>
  <dc:subject/>
  <dc:title>SALARIUL</dc:title>
</cp:coreProperties>
</file>