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066E-724C-4BD8-9B2F-E1941C04F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E053-47D0-449E-9C9A-8DC9244D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2DAA-1CDC-4304-8387-69296467F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C52A-5FEB-49F5-B038-9198C55D8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63E1-394A-4C20-A32D-ABABC74E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1910-BA27-4FCD-AF30-9D6C8709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908B-BF1F-49D5-A039-A4FF5EC1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7B5C-AE88-4362-A85A-9EB869B8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0F18-1300-4FAA-A0B1-8817AC37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FDC8-620D-4561-9106-B8F834C2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DDC6-9529-4135-94A8-A84FAFC0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92B0-B728-45AD-BA22-29CDC2CD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C5F9-B8AF-40D1-80FE-F886B532E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sihologie, clasa a 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nivelul cel mai înalt de prelucrare şi integrare a informaţiei despre lumea externă şi despre noi înşine. Prin ea se realizează saltul calitativ al activităţii de cunoaştere de 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5072040" y="2266920"/>
            <a:ext cx="1434960" cy="143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b3s2</cp:lastModifiedBy>
  <dcterms:modified xsi:type="dcterms:W3CDTF">2012-06-19T11:33:47Z</dcterms:modified>
  <cp:revision>23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