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AEB40-A64A-4A2C-BF40-A49D23FC3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A0DCC-4808-46A8-8CC5-0A8FAD337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D5244-B92D-4DA4-9AFF-739936251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D17DE-4404-4894-94D7-8219C083D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63061-1268-41EA-AF24-D507B049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8D549-0B67-4D4B-8BD5-DAF8FD00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03EED-F107-4F8D-BE31-15669E8E6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23D6-2E57-407E-B77C-C3A8BF3C9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5EC53-E30D-4B15-A1E4-53E33CDA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BBCE-A76C-45E9-B5FF-2FC92886D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B1ABD-5C04-4D59-9B93-B7168577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100F-5497-4862-B1F9-FA73EBC22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E8E7-A71E-400F-BCBF-3FACBE92F6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2:49Z</dcterms:modified>
  <cp:revision>43</cp:revision>
  <dc:subject/>
  <dc:title>SALARIUL</dc:title>
</cp:coreProperties>
</file>