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B154F-E613-45EA-8D10-8252F963E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4236A-79A1-48DD-8001-D36CC31FA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06360-A749-432A-921E-734B88A5C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698FA-804D-4B98-A8F4-2A4EB0CD5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6A5B6-E9FA-425E-B059-6C0E1FA57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AFD92-67CC-4ADB-AE3B-9151D7BDD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F0C73-CAB2-4D10-B76F-B6186ADD2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1736D-8AAD-4E82-9211-A699412A4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2ADF9-CEBB-4969-9F3C-0144E2C87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3A54-B866-430D-9736-A56685D2E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E0DD8-03E0-47C6-B703-3FD13CD60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783CC-7F9B-4E6F-89D3-4B55EB6F6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7B22-BABD-40DF-9319-265D5BC96F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grayscl/>
          </a:blip>
          <a:stretch/>
        </p:blipFill>
        <p:spPr>
          <a:xfrm>
            <a:off x="5148360" y="148428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08-29T10:09:32Z</dcterms:modified>
  <cp:revision>43</cp:revision>
  <dc:subject/>
  <dc:title>SALARIUL</dc:title>
</cp:coreProperties>
</file>