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77B6-395D-4D99-B6D6-680B8120F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99A6-94CB-4001-B1DC-112E9AAE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6E09-802A-4595-937A-D3A2F0B61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86EE-FB71-4676-BBDC-CDE4096E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C00A-5E76-44C0-906C-EB933FCE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ACA0-04D6-4FB6-AC4F-937A831B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4FEE-F57C-430D-8DFB-F0206DEB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C218-45CB-414F-8F5D-F7070767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E543-3015-485A-AABD-E7388BAD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BD1C-9785-42A5-83D2-28BE83EC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D841-243E-44A6-8F0D-181B10ED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C0AB-2BDB-47E1-B2A3-5D94DBDE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F4C2-92C5-4F79-BBEC-9C8C79328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TROL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Manualul de Chim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clasa a X-a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Rodica Constantinescu, Maria-Luiza Popesc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ele cercetări legate de cunoaşterea compoz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iei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ui românesc au fost iniţiate la sfârşitul secolului trecut de către Petru Poni (1841 - 1925) la Iaşi, care a izolat anumiţi termeni ai seriilor de hidrocarburi din pe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 un amestec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lex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de hidrocarburi gazoase şi solide, dizolvate în hidrocarburi lichide. Hidrocarburile frecvent întâlnite în compoziţia petrolului aparţin în general seriei alcanilor, cicloalcanilor (naftene) şi arene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lchenele şi alchinele mai reactive lipsesc din petrol. Pe lângă hidrocarburile menţionate, în petrol mai apar şi compuşi organici cu oxigen, azot sau sulf, în cantităţi foarte mic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lful trebuie îndepărtat în cursul prelucrării petrolului, deoarece prin ardere rezultă dioxid de sulf (un gaz corozi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funcţie de locul zăcământului şi de condiţiile în care acesta s-a format, în compoziţia petrolului pot predomina una sau alta dintre aceste clase de hidrocarbur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5105520" y="167652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p:transition spd="med" advTm="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 lichid vâscos, de culoare brună, cu fluorescenţă verde-albăstruie, cu miros 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ensitatea petrolului este mai mică decât a apei, variind între 0,800 şi 0,930 g/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e insolubil în apă, formând cu aceasta o emuls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 este procesul în care au loc ruperi ale unor legături simple C-C din alcani şi cicloalcani. Cracarea poate fi termică sau catalit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teriile prime folosite la cracarea termică sunt motorina şi păcura, iar produşii rezultaţi sunt alcani şi alchene inferioare, numite gaze de cracare, benzină de cracare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racarea catalitică foloseşte în special motorina ca materie primă. Se obţin gaze de rafinărie, benzină mai bună decât cea obţinută prin cracarea termică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Ştiaţi c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În urma prelucrării complexe a petrolului se obţin circa 300 de prod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etanul este principalul constituent al gazelor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Gazele naturale, care însoţesc în general zăcămintele de petrol, sunt o sursă de materii prime pentru obţinerea de produse: îngrăşăminte, mase plastice, cauciuc cloroprenic, acetilenă, metanol, formaldehidă, solvenţi, hidrogen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s23</cp:lastModifiedBy>
  <dcterms:modified xsi:type="dcterms:W3CDTF">2012-06-19T11:26:25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