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24D-807A-48CA-ACB9-A8481C8F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D78-8824-4EF5-8415-F3B3FB9E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83D-9AA4-42B5-AA71-879D3228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9B5-462E-46C0-9D05-2F373A25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C0D2-C010-413E-933E-72B30298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076E-F66A-43ED-884A-06DA2416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CAD0-D509-402A-8ED9-70DF4C4F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366F-790D-40D3-9201-729D12CE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CD0D-CDCA-4827-8112-1B080691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A9FE-B8BE-4E3F-B185-A48DBD38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8B86-4E37-4FD8-8D46-91DE0426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75F-389D-44E7-B1E4-A62D506E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FA5B-E6B4-406E-BB0C-581E6984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C3E-2522-455B-9A35-D2B66B36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1C50-8FBD-4DE0-A910-504DDA85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B8A9-34ED-4F76-B3BC-C6E8D4CA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1E8A-C341-4A86-9578-6017C969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64D-AD1B-46A0-9CF6-0CB213AF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0E4-8CFC-41D9-9626-CBDD41F0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B83-5B5D-4091-B088-5DFB4E3B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B18-3844-43D6-8FEB-EA82FF75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680-43BE-47F5-B9D1-AB10A0D6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B67-8E09-41B8-BD5F-A2D8CF4A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0F5-08A2-42DA-B923-8AF48131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F58E-42F7-44EB-A75A-D2D27660292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F92A-87D6-42C4-8981-64E32ECC2C7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METODA BACKTRACKING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83960" y="3870360"/>
            <a:ext cx="574524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2f1311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2:17Z</dcterms:modified>
  <cp:revision>32</cp:revision>
  <dc:subject/>
  <dc:title>SALARIUL</dc:title>
</cp:coreProperties>
</file>