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F6E9-9BB7-442B-ACCA-9DD47FA43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DD16-8A29-4EF3-AAFE-3267A6F5F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CAF8-749D-4C01-BB53-9C07639A5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08E7-CB61-4651-B001-7A44353E7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0AC12-6ADE-4375-B6FC-C081DB3F4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D682A-2E2A-4CE2-98E1-25B96BA07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C71E1-7FF1-4547-8F34-E990CB6B6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A3708-AAD3-4975-9B70-994CFC9BD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E3B63-7412-4CF5-A2F0-D0D5D603B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F6717-3FA6-4D01-8DB3-EAFFA9AF5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5FD63-5703-48E4-94E2-F0AF818C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D738-D8F4-4243-AC7B-F8C21B773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D17E6-8EF5-4D9D-BFE1-B42ACC38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F5404-0280-45ED-8B24-827433B2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89B24-244A-47C0-B8E2-59A681494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7F3DA-8349-42B7-BBE3-0284C5E00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15531-978E-49B1-AA3E-E30F8A692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9B22-71F6-44D5-855E-BF17A0BCE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C22D-1089-4B40-89A7-BCF9AF3D2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4C7F-C3AF-45A0-A286-744577CCE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9EB8-CBC6-4974-A40A-FE9A904BD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540E-8E58-4BFB-93C9-2DE914078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85F8-F0F9-4B06-911E-2CDF50AD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FD64-8D7B-4E0A-9205-6D1DEF4B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90EC8-479B-43DE-AA95-896548B793C9}" type="slidenum">
              <a:rPr b="0" lang="ro-RO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58970-F8FE-4B19-886A-FA2CBC2E11B3}" type="slidenum">
              <a:rPr b="0" lang="ro-RO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ccecff"/>
                </a:solidFill>
                <a:latin typeface="Arial"/>
              </a:rPr>
              <a:t>ALTE ROMANE  REALISTE INTERBELICE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ffffff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ro-RO" sz="1000" spc="-1" strike="noStrike">
                <a:solidFill>
                  <a:srgbClr val="ffffff"/>
                </a:solidFill>
                <a:latin typeface="Arial"/>
              </a:rPr>
              <a:t>clasa a X</a:t>
            </a: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Doina Ruşti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ccecff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ccecff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ccecff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ccecff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Liviu Rebreanu – Ion (1920): 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Glasul pământului şi Glasul iubirii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Liviu Rebreanu – Pădurea spânzuraţilor (1922):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Liviu Rebreanu – Răscoala (1932): surprinde psihologia colectivă într-un moment limită, în contextul evenimentului real de la 1907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Liviu Rebreanu – Gorila (1938):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11" descr="comp_i"/>
          <p:cNvPicPr/>
          <p:nvPr/>
        </p:nvPicPr>
        <p:blipFill>
          <a:blip r:embed="rId1">
            <a:grayscl/>
          </a:blip>
          <a:stretch/>
        </p:blipFill>
        <p:spPr>
          <a:xfrm>
            <a:off x="4876920" y="1447920"/>
            <a:ext cx="143964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4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4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4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4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4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4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4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4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4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4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ffffff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ccecff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ccecff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4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4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4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4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4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4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4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4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4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4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4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4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4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4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4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4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400" fill="hold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400" fill="hold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400" fill="hold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400" fill="hold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"/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400" fill="hold"/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400" fill="hold"/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"/>
                                        <p:tgtEl>
                                          <p:spTgt spid="2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400" fill="hold"/>
                                        <p:tgtEl>
                                          <p:spTgt spid="2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400" fill="hold"/>
                                        <p:tgtEl>
                                          <p:spTgt spid="2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"/>
                                        <p:tgtEl>
                                          <p:spTgt spid="2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400" fill="hold"/>
                                        <p:tgtEl>
                                          <p:spTgt spid="2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400" fill="hold"/>
                                        <p:tgtEl>
                                          <p:spTgt spid="2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"/>
                                        <p:tgtEl>
                                          <p:spTgt spid="2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400" fill="hold"/>
                                        <p:tgtEl>
                                          <p:spTgt spid="2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400" fill="hold"/>
                                        <p:tgtEl>
                                          <p:spTgt spid="2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Elev</cp:lastModifiedBy>
  <dcterms:modified xsi:type="dcterms:W3CDTF">2012-06-19T10:53:49Z</dcterms:modified>
  <cp:revision>24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