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1BF-5DD0-4AE7-9103-982739E5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823-D6D5-4267-98BE-F67DBF5B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BEB0-60A2-4869-827E-182B41EF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38F-D03A-41ED-9A4E-78B88D75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634-7674-4EEF-9372-51E98EBD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6BF-C0E0-420E-B9B0-7DDBC94C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1EE-7BAB-4F51-8155-8DD6E02C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2B7-627D-428A-AB08-D41B3C6C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24F-08F3-4148-966F-1CB3AD05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895-04F9-4395-B22D-1FD15AF0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276-46D3-4DE1-91CB-FD470037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51B-88F8-4875-8A34-44536E9D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B907-701C-4691-937C-1E9337F57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56000" y="4797360"/>
            <a:ext cx="3743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esiunea iunie - iuli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2110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b3s5</cp:lastModifiedBy>
  <dcterms:modified xsi:type="dcterms:W3CDTF">2012-06-18T11:05:40Z</dcterms:modified>
  <cp:revision>30</cp:revision>
  <dc:subject/>
  <dc:title>SALARIUL</dc:title>
</cp:coreProperties>
</file>