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9DA9C-FAA3-459B-BBC8-D76F4504F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47BF9-5D5F-468B-AEAB-FA35ECEC3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C9F1F-8FD8-4814-9BBD-27BA9E234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31E05-7A02-414C-9C14-4BAD5E8DE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DCC6-7637-4A4D-92F2-1AEF7EEEF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8EEAF-337D-422A-AEEB-F83F95DED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AE7D-869F-44AC-89EF-BBD99E0C4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EDF60-CF51-4889-877B-7EA0F5323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C6B2-FF84-444D-AF33-EDB34B914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A0D8-CBBF-4EB7-A92B-C23F9356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0140B-8592-4222-AD44-78B90BE2B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6B35-16EC-4122-9D3F-4D09A0EBD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20D0-9C27-4AB8-882F-B5192459B5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C:\Users\Guest\Desktop\comp_i.jpg"/>
          <p:cNvPicPr/>
          <p:nvPr/>
        </p:nvPicPr>
        <p:blipFill>
          <a:blip r:embed="rId1"/>
          <a:stretch/>
        </p:blipFill>
        <p:spPr>
          <a:xfrm>
            <a:off x="5334120" y="1828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08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