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EBC-8F5C-43A7-8900-00C3E020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843-7F90-4CE1-8510-A4AA2879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DA5-F78D-4EB5-91C8-6D273588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F0E-FAF3-4FAC-91B3-20FAAE2E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D87-FD26-40F1-9F12-E5811F9D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3DB-67BE-4BC8-8E63-AAD4AB2C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31B-9618-4621-9963-F908C290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0F1-C455-47A5-84B2-785013DF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806-224E-4FAF-BE9D-87A258FC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F3F-C66D-40D5-8A63-33754AA8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585-8E6B-43EE-AA15-EBA2F0AB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5A1-CC23-46C1-B451-D080769E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DF8A-F367-4B90-B380-E32980890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34:59Z</dcterms:modified>
  <cp:revision>29</cp:revision>
  <dc:subject/>
  <dc:title>SALARIUL</dc:title>
</cp:coreProperties>
</file>