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CB1CC-3FAB-4293-A13A-D9498490A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C904-9B97-4AFF-B23A-013EE548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25A3-222E-4A81-9C34-F08B68D3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A007D-0376-4F8E-94AC-05BCEFA2D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7F6E5-89E0-4D71-8893-DD60D3F7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5CE5-B882-4CAD-B891-3793D345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EFAE-BC32-4C29-A6EB-923C0483C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184D-6073-44D9-860A-2D3F88DEF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4CF3-251D-4794-A0A2-FED0C55E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D8CB-80B6-441C-83EA-0DC011DD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900D-16CB-4DDB-91ED-7E8239530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1002-5BE1-4519-9D84-96B5038A9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64BD-DB8C-4AC2-ACE0-A12A6F9357A5}"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836640"/>
            <a:ext cx="4608360" cy="5472000"/>
          </a:xfrm>
          <a:prstGeom prst="rect">
            <a:avLst/>
          </a:prstGeom>
          <a:noFill/>
          <a:ln w="0">
            <a:noFill/>
          </a:ln>
        </p:spPr>
        <p:txBody>
          <a:bodyPr anchor="t">
            <a:norm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5" name="Picture 6" descr="comp_i"/>
          <p:cNvPicPr/>
          <p:nvPr/>
        </p:nvPicPr>
        <p:blipFill>
          <a:blip r:embed="rId1"/>
          <a:stretch/>
        </p:blipFill>
        <p:spPr>
          <a:xfrm>
            <a:off x="5724360" y="1989000"/>
            <a:ext cx="2581560" cy="2581560"/>
          </a:xfrm>
          <a:prstGeom prst="rect">
            <a:avLst/>
          </a:prstGeom>
          <a:ln w="0">
            <a:noFill/>
          </a:ln>
        </p:spPr>
      </p:pic>
      <p:sp>
        <p:nvSpPr>
          <p:cNvPr id="46"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8"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0Z</dcterms:modified>
  <cp:revision>2</cp:revision>
  <dc:subject>CNEE</dc:subject>
  <dc:title>CNEE</dc:title>
</cp:coreProperties>
</file>