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1CF-8021-46DA-AF4A-6492E817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381-AE55-43EC-A628-79B51AE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F0B-76DD-4E30-9229-78E033A0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1E8-FD7F-4D5D-8408-B06F85EA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EEB8-B1D4-447A-9C05-00234545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79D3-1623-4492-9C32-B2DC482F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2096-3764-4754-A3FF-C17CD4F6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05D7-7165-4587-A056-2080995E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4B87-E0D5-477A-9FFB-80675A87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B940-F74F-401B-AAF8-37561C1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0BBE-FE7F-4D95-B773-40B14BC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EAB-5447-488A-A690-64E51085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5A46-953C-49E8-BD8C-FDA245D3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714B-4B77-4CB2-A060-1ECF2F8E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F42E-4CBB-4959-82C1-4E70FFD2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A232-C31A-4F4A-8D76-E89113E8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5F3E-A33E-4942-B31F-60AD5DC7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C0C-A85A-4142-B5BF-6C684600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813-92AC-4C5D-936F-644B5536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91E-1CEE-459D-B15F-CC793DEE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923-D5C5-4232-BC5F-DC7A183F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661-570F-4E3D-A627-38E3D20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7DA-19F0-447B-A627-F4D1C2A1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E5D-18D0-4CD8-90C6-1AAB90C4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B1ED-AB36-427B-936F-8F854DFAAB0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9764-7DC0-4263-8B4F-692C6300C5B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FRUMOS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cc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2b2</cp:lastModifiedBy>
  <dcterms:modified xsi:type="dcterms:W3CDTF">2012-06-19T11:31:36Z</dcterms:modified>
  <cp:revision>38</cp:revision>
  <dc:subject/>
  <dc:title>SALARIUL</dc:title>
</cp:coreProperties>
</file>