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41E-83CE-40B0-BBC6-F3AD8454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ED3-93E2-4A76-AA45-5FC5AB09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4F4-FC45-48FF-BE82-26C7E65A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A74-CB9A-4AFB-84EB-7D80B84B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5C2-71F5-4DE8-AA19-4BFFEA32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AFC-2EFF-454F-816F-84A4501B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F02-AFB7-44C6-B477-BF3D51B1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837-93D7-4312-9FF2-49FF6E85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C2E-7FB6-44B5-A809-189D64D2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AAA-4953-4EB9-A0BA-CB1B4392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635-F6F1-4F4A-AC64-1153978F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102-4F6D-4688-813B-C72ADFD6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F3FE-CFB5-42D7-A3F7-7FE24BA15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28960" y="3105000"/>
            <a:ext cx="508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siunea Iunie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d52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7b2</cp:lastModifiedBy>
  <dcterms:modified xsi:type="dcterms:W3CDTF">2012-06-18T10:55:53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