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64A-3582-4956-8AFE-79F23951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F26-CFB4-40BC-879B-B0BE8C42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BFC-1419-4C0B-B11A-873259C0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DB6-7B5F-4918-A76C-40BAD43A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55F-B84B-46DC-A83D-B3AF94CA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564-16B1-4C83-B785-9ADC8550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8CC-A107-4863-A368-69044CFE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236B-BCC7-4AF6-81C5-48899E6E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0FF-8D7E-401A-A8C2-255E1D92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361-31FD-4AFE-B7B9-3ECF02A1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2E2-A72D-413F-8209-F05FEDAD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944-01F1-441B-8347-19D6FDA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F2AE-0B6D-4CB9-BB1B-8DAFCF725A00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NEE</dc:creator>
  <dc:description/>
  <dc:language>en-US</dc:language>
  <cp:lastModifiedBy>Guest</cp:lastModifiedBy>
  <dcterms:modified xsi:type="dcterms:W3CDTF">2012-03-08T12:46:27Z</dcterms:modified>
  <cp:revision>2</cp:revision>
  <dc:subject>CNEE</dc:subject>
  <dc:title>CNEE</dc:title>
</cp:coreProperties>
</file>