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2503-1CB7-494B-80E5-BD50B9FB0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1FCA-16F6-4F24-9540-334E258A5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078B-1973-4889-A384-A99420745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3249-1D5E-4409-8B62-CBA8FC564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CFAB-8475-47A2-8ACA-21102C424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F507-14E0-4B04-9BC2-328A16FD4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0583-01CF-4712-A7A3-7AFED02F1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8F48-962C-4B3C-9712-ABDE1B850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6E6E-D671-4752-8D2C-3003F0BC3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43E6-8C9C-4E23-8261-2693054C6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DEDA-BF8A-4EC3-A2AE-5CAABFAE0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AF4D-F35E-4B52-B7DA-869F3E8B2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1E627-9E7A-42BA-B166-9ED60D86E4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ro.wikipedia.org/wiki/Arbust" TargetMode="External"/><Relationship Id="rId2" Type="http://schemas.openxmlformats.org/officeDocument/2006/relationships/hyperlink" Target="http://ro.wikipedia.org/wiki/Rosaceae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Zmeurul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o-RO" sz="2400" spc="-1" strike="noStrike">
                <a:solidFill>
                  <a:srgbClr val="000000"/>
                </a:solidFill>
                <a:latin typeface="Arial"/>
              </a:rPr>
              <a:t>Rubus idaeus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) este un </a:t>
            </a:r>
            <a:r>
              <a:rPr b="0" lang="ro-RO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rbust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tufos, peren, cu lăstari târâtori, cu tulpini drepte, arcuite spre vârf, cu ghimpi drepți, de forma unor ace, adeseori plasați numai pe partea inferioară. Zmeurul aparține familiei </a:t>
            </a:r>
            <a:r>
              <a:rPr b="0" lang="ro-RO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Rosaceae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2666880" y="3809880"/>
            <a:ext cx="3705480" cy="24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8T10:15:59Z</dcterms:created>
  <dc:creator>Elev</dc:creator>
  <dc:description/>
  <dc:language>en-US</dc:language>
  <cp:lastModifiedBy>Elev</cp:lastModifiedBy>
  <dcterms:modified xsi:type="dcterms:W3CDTF">2012-06-18T10:18:5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