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D16B0-E217-4F32-890D-03DE2A4B7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8CE13-1E9F-476B-8BEC-911533267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E0535-4309-4E3C-84A9-DE0B6DCD0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2F8B6-A305-40E2-BC41-0B927DB47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0E0D0-412D-4AD2-8A83-D82167E12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05CC6-8241-440B-B8C2-0AF80FA14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8F275-DC2F-47F3-B41E-9906B57A3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483BE-40A6-481C-9ED8-B90024D0A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C0371-CA07-42BB-9017-AC17FB95B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D8B02-2EB8-49E7-AA5D-261B11B19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872DF-74BF-48F6-9AC6-C1B1946E7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CD99A-53D9-4642-B7DB-66339E27E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7650D-A99C-450D-AA40-6C4B83C4DCB4}"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 name="Picture 9" descr="comp_i"/>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9"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6-15T12:33:38Z</dcterms:modified>
  <cp:revision>43</cp:revision>
  <dc:subject/>
  <dc:title>SALARIUL</dc:title>
</cp:coreProperties>
</file>