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D8980-65B7-4DB0-A071-92324A0E5E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F2951-CE79-48F7-8EB7-CF4C1801B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563C0D-4E60-406B-B0AB-4DA5BAFAF3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1C9B4-ED5A-4B39-A026-56B907E113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94256-3830-455B-819B-D5D30116D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B097F-4A93-458F-9241-026179FDF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1C9F1-0A3D-4837-B8C3-F9864E4B2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2BF60-2B1B-49EB-844A-F897DBDF7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DEBB3-70D6-41BA-8C25-69E804DF0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90E18-1135-4040-AC32-A652FFF79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56F97-A4F1-4621-B210-6A494FA2F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C4F85-0012-4B3F-A735-F8BE5A73F7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2D425-77B1-4795-B6A4-7399BC7028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4" name=""/>
          <p:cNvSpPr txBox="1"/>
          <p:nvPr/>
        </p:nvSpPr>
        <p:spPr>
          <a:xfrm>
            <a:off x="1835280" y="4437000"/>
            <a:ext cx="523872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esiunea Iunie - Iulie</a:t>
            </a:r>
            <a:endParaRPr b="0" lang="en-US" sz="1800" spc="1" strike="noStrike">
              <a:ln w="9360">
                <a:solidFill>
                  <a:srgbClr val="000000"/>
                </a:solidFill>
                <a:miter/>
              </a:ln>
              <a:solidFill>
                <a:srgbClr val="ffffff"/>
              </a:solidFill>
              <a:latin typeface="Arial Black"/>
              <a:ea typeface="Arial Black"/>
            </a:endParaRPr>
          </a:p>
        </p:txBody>
      </p:sp>
    </p:spTree>
  </p:cSld>
  <p:transition advTm="5000">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f717"/>
            </a:gs>
            <a:gs pos="50000">
              <a:srgbClr val="fb1313"/>
            </a:gs>
            <a:gs pos="100000">
              <a:srgbClr val="d7f717"/>
            </a:gs>
          </a:gsLst>
          <a:lin ang="13500000"/>
        </a:gradFill>
      </p:bgPr>
    </p:bg>
    <p:spTree>
      <p:nvGrpSpPr>
        <p:cNvPr id="1" name=""/>
        <p:cNvGrpSpPr/>
        <p:nvPr/>
      </p:nvGrpSpPr>
      <p:grpSpPr>
        <a:xfrm>
          <a:off x="0" y="0"/>
          <a:ext cx="0" cy="0"/>
          <a:chOff x="0" y="0"/>
          <a:chExt cx="0" cy="0"/>
        </a:xfrm>
      </p:grpSpPr>
      <p:sp>
        <p:nvSpPr>
          <p:cNvPr id="45"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pic>
        <p:nvPicPr>
          <p:cNvPr id="46" name="Picture 9" descr="comp_i"/>
          <p:cNvPicPr/>
          <p:nvPr/>
        </p:nvPicPr>
        <p:blipFill>
          <a:blip r:embed="rId1"/>
          <a:stretch/>
        </p:blipFill>
        <p:spPr>
          <a:xfrm>
            <a:off x="5148360" y="148428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b3s5</cp:lastModifiedBy>
  <dcterms:modified xsi:type="dcterms:W3CDTF">2012-06-18T11:06:21Z</dcterms:modified>
  <cp:revision>45</cp:revision>
  <dc:subject/>
  <dc:title>SALARIUL</dc:title>
</cp:coreProperties>
</file>