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609-8731-4FFD-A021-C0E4D35D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72F-A676-4314-A3F9-8441572C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E60-6658-497B-9A78-55E92BAD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B97-E641-46D8-BE01-04155941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FEF-D7C7-4079-A90A-25CB4FBE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686-65F9-49BC-83E7-10B7AD1E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027-3AE3-46D1-8E8E-27B6829F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535-3422-46E8-845D-4C9DF24C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99B-5E1D-44E8-AAEC-3D2F150D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6FE-D1E6-4E42-BC09-A1B5472B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BA2-C0B4-46D6-BADA-CDA7DD42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141-EC48-4958-B9CD-8D880421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2794-0FA3-4606-8061-617C8E80E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14600" y="4800600"/>
            <a:ext cx="29242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esiunea iunie - iuli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advTm="5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p:transition advTm="5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a3</cp:lastModifiedBy>
  <dcterms:modified xsi:type="dcterms:W3CDTF">2012-06-18T11:06:48Z</dcterms:modified>
  <cp:revision>2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