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E05BE-CAC9-4D59-81EB-A7B885196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0086-590F-4DF9-903F-B1593DAD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19CE6-5CD5-418E-9EA1-C60FD78E4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76680-EA89-41FE-801A-485D2F3D2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DAC7-52CE-4623-9DFD-EA71953F9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B6B08-B1DE-4BD3-9537-7475A024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7D13-381E-41C4-A662-E84A12FFF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2C6D-D964-48BC-8740-025E11341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68FC4-EC63-4DB8-A570-10E6135DC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7BE5-5CF8-4E03-B0F8-DF46AE27C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B9EA-80B2-4982-8CB1-526CC60EF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F165-9DF4-4C1B-85D8-08AC5EBF9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E988-9A1A-4E45-A374-A639568F2EA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4Z</dcterms:modified>
  <cp:revision>38</cp:revision>
  <dc:subject/>
  <dc:title>SALARIUL</dc:title>
</cp:coreProperties>
</file>