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72EEB1-F72D-4843-86EC-0F37B3945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CE1664-E2C0-411D-B1B3-1A8E004E9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4C3D9A-DA03-4466-A459-F17608398B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9929AC-B9C1-4686-87DC-132B96448B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D1667-C903-4F1D-8ADA-8BB278157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5B747-F0E3-45C8-9BC5-910978B21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EAD32-21F0-4011-8B82-74A9F6031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08CEC-BE22-420F-BEC5-2073DE6BC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D7BE0-A2E0-4ED5-886D-B1D9849BB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368E-405D-4116-9E35-70BD9C21F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D6C4B-1CE5-40E5-B1D7-66058C65F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9E86F0-1209-4F29-AB49-D409A35C6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3581-309A-42E9-88C5-C1839EE1F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5788A-216D-4DD2-AEA1-C7F4C053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30B3B-C6EB-4514-83B3-D7EDFA6AF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4B48D-DC9F-4F32-8EA1-2266C8AC5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2D578-C2A5-4390-904F-2862EB91A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84739C-0CE1-4EF4-A6B6-53AE78C9F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CB6BA4-DF54-4DB7-B63E-007A684AC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674275-5E08-441B-95AB-B3E8AF67F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0F3F9F-E58F-4CF5-BF70-E70154BBC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BEFA3A-0A5C-4CE0-8E1C-FEBB94BC0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FA51B2-E0E1-4502-B428-098486A3C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953722-3237-49BD-B89A-E456E92D78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7D6B-8441-4F97-954A-4DB4A27417D5}"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DDD0-425B-4F89-BAF1-FE94F9E031C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ÎMBRĂCĂMINTEA ROMANILOR</a:t>
            </a:r>
            <a:endParaRPr b="0" lang="en-US" sz="1600" spc="-1" strike="noStrike">
              <a:solidFill>
                <a:srgbClr val="ffffcc"/>
              </a:solidFill>
              <a:latin typeface="Tahoma"/>
            </a:endParaRPr>
          </a:p>
        </p:txBody>
      </p:sp>
      <p:sp>
        <p:nvSpPr>
          <p:cNvPr id="126" name="PlaceHolder 2"/>
          <p:cNvSpPr>
            <a:spLocks noGrp="1"/>
          </p:cNvSpPr>
          <p:nvPr>
            <p:ph type="subTitle"/>
          </p:nvPr>
        </p:nvSpPr>
        <p:spPr>
          <a:xfrm>
            <a:off x="1371600" y="3889440"/>
            <a:ext cx="6400800" cy="6840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latină, clasa a IX-a</a:t>
            </a:r>
            <a:r>
              <a:rPr b="0" lang="ro-RO" sz="1000" spc="-1" strike="noStrike">
                <a:solidFill>
                  <a:srgbClr val="ffffff"/>
                </a:solidFill>
                <a:latin typeface="Arial"/>
              </a:rPr>
              <a:t>, Daniela Văduva, consultant principal I. Fischer)</a:t>
            </a:r>
            <a:endParaRPr b="0" lang="en-US" sz="1000" spc="-1" strike="noStrike">
              <a:solidFill>
                <a:srgbClr val="ffffff"/>
              </a:solidFill>
              <a:latin typeface="Tahoma"/>
            </a:endParaRPr>
          </a:p>
        </p:txBody>
      </p:sp>
      <p:sp>
        <p:nvSpPr>
          <p:cNvPr id="127"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ffffff"/>
              </a:solidFill>
              <a:latin typeface="Tahoma"/>
            </a:endParaRPr>
          </a:p>
        </p:txBody>
      </p:sp>
      <p:sp>
        <p:nvSpPr>
          <p:cNvPr id="129"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30" name="" descr=""/>
          <p:cNvPicPr/>
          <p:nvPr/>
        </p:nvPicPr>
        <p:blipFill>
          <a:blip r:embed="rId1">
            <a:grayscl/>
          </a:blip>
          <a:stretch/>
        </p:blipFill>
        <p:spPr>
          <a:xfrm>
            <a:off x="5148360" y="1484280"/>
            <a:ext cx="143964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odurile de existenţă ale frumosului.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1.</a:t>
            </a:r>
            <a:r>
              <a:rPr b="0" lang="ro-RO" sz="1200" spc="-1" strike="noStrike">
                <a:solidFill>
                  <a:srgbClr val="ffffff"/>
                </a:solidFill>
                <a:latin typeface="Arial"/>
              </a:rPr>
              <a:t>	</a:t>
            </a:r>
            <a:r>
              <a:rPr b="0" lang="ro-RO" sz="1200" spc="-1" strike="noStrike">
                <a:solidFill>
                  <a:srgbClr val="ffffff"/>
                </a:solidFill>
                <a:latin typeface="Arial"/>
              </a:rPr>
              <a:t>Conjugaţi la toate modurile şi timpurile din tema de perfect, verbele de mai jos: </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xcludo, -ere, -s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stendo, -ere, -nd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do, -are, -avi, -atum.</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ecunoaşteţi următoarele forme verbale şi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enavisse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upivi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luera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gnoverimus;</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eneru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alutaveritis.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mpletaţi propoziţiile următoare punând verbele la indicativ perfect.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aesar post pugnam Roma</a:t>
            </a:r>
            <a:r>
              <a:rPr b="0" lang="en-US" sz="1200" spc="-1" strike="noStrike">
                <a:solidFill>
                  <a:srgbClr val="ffffff"/>
                </a:solidFill>
                <a:latin typeface="Arial"/>
              </a:rPr>
              <a:t>m</a:t>
            </a:r>
            <a:r>
              <a:rPr b="0" lang="ro-RO" sz="1200" spc="-1" strike="noStrike">
                <a:solidFill>
                  <a:srgbClr val="ffffff"/>
                </a:solidFill>
                <a:latin typeface="Arial"/>
              </a:rPr>
              <a:t> veni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laudius ab adulescentia in villa habita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omani longo bello Gallos vincere.</a:t>
            </a:r>
            <a:endParaRPr b="0" lang="en-US" sz="1200" spc="-1" strike="noStrike">
              <a:solidFill>
                <a:srgbClr val="ffffff"/>
              </a:solidFill>
              <a:latin typeface="Tahoma"/>
            </a:endParaRPr>
          </a:p>
        </p:txBody>
      </p:sp>
      <p:sp>
        <p:nvSpPr>
          <p:cNvPr id="132"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b2</cp:lastModifiedBy>
  <dcterms:modified xsi:type="dcterms:W3CDTF">2012-06-19T10:58:09Z</dcterms:modified>
  <cp:revision>43</cp:revision>
  <dc:subject/>
  <dc:title>SALARIUL</dc:title>
</cp:coreProperties>
</file>