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E56-465A-4371-B855-06E4217A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BCB-431F-4C1C-9839-05C1278D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470-5E4C-441E-84F7-4E0F000E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C7E-F4E0-440B-B28B-E17AA6E9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9B78-6574-4DAB-B056-6878E341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F7B3-33A9-47BD-B285-A53DCDF4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C702-7710-4329-8872-07342074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86CA-75C6-446A-AD09-500FC13E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BF83-7011-451F-BE10-59DA577A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82B0-99B4-4192-B53F-451357F6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68C3-36A2-436F-8AC1-7145802E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E2B-D01A-40B8-902E-2081F5D9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611B-C29F-45F5-99C2-0DC14936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5821-6FF5-4531-A9BB-F972C0A1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53DF-F279-4131-8068-CD1947B7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1869-E98C-4276-B4C8-1C22A171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3346-3B4E-4684-B77A-97E89911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47F-98D1-4438-A3A2-BBFCAA5A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7AA-02FB-4ACE-81F5-13428567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008-FC55-48DA-9D5C-782E71FE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36B-3599-4927-B78E-3B303287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B8B-2829-456A-AB17-7B9AF473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653-3F20-4247-8D86-325CCADF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942-9B28-4D2C-9059-FDEC6954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9885-5E03-4546-A78B-622016CD7A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2573-1C02-4861-96B3-B5D5DB5B52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CREŞTEREA ŞI DEZVOLTAREA ECONOMICĂ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2860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Manualul de Economie, clasele a X-a şi a XI-a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, Maria Liana Lăcătuş, George-Paul Lăcătuş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75248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a3</cp:lastModifiedBy>
  <dcterms:modified xsi:type="dcterms:W3CDTF">2012-06-19T11:12:41Z</dcterms:modified>
  <cp:revision>33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