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9C45A-CA2C-4C2F-91A8-1FA67E340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C99A3-49CB-4938-B409-D54C42FBC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0392E-1C61-473E-803B-241E50CCA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03293-0BF0-4979-BEE9-31ACFE747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E09A0-B907-476A-956F-386D3D39C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BF3C4-60E9-438A-8F28-FD2A84705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AC116-0889-418B-9780-94E6B9D78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DD76F-DECD-437A-9AF9-9B5880B05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EE2AF-F706-439E-8941-862AF9C5E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A42FD-EC51-453D-B098-B0D820DF9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84AB2-E2C3-4C5F-83CE-7C0A6E8E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DD1A4-77DD-4E5A-A26F-A0F558122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1ACB-22EA-4A2B-AC22-60273950B9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124000" y="3357720"/>
            <a:ext cx="487692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iuli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8T11:02:26Z</dcterms:modified>
  <cp:revision>47</cp:revision>
  <dc:subject/>
  <dc:title>SALARIUL</dc:title>
</cp:coreProperties>
</file>