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F75F3-B96D-4E51-8193-0448A75DD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58CD9-B688-4363-B3B7-676328E90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1A054-233E-4905-952A-764A633E81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74F78-8CC1-411F-BA1E-43D711FD6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2CAD8-CD53-478D-B251-1546D77BF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95D00-4CE9-4408-A5FF-C6B043EFF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CCB04-3C10-4B04-AACD-7DEAE0217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6A7AA-92B4-48B9-8005-059B2D4BE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97A96-4C16-4B7D-84ED-CD0FF06EA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72270-3F1B-47B2-B9FE-BA07B87A8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80898-F2A6-4948-991E-07B9A4FC3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275A1-0C16-45C2-AD02-E22900EFC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FAA7B-C03F-41C0-8FC1-F30577A69C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4724280" y="1371600"/>
            <a:ext cx="1440000" cy="1440000"/>
          </a:xfrm>
          <a:prstGeom prst="rect">
            <a:avLst/>
          </a:prstGeom>
          <a:ln w="0">
            <a:noFill/>
          </a:ln>
        </p:spPr>
      </p:pic>
    </p:spTree>
  </p:cSld>
  <p:transition spd="med">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6b2</cp:lastModifiedBy>
  <dcterms:modified xsi:type="dcterms:W3CDTF">2012-06-19T11:02:36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