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6602A-B7A4-4DDE-9262-B0560A8B1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C11D-194C-4C38-9546-BA0235347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66370-0311-4B4D-9FCD-2F477739B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DC30-89FF-475E-98CA-782946EA3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DC22-BDF7-435D-8509-9799205D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6FD83-56AE-4AFA-BFDA-5562A772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8F99-9A6C-4F16-8D7B-688704DD4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393C-2137-4A84-AA61-B336668A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347C-9E42-492D-A032-C0F47893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FCAAA-7BBF-42C5-B413-D6560B773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3C47-D848-4B99-B183-33FE61488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7117-4D39-47D0-8AD5-4FACEFAF5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508D-DDCD-4FB6-882A-E6E2ABD28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191120" y="4800600"/>
            <a:ext cx="377172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esiunea iunie-iulie</a:t>
            </a:r>
            <a:endParaRPr b="0" lang="en-US" sz="2800" spc="1" strike="noStrike">
              <a:ln w="9360">
                <a:solidFill>
                  <a:srgbClr val="000000"/>
                </a:solidFill>
                <a:miter/>
              </a:ln>
              <a:solidFill>
                <a:srgbClr val="000000"/>
              </a:solidFill>
              <a:latin typeface="Arial Black"/>
              <a:ea typeface="Arial Black"/>
            </a:endParaRPr>
          </a:p>
        </p:txBody>
      </p:sp>
    </p:spTree>
  </p:cSld>
  <p:transition advTm="5000">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advTm="5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0a3</cp:lastModifiedBy>
  <dcterms:modified xsi:type="dcterms:W3CDTF">2012-06-18T10:58: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