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38B-DAFD-4341-A0C5-BFE5381B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F47C-E41E-497E-ADBB-54B34CC8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219-ABD9-479E-98F3-497BF204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C2C-B6FC-4B0B-AB92-209FAF57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36E0-99D3-427B-BE93-ED71D9DF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E864-AD10-4587-AB46-0957704C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71C4-C377-4085-858F-564A5530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8797-6629-4961-99BE-65AB9457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5DA-EB7D-4B40-9050-0AD9C57C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55A4-B32D-4A98-A74B-7D4F5E3E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32B1-5293-42F5-88AC-CE9B726A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57A0-31EA-4241-919A-2C5EC8EB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85BD-175F-4C2E-A252-1B12633DB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ETODA BACKTRACK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50920" y="55008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64000" y="1773360"/>
            <a:ext cx="709920" cy="709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15:05Z</dcterms:modified>
  <cp:revision>33</cp:revision>
  <dc:subject/>
  <dc:title>SALARIUL</dc:title>
</cp:coreProperties>
</file>