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BB6B1-62B2-4E10-AE6F-00E313834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7D673-B8E1-450E-893D-F6300389D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D4791-118C-4427-BBCB-868DCFA0D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9A4C8-135C-4EFF-92B8-CE2A3B048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63762-8AA0-48DB-A876-D110B64B0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74F91-7776-4435-ABE9-0098108F6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36170-01A0-45A5-89CD-708ED870D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59E55-0051-4BCB-BB76-FF4560693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14F6D-5B3C-46FA-BD0F-D7EFA3178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5BE08-3123-48D4-A96C-CCE9C9396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BE4A7-FB6B-4CAB-AAC7-285A353A2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A472A-7222-45F6-B696-DD6B2DD65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F7B2-3683-430B-A6EF-130A7BC1DF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1752480" y="5029200"/>
            <a:ext cx="518184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 - iulie</a:t>
            </a:r>
            <a:endParaRPr b="0" lang="en-US" sz="1800" spc="1" strike="noStrike">
              <a:ln w="9360">
                <a:solidFill>
                  <a:srgbClr val="000000"/>
                </a:solidFill>
                <a:miter/>
              </a:ln>
              <a:solidFill>
                <a:srgbClr val="000000"/>
              </a:solidFill>
              <a:latin typeface="Arial Black"/>
              <a:ea typeface="Arial Black"/>
            </a:endParaRPr>
          </a:p>
        </p:txBody>
      </p:sp>
    </p:spTree>
  </p:cSld>
  <p:transition spd="med" advTm="5000">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spd="med" advTm="5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spd="med" advTm="5000">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Elev</cp:lastModifiedBy>
  <dcterms:modified xsi:type="dcterms:W3CDTF">2010-06-20T11:42:2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