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B384-7764-4B00-B5BC-43D26A93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6B76-2CB5-48C7-A746-4CD6A90F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3016-4EC8-4776-8295-70A02E10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EC11-1656-4762-9767-9787D0F7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CD31-3896-4E4E-84E4-BBD0CE5E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0CF-4920-41E1-9A9F-C4C9E6BD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83EB-B54C-4DB9-9AC5-2076195C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F973-13A4-45E9-A784-589E6011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847-DC4E-41EF-8EC3-D8387A36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6E70-26DE-4BC7-BB3D-F946BCDB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2057-0BCA-42B1-911C-89900F3C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3770-AEF4-4CC9-B9BE-8247BFA3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8606-9608-4A74-88BB-FBC4FCBC5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0504d"/>
            </a:gs>
            <a:gs pos="100000">
              <a:srgbClr val="d7b93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6b2</cp:lastModifiedBy>
  <dcterms:modified xsi:type="dcterms:W3CDTF">2012-06-18T11:11:49Z</dcterms:modified>
  <cp:revision>30</cp:revision>
  <dc:subject/>
  <dc:title>SALARIUL</dc:title>
</cp:coreProperties>
</file>