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683E0-2060-4623-85E0-4F93333A2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38C1A-8046-4EFF-929F-41AA40AE3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33D96-BA9B-4A70-9B7A-5BA4994F7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04B8F-7144-4981-90DB-A9AD2A94B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0DD01-7F06-497A-AEA5-B86428875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17F7C-DDB6-4EBB-A858-49A757B12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A3ECE-E206-49A3-B8DD-834DA41DD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D6920-4441-4F34-96E3-D502A7B39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572C4-5F6E-44EB-A23A-284A606DB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19034-0E7B-4533-BD0B-A5CC1561A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51898-022A-446C-9A85-96022A95F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5A4A5-3250-4E8D-8D5D-4018D005D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9EC5-50B5-4105-BA95-52F3BBC98E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676520" y="4114800"/>
            <a:ext cx="716256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09680" y="1904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7" name="Picture 6" descr=""/>
          <p:cNvPicPr/>
          <p:nvPr/>
        </p:nvPicPr>
        <p:blipFill>
          <a:blip r:embed="rId1"/>
          <a:stretch/>
        </p:blipFill>
        <p:spPr>
          <a:xfrm>
            <a:off x="4952880" y="144792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s29</cp:lastModifiedBy>
  <dcterms:modified xsi:type="dcterms:W3CDTF">2004-10-28T01:35:48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