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F3489-B8B5-481A-B478-F1F7E1C30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13B2-0865-42A0-8FF9-96BCAB24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8C570-5640-4BA4-B51E-3E0EDBEB5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D36E5-5A2A-4E08-A643-D40B19AE4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46736-3F26-4E37-8452-29616B9C3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6E6F1-5BA1-43FE-A94D-3F9D78F33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A044-9D51-4B2A-9E5E-702C7DF79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B4E54-77DD-4DD2-AEA3-16C485350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9E218-9438-4F30-AB6A-3EE66A827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B9511-A5C4-491B-ADA2-855675BF4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694D2-235F-4A9F-985A-0414991B7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D16FE-A800-4CFE-8BE7-4C2ADEBA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2B5B8-F179-472E-AD6B-91126D311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ED239-3F35-499A-A011-0894BBD62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FD32D-BD98-4968-93E1-CAEFAB064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32A03-3E23-40C5-ADC6-4A63F1CBF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4DEFE-7B5F-4D83-8A1C-28D45EFA7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9DCBF-22C5-4998-83FB-00EC1A5E9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D2EA9-F7BC-4994-9721-1B1A954B8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96197-270B-4DF4-8039-22C0B1C5EE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5AE80-7086-4109-9D77-9D7848788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24B09-C646-43E5-B66A-DA964E131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234FF-5D65-45A6-82E1-8A978108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955EA-1488-4664-832E-E9F1A4378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952B8-A3AA-4F80-B4C6-01F1B77A8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4579B-5E97-42DA-928D-C963831CE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0AB15-66D5-408C-85D3-74BB3D2B5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6A710-BB41-4CF0-95E2-3B80A50E8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9C6EF1-367D-46E2-B365-F3ED547B6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D280B5-C735-4989-A0AF-8340E4E371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2966-E39D-4332-9623-503409611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5C155-B11A-4D98-A782-FC78A3AB5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8FA12-5655-4D5B-870B-975A39B4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2AC4B-854A-456D-ADC6-D1878A8C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09C6-A31F-4FDC-9683-FE620128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C0E83-E020-4D71-A2AD-E268DE322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2C87-E70B-4FCE-8434-FC0C6444F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CF25-69EC-475F-A524-ACC752FFF3E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ED88-8BCA-48AC-8960-DA3FD91A683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20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20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20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20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0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68360" y="83664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ofica</cp:lastModifiedBy>
  <dcterms:modified xsi:type="dcterms:W3CDTF">2012-06-18T11:10:13Z</dcterms:modified>
  <cp:revision>47</cp:revision>
  <dc:subject/>
  <dc:title>SALARIUL</dc:title>
</cp:coreProperties>
</file>