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7FF9D-4F4A-479E-B64C-EDEA11848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8CEE-3B59-434D-B6C5-567DF5DE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BEDCF-B65E-4377-9FA3-C6B841D06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D782E-F4FE-4E2F-9FF6-0DD08C90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410B-395E-4B4C-8056-49753D42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C0B6E-0497-4E42-9325-359053AD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661A-090F-422C-ADB3-3658C05A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17FD-6E8A-4DCB-9B3A-60D6E63E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8F37-6C70-4021-94C9-B29D331D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A5A0-E786-4769-8A2A-42E6D008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71CE-0BDD-4B7B-9946-E5C25BBA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E5F8-C67D-4EC5-B4A0-21350D1E2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161A-999E-410E-B264-073E3AD42C3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43280" y="3141720"/>
            <a:ext cx="3429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5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9-27T10:14:12Z</dcterms:modified>
  <cp:revision>39</cp:revision>
  <dc:subject/>
  <dc:title>SALARIUL</dc:title>
</cp:coreProperties>
</file>