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55C6-558B-4DE9-98C2-F7B8F5EC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8AF-CF15-46DB-8385-70943A77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CC0-EB9A-46D1-ACF9-1F1B82E8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6B5-AEDA-4874-BDF4-966ADB6E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6886-2A65-4F68-8244-626D9B0A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EC18-6D1C-4FDC-AC10-52F42A95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D328-7E12-4DF6-8F60-5D7EE04C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C5F4-F2A3-4E6B-9DBE-2B2D9B64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4B31-B84E-4B5B-BF15-B21FF219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ECBA-3EC7-47A3-B6FF-F9627A8B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2E9B-5B6E-497F-BC46-7DFF846C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31E-0E28-4150-AE1F-74C1DB33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AC40-D26F-44C6-8C41-57A955B9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A41F-DBD9-44E9-9513-A8ED3ACB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D93D-A391-4000-8332-2E1CD263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0ADF-EC44-47CD-818C-14407499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B855-2112-495A-9C49-ADE1E140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43A-4902-41A8-8CC1-123342C2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B91-5AF2-4D5B-A6C3-943F9905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824-C7B2-4996-BD23-54352006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C37-BAF9-4730-9474-0EDAB9F5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45D-C946-4CDB-9B0F-9D65D34A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6FD-04CF-4AC2-B3E7-05492E95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F0C-245D-43A0-A6E4-376CF747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B6EC-78FA-471C-A345-7C4226466D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CCC7-C146-4C43-B6FB-D6175E7FE2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b7e7ff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b7e7ff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b7e7ff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20400" y="3909960"/>
            <a:ext cx="6642360" cy="17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b7e7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b7e7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12" descr="comp_i"/>
          <p:cNvPicPr/>
          <p:nvPr/>
        </p:nvPicPr>
        <p:blipFill>
          <a:blip r:embed="rId2"/>
          <a:stretch/>
        </p:blipFill>
        <p:spPr>
          <a:xfrm>
            <a:off x="5205240" y="2197080"/>
            <a:ext cx="130320" cy="1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b7e7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8b2</cp:lastModifiedBy>
  <dcterms:modified xsi:type="dcterms:W3CDTF">2012-06-19T11:15:17Z</dcterms:modified>
  <cp:revision>23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