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B5B3D1-5C2C-4319-B6F4-7065703FDC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396AF-2127-4EDC-BDC1-E13DDD1F8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58D636-2880-47F4-8682-B52F2ECCE4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CACE74-0EE2-4E06-86E1-10D106994C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87E42-9F55-4BC4-96A8-7CBCB1635E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D2407-7FD1-4DDB-A46E-11908C3AA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58AA45-2FDF-4517-893F-FBFC30745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8C0CB-276F-4085-AFAC-09B49DC3C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DCE13-7ABE-4293-A3C0-0B823FDF7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8FEEC-1F93-49DA-8FE4-C09D089F6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EDA6F-FD51-4AEE-8839-605ECD164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B4177-0906-4221-951C-1B99A241B4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E7E57-3EAD-48CB-BC0D-360510569D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SIMFONIA</a:t>
            </a:r>
            <a:r>
              <a:rPr b="1" lang="en-US" sz="1400" spc="-1" strike="noStrike">
                <a:solidFill>
                  <a:srgbClr val="000000"/>
                </a:solidFill>
                <a:latin typeface="Arial"/>
              </a:rPr>
              <a:t> </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a:t>
            </a:r>
            <a:r>
              <a:rPr b="0" lang="ro-RO" sz="1000" spc="-1" strike="noStrike">
                <a:solidFill>
                  <a:srgbClr val="000000"/>
                </a:solidFill>
                <a:latin typeface="Arial"/>
              </a:rPr>
              <a:t> </a:t>
            </a:r>
            <a:r>
              <a:rPr b="0" i="1" lang="ro-RO" sz="1000" spc="-1" strike="noStrike">
                <a:solidFill>
                  <a:srgbClr val="000000"/>
                </a:solidFill>
                <a:latin typeface="Arial"/>
              </a:rPr>
              <a:t>Educaţie muzicală, clasa a VIII-a</a:t>
            </a:r>
            <a:r>
              <a:rPr b="0" lang="ro-RO" sz="1000" spc="-1" strike="noStrike">
                <a:solidFill>
                  <a:srgbClr val="000000"/>
                </a:solidFill>
                <a:latin typeface="Arial"/>
              </a:rPr>
              <a:t>, Jean Lupu, Lucia Marinescu Dănilă, Georgeta Obreja</a:t>
            </a:r>
            <a:r>
              <a:rPr b="0" lang="ro-RO" sz="1000" spc="-1" strike="noStrike">
                <a:solidFill>
                  <a:srgbClr val="000000"/>
                </a:solidFill>
                <a:latin typeface="Arial"/>
              </a:rPr>
              <a:t>)</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Simfonia este cea mai lirică dintre toate formele muzicale. Nu trebuie ea oare să exprime tot ceea ce nu poate fi exprimat în cuvinte, ceea ce izvorăşte năvalnic din inimă şi cere a fi rostit?” (Piotr Ilici Ceaikovsk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imfonia, în sensul consacrat de clasici, este o compoziţie amplă – pentru orchestră simfonică – alcătuită din patru părţ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iscursul muzical este precedat, uneori, de o introducere – menită să capteze atenţia ascultătorului, să-l transpună într-o stare sufletească favorabilă urmăririi simfonie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ecolul al XVII-lea – Preclasicismul muzical (Barocul) – epoca polifoniei instrumentale. Unul dintre izvoarele simfoniei îl reprezintă suita instrumentală, cu alternanţa tempourilor dansurilor ce o alcătuiesc.</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numite lucrări polifonice orchestrale şi vocal-instrumentale din această perioadă sunt alcătuite din 3-4 părţi şi poartă numele de simfonie.</a:t>
            </a:r>
            <a:r>
              <a:rPr b="0" lang="en-US" sz="1200" spc="-1" strike="noStrike">
                <a:solidFill>
                  <a:srgbClr val="000000"/>
                </a:solidFill>
                <a:latin typeface="Arial"/>
                <a:ea typeface="Calibri"/>
              </a:rPr>
              <a:t> […]</a:t>
            </a:r>
            <a:endParaRPr b="0" lang="en-US" sz="1200" spc="-1" strike="noStrike">
              <a:solidFill>
                <a:srgbClr val="000000"/>
              </a:solidFill>
              <a:latin typeface="Calibri"/>
            </a:endParaRPr>
          </a:p>
        </p:txBody>
      </p:sp>
      <p:sp>
        <p:nvSpPr>
          <p:cNvPr id="45"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6" name="Picture 10" descr=""/>
          <p:cNvPicPr/>
          <p:nvPr/>
        </p:nvPicPr>
        <p:blipFill>
          <a:blip r:embed="rId1"/>
          <a:stretch/>
        </p:blipFill>
        <p:spPr>
          <a:xfrm>
            <a:off x="5214960" y="928800"/>
            <a:ext cx="3002040" cy="300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estionar: [...]</a:t>
            </a:r>
            <a:r>
              <a:rPr b="0" lang="ro-RO" sz="1200" spc="-1" strike="noStrike">
                <a:solidFill>
                  <a:srgbClr val="000000"/>
                </a:solidFill>
                <a:latin typeface="Arial"/>
              </a:rPr>
              <a:t>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rcaţi prin săgeţi corespondenţa dintre elementele [...]:</a:t>
            </a:r>
            <a:r>
              <a:rPr b="0" lang="ro-RO" sz="1200" spc="-1" strike="noStrike">
                <a:solidFill>
                  <a:srgbClr val="000000"/>
                </a:solidFill>
                <a:latin typeface="Arial"/>
              </a:rPr>
              <a:t>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 Schumann, J. Sibelius, H. Berlioz, A. Dvorak, G. Mahler, I. Stravinsk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ancez, ceh, austriac, rus, finlandez, german.</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nscrieţi următoarele numere şi scrieţi în dreptul fiecăruia numele compozitorului care a scri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4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5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11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9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7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6 simfonii.</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opiaţi pe caiete şi completaţi grila următo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a _ _ _ _ _ S _ _ _ _ de Berlioz;</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ompozitor francez (Hector _ _ _ _ I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În Romantism, numărul părţilor se _ _ _ _ F _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e cu _ _ O _ _ _ _.</a:t>
            </a:r>
            <a:endParaRPr b="0" lang="en-US" sz="1200" spc="-1" strike="noStrike">
              <a:solidFill>
                <a:srgbClr val="000000"/>
              </a:solidFill>
              <a:latin typeface="Calibri"/>
            </a:endParaRPr>
          </a:p>
        </p:txBody>
      </p:sp>
      <p:sp>
        <p:nvSpPr>
          <p:cNvPr id="48"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LiviaT</cp:lastModifiedBy>
  <dcterms:modified xsi:type="dcterms:W3CDTF">2012-03-14T13:55:50Z</dcterms:modified>
  <cp:revision>45</cp:revision>
  <dc:subject/>
  <dc:title>SALARIUL</dc:title>
</cp:coreProperties>
</file>