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CCA-351A-46BF-98BE-896032A2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3E7-B0D5-402A-9AA9-B6843091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964-B502-4F74-821D-FD2CB94D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B5F-66AF-49BC-8D8C-7068344B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0C9D-9B6D-49D9-A591-C87D30B7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AF66-8B28-4167-A1F2-F9842862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EBC0-B0F8-4BD7-8160-BE420A4C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EACC-1B0F-4E72-924E-FEA946F2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884B-ACDE-4223-AF0B-BB370B08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0233-C791-4005-8C71-9FE9C2D5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5FCF-178C-4D70-8285-0AAF48BB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5ED-D23B-40D4-A4DF-87B68812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A265-75C8-4ED6-A499-B28389EB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2BB6-30BE-46CB-9EFC-50FBD50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E752-8F50-4DB5-BAE0-AB1C60F5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59AD-16EC-4D96-90CE-6439C862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A6F9-D7C3-415E-8DA4-C8791989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240-B8D6-45BF-A467-53182953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073-9CDC-4FBE-B3D9-827AA652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4CF-06D5-44A2-89EB-43ED2928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246-8A18-4AAE-8266-45F7B527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438-85AC-4E37-A453-971A94E3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2A7-A099-47B4-A5D7-DCE4FCB2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D66-75A9-484A-8F13-1DDA72DD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F5E6-95CE-4A06-B70E-EADFCBA57455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6760-B125-4A61-AB71-33CEAB5CC351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ecff"/>
                </a:solidFill>
                <a:latin typeface="Arial"/>
              </a:rPr>
              <a:t>ALTE ROMANE  REALISTE INTERBELIC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38280" y="4190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1" descr="comp_i"/>
          <p:cNvPicPr/>
          <p:nvPr/>
        </p:nvPicPr>
        <p:blipFill>
          <a:blip r:embed="rId1">
            <a:alphaModFix amt="62000"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1:13:43Z</dcterms:modified>
  <cp:revision>30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