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9445D-B209-40AE-B305-5CBCC48E4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C9C7D-29AF-4330-A7B5-5760D389B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59AEA-9AAE-4A65-82A5-AC666D5E2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E65C0-8368-4BCA-A16A-6130EFE66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41FC2-34F2-4353-825A-D38D4CA64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31F2A-5BA5-45A0-AEBF-E349EE49C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29678-8546-4F81-85C9-B3C7D40AC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3734D-2292-4108-AB25-1E8E60949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EDE7A-C511-4AE0-9189-52D5C263F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0382D-05E2-49A9-B032-1024E24C4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1BDBF-1EA6-403E-B4E6-8269047D3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50258-9496-449B-B2F6-07EC770E0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683F9-A691-4768-9933-6609EBD4E0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CREŞTEREA ŞI DEZVOLTAREA ECONOMICĂ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09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Manualul de Economie, clasele a X-a şi a XI-a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, Maria Liana Lăcătuş, George-Paul Lăcătuş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457200" y="228600"/>
            <a:ext cx="8001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42670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hiar economiile cele mai dinamice, care au promovat progresul tehnic şi au înregistrat creşteri rapide la nivelul capacităţilor de producţie, nu au putut asigura o creştere economică permanentă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reşterea economică din anumite perioade de timp a fost urmată de recesiune şi depresiune, cu alte cuvinte, de scăderea nivelului producţiei şi a gradului de ocupare a forţei de muncă, de şomaj și inflaţi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ctivitatea economică evoluează ciclic, înregistrând creşteri şi căderi periodi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ctivitatea economică este fluctuantă. Unele fluctuaţii reprezintă variaţii sezoniere ale activităţii desfăşurate, însă altele sunt periodice şi ţin de o evoluţie ciclică a economie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iclul economic este intervalul dintre două perioade succesive de creştere economică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 …]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Fiecare ciclu economic are o anumită intensitate şi durată şi se deosebeşte, prin acestea, de celelalte, deşi presupune parcurgerea aceloraşi patru faze. Periodicitatea medie a unui ciclu este de 8-10 ani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7" descr="comp_i"/>
          <p:cNvPicPr/>
          <p:nvPr/>
        </p:nvPicPr>
        <p:blipFill>
          <a:blip r:embed="rId1"/>
          <a:stretch/>
        </p:blipFill>
        <p:spPr>
          <a:xfrm>
            <a:off x="5181480" y="1752480"/>
            <a:ext cx="3372120" cy="33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15328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78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Şomajul este un dezechilibru economic care constă în existenţa unui surplus de ofertă pe piaţa forţei de munc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4572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opulaţia totală cuprind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279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opulaţie inapt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279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opulaţie aptă, dar care nu este disponibil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279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forţa de muncă - populaţia ocupat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279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şomer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4572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Tipuri de şomaj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279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fricțional (voluntar sau sezoni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279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tructural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279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icl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4572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entru a combate şomajul, statul promovează politici active de ocupare a forţei de muncă, adoptând măsuri precu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279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prijinirea creării de locuri de muncă pentru şomer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279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cordarea de facilităţi fiscale agenţilor economici care angajează şomer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279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ntegrarea şomerilor în programe de recalificare și creştere a gradului de reintegrare a acestor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279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cordarea de subsidii agenţilor economici care angajează absolvenţ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NEE</dc:creator>
  <dc:description/>
  <dc:language>en-US</dc:language>
  <cp:lastModifiedBy>Guest</cp:lastModifiedBy>
  <dcterms:modified xsi:type="dcterms:W3CDTF">2012-06-18T13:34:10Z</dcterms:modified>
  <cp:revision>31</cp:revision>
  <dc:subject/>
  <dc:title>CREŞTEREA ŞI DEZVOLTAREA ECONOMICĂ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