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84F1A-315B-48F6-BA96-A1EABCA73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D1C5-1126-40BA-8667-21083A42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8A1EB-BF13-46CB-A1FE-4A66494F8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A12A-C4C1-4AE8-93E3-00B7CF0B1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8E20-AE76-4A84-991A-48AD940F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6138-6380-4941-8927-CCED2320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8DA8-7775-49AE-97CE-F48DB0FC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9F6CC-8778-4046-9A83-51780A31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9438E-1BC7-43BF-AFC2-AE244077E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A4B7-3712-4762-812D-DAB2E2513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6BE8-4BE9-4DB0-94D3-A0A7785E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8F81-9B5C-409A-9BCB-D7DDF833B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A562-EF4B-4CC4-AA6C-7F9FBFD63B6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43Z</dcterms:modified>
  <cp:revision>46</cp:revision>
  <dc:subject/>
  <dc:title>SALARIUL</dc:title>
</cp:coreProperties>
</file>