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D355F-BABE-417A-9C69-E1D36E509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C544D-FCEC-40BB-A3F8-ACDFEE669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38344-3042-4505-AEB2-7A7E0FF2D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62385-3F2C-46AE-8EF0-86B697957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E3EFA-32AB-44A6-AAE5-F0527AC5A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5854B-8BFB-45D4-98E6-F39C0D4F5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A4A55-2BF2-4A4D-90B1-AAF89BDA7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71106-E6B1-453A-BB7F-742C3FB52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297FE-E0C8-40E3-B35C-F9DCD9876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48DDC-1745-4ED7-A1B9-3ABB264C2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2EEB3-FCC5-4587-A8F6-B893FCB6A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B7400-7DFA-4B28-8088-47D642800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20925-746D-4130-934D-BEA0817984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213372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7" name="Picture 8" descr="comp_i"/>
          <p:cNvPicPr/>
          <p:nvPr/>
        </p:nvPicPr>
        <p:blipFill>
          <a:blip r:embed="rId1"/>
          <a:stretch/>
        </p:blipFill>
        <p:spPr>
          <a:xfrm>
            <a:off x="5715000" y="1600200"/>
            <a:ext cx="3067200" cy="306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Text Box 7"/>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zentăm mai jos câteva exemple de itemi din unele teste de inteligenţă.</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re este numărul care lipseşte din al treilea şir </a:t>
            </a:r>
            <a:r>
              <a:rPr b="0" lang="en-GB" sz="1200" spc="-1" strike="noStrike">
                <a:solidFill>
                  <a:srgbClr val="000000"/>
                </a:solidFill>
                <a:latin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Guest</cp:lastModifiedBy>
  <dcterms:modified xsi:type="dcterms:W3CDTF">2012-06-15T12:34:01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