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368BB-CB1B-457A-B7F3-DFDE219B0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33940-E903-432B-A149-569FF21E7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A70E2-24DE-4F2D-893D-789191F4C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B3B61-2737-4307-A0A2-B49306396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9B902-561E-4A8E-8F57-3C84925CD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74DD0-E4E2-4862-B1DA-372EDED27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37C4F-583A-40E8-83F0-022ACB41E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3CD55-1D19-48F6-AFEA-31E09476C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0847A-0BFD-4999-B6B7-E8AC0B0F2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56AA0-029F-47FE-A070-5CF6E6D5A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38CF2-DC34-4CAE-9A17-0B944F938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A87D0-7073-4B6C-A4A6-E5F4FB4D9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DC72D-174F-40D6-9CEF-11E3A3F011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VIAŢA SPIRITUALĂ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304920" y="380880"/>
            <a:ext cx="8381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990720" y="3886200"/>
            <a:ext cx="73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it-IT" sz="1000" spc="-1" strike="noStrike">
                <a:solidFill>
                  <a:srgbClr val="000000"/>
                </a:solidFill>
                <a:latin typeface="Arial"/>
              </a:rPr>
              <a:t>Manualul de Istorie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it-IT" sz="1000" spc="-1" strike="noStrike">
                <a:solidFill>
                  <a:srgbClr val="000000"/>
                </a:solidFill>
                <a:latin typeface="Arial"/>
              </a:rPr>
              <a:t>clasa a V-a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, Zoe Petre, Laura Căpiţă, Monica Dvorski, Carol Căpiţă, Ioan Grosu)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4"/>
          <p:cNvSpPr/>
          <p:nvPr/>
        </p:nvSpPr>
        <p:spPr>
          <a:xfrm>
            <a:off x="533520" y="6248520"/>
            <a:ext cx="2571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Sesiunea iunie - iuli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828800" y="762120"/>
            <a:ext cx="5181480" cy="145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Sesiunea iunie - iuli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p:transition advTm="5000"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33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41148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iaţa spirituală a oamenilor din preistorie este la fel de bogată ca şi a noastră. Dar, în vreme ce noi ştim mai multe despre lumea ce ne înconjoară, primitivii nu au la dispoziţie instrumentele de astăz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Nesiguranţa în obţinerea hranei şi faptul că nu găsesc răspunsurile la întrebări cum ar fi cauza anotimpurilor sau originea animalelor, i-au făcut să acorde puteri deosebite unor plante şi animale sau unor fiinţe supranatura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imitivii cred că dacă nu acordă respectul cuvenit acestor fiinţe (prin dansuri şi ceremonii), ele se pot răzbuna refuzând să-i ajute la vânătoare şi cul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n loc aparte îl ocupă cultul morţilor. Obiceiul îngropării celor morţi cu daruri (ofrande) alături apare la sfârşitul paleoliticului, dar el se răspândeşte cu deosebire în timpul epocilor următoa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În neolitic, atunci când agricultura şi creşterea animalelor au devenit ocupaţiile de bază, în religia primitivă apar divinităţi care pot asigura recolte bogate şi turme numeroa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comp_i"/>
          <p:cNvPicPr/>
          <p:nvPr/>
        </p:nvPicPr>
        <p:blipFill>
          <a:blip r:embed="rId1"/>
          <a:stretch/>
        </p:blipFill>
        <p:spPr>
          <a:xfrm>
            <a:off x="5105520" y="1828800"/>
            <a:ext cx="3593880" cy="3594240"/>
          </a:xfrm>
          <a:prstGeom prst="rect">
            <a:avLst/>
          </a:prstGeom>
          <a:ln w="0">
            <a:noFill/>
          </a:ln>
        </p:spPr>
      </p:pic>
    </p:spTree>
  </p:cSld>
  <p:transition advTm="5000"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80773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Ce izvoare istorice sunt utilizate pentru cercetarea preistoriei 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izvoare arheolog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izvoare scri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izvoare numismat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Redaţi pe scurt înţelesul termenilo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preistor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homin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migraţ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În ce epoci ale preistoriei au fost realizate 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omesticirea animalel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metalurg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olăritu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s17</cp:lastModifiedBy>
  <dcterms:modified xsi:type="dcterms:W3CDTF">2012-06-18T11:35:55Z</dcterms:modified>
  <cp:revision>4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