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737C3-0CF6-4E4E-9C6D-BA306F6CC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090E2-BEFF-42EA-8F65-4D6A9A5EA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F308F-8EF8-4379-A013-7085E94EB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28EF3-0D33-4969-AFC4-74D5A3BE5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B4D3A-56E9-4710-AF1D-E15A6E4A3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DD263-63B7-48C6-9370-AA08CDC00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6571F-00DB-464F-9A23-283B66CEB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1C9C0-E910-4F79-A2BD-B36F9CF11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D9049-C51F-4E1B-BBBA-2D7CE8F8D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2F5F8-4A96-45A9-8EDA-5077BA5E7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9187C-D95F-4B30-B7F5-D055862F7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7F358-E93E-4674-AD98-CEF203856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967F-326B-4932-B68E-A34E3D22B1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1066680" y="4419720"/>
            <a:ext cx="6172200" cy="5000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daptat după Manual de Psihologie, clasa a X-a, coordonator Mielu </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7" name="Picture 12" descr="comp_i"/>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1" presetSubtype="2">
                                  <p:stCondLst>
                                    <p:cond delay="0"/>
                                  </p:stCondLst>
                                  <p:childTnLst>
                                    <p:animClr clrSpc="rgb">
                                      <p:cBhvr>
                                        <p:cTn id="6" dur="2000" fill="hold"/>
                                        <p:tgtEl>
                                          <p:spTgt spid="46"/>
                                        </p:tgtEl>
                                        <p:attrNameLst>
                                          <p:attrName>fillcolor</p:attrName>
                                        </p:attrNameLst>
                                      </p:cBhvr>
                                      <p:to>
                                        <a:srgbClr val="ffff09"/>
                                      </p:to>
                                    </p:animClr>
                                    <p:set>
                                      <p:cBhvr>
                                        <p:cTn id="7" dur="2000" fill="hold"/>
                                        <p:tgtEl>
                                          <p:spTgt spid="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cp:lastModifiedBy>
  <dcterms:modified xsi:type="dcterms:W3CDTF">2010-08-28T10:17:48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