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CB551-B496-4A19-962C-3866D5B1E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436A-C7AF-40A5-BD56-88867021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D37B2-F21E-41F6-A28A-983CE65C3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B3F47-6D18-4E03-9A14-DF741795F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04CC8-3754-479A-8ED5-83BE91DAC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3BC38-C6BC-4AD9-8B5C-C67604334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D5F9C-9DF7-4544-9A61-D7A506FEF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DEB53-7639-4FBF-A319-316E5F49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0F34-0C83-4C97-8449-A221BA1AD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CB5BA-61F1-4519-BA0B-87A47374C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BF4D5-6E3A-4922-A88B-DA3C78F5F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AB39-A38B-47CF-9FDB-AC89FA368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7D19C-149E-4667-8678-32FAF9EC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146FD-7D8E-43AD-B67F-68D7358A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B6AC7-E99E-46F9-A7E5-556313B66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7BFD5-859E-4487-8BB5-645C4433D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A59C9-6C23-4B33-BC48-76E07AA21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49298-9DC9-488F-904E-E810285D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23A8-F2AC-4846-AB6F-08C5475B2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FE78F-D6CC-4B55-BE81-85960369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ABE33-1ED1-45DC-8B18-35829F3A1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982E-42B6-4851-BD24-4583E085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E5658-FC05-4098-A490-4DBC2FE89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14B4-2259-4B9C-8183-9148FB833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7FE2-13AA-43CD-B64D-E66A2F8D0B26}"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DD96-EB10-46CE-8868-1936567BB6BE}"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SIMFONIA</a:t>
            </a:r>
            <a:r>
              <a:rPr b="1" lang="en-US" sz="1700" spc="-1" strike="noStrike">
                <a:solidFill>
                  <a:srgbClr val="c4c3aa"/>
                </a:solidFill>
                <a:latin typeface="Arial"/>
              </a:rPr>
              <a:t> </a:t>
            </a:r>
            <a:endParaRPr b="0" lang="en-US" sz="1700" spc="-1" strike="noStrike">
              <a:solidFill>
                <a:srgbClr val="c4c3aa"/>
              </a:solidFill>
              <a:latin typeface="Arial"/>
            </a:endParaRPr>
          </a:p>
        </p:txBody>
      </p:sp>
      <p:sp>
        <p:nvSpPr>
          <p:cNvPr id="330"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Verdana"/>
            </a:endParaRPr>
          </a:p>
        </p:txBody>
      </p:sp>
      <p:sp>
        <p:nvSpPr>
          <p:cNvPr id="33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3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Picture 10" descr=""/>
          <p:cNvPicPr/>
          <p:nvPr/>
        </p:nvPicPr>
        <p:blipFill>
          <a:blip r:embed="rId1">
            <a:grayscl/>
          </a:blip>
          <a:stretch/>
        </p:blipFill>
        <p:spPr>
          <a:xfrm>
            <a:off x="5214960" y="92880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Verdana"/>
            </a:endParaRPr>
          </a:p>
        </p:txBody>
      </p:sp>
      <p:sp>
        <p:nvSpPr>
          <p:cNvPr id="33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9</cp:lastModifiedBy>
  <dcterms:modified xsi:type="dcterms:W3CDTF">2012-06-19T10:51:36Z</dcterms:modified>
  <cp:revision>46</cp:revision>
  <dc:subject/>
  <dc:title>SALARIUL</dc:title>
</cp:coreProperties>
</file>