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58DBDC-C668-4B3A-9306-FF596C2F4F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6F939-9901-4E62-A97B-C6E99E72D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C9AB8C-3629-4E4C-9468-014BD9F6AE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3B8985-70D0-4193-BCFC-6769ED69AC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1314D-74D9-4774-9192-A5C30AB05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79040-1C6D-410C-8D54-0ABC22A88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A995D-2A05-4D9F-AC05-975E84D25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86158-5E4D-455B-B21F-475FCAD9F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D96E4-5FE3-4C36-9CC7-6923BB4D3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D43B6-2FBA-4828-8404-CC440B34E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E936F-8CC3-4367-89A2-80DF3398E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738ED-9F41-4E58-9376-CDBE3D06A8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57984-D81E-4631-8626-A488CF9673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457200" y="3886200"/>
            <a:ext cx="8153280" cy="1752480"/>
          </a:xfrm>
          <a:prstGeom prst="rect">
            <a:avLst/>
          </a:prstGeom>
          <a:noFill/>
          <a:ln w="0">
            <a:noFill/>
          </a:ln>
        </p:spPr>
        <p:txBody>
          <a:bodyPr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Times New Roman"/>
              </a:rPr>
              <a:t>(Adaptat după </a:t>
            </a:r>
            <a:r>
              <a:rPr b="0" i="1" lang="ro-RO" sz="1000" spc="-1" strike="noStrike">
                <a:solidFill>
                  <a:srgbClr val="000000"/>
                </a:solidFill>
                <a:latin typeface="Arial"/>
                <a:ea typeface="Times New Roman"/>
              </a:rPr>
              <a:t>Manualul de Fizică, clasa a IX-a</a:t>
            </a:r>
            <a:r>
              <a:rPr b="0" lang="ro-RO" sz="1000" spc="-1" strike="noStrike">
                <a:solidFill>
                  <a:srgbClr val="000000"/>
                </a:solidFill>
                <a:latin typeface="Arial"/>
                <a:ea typeface="Times New Roman"/>
              </a:rPr>
              <a:t>, Mircea Nistor, Mircea Rusu)</a:t>
            </a:r>
            <a:r>
              <a:rPr b="0" lang="en-GB" sz="1000" spc="-1" strike="noStrike">
                <a:solidFill>
                  <a:srgbClr val="000000"/>
                </a:solidFill>
                <a:latin typeface="Arial"/>
                <a:ea typeface="Times New Roman"/>
              </a:rPr>
              <a:t> </a:t>
            </a:r>
            <a:r>
              <a:rPr b="0" i="1" lang="ro-RO" sz="1000" spc="-1" strike="noStrike">
                <a:solidFill>
                  <a:srgbClr val="000000"/>
                </a:solidFill>
                <a:latin typeface="Arial"/>
                <a:ea typeface="Times New Roman"/>
              </a:rPr>
              <a:t>	</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3"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4" name=""/>
          <p:cNvSpPr txBox="1"/>
          <p:nvPr/>
        </p:nvSpPr>
        <p:spPr>
          <a:xfrm>
            <a:off x="2814480" y="3116160"/>
            <a:ext cx="35150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Sesiunea iunie-iulie</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914040" y="1371240"/>
            <a:ext cx="4267080" cy="4419720"/>
          </a:xfrm>
          <a:prstGeom prst="rect">
            <a:avLst/>
          </a:prstGeom>
          <a:noFill/>
          <a:ln w="0">
            <a:noFill/>
          </a:ln>
          <a:effectLst>
            <a:outerShdw dist="107932" dir="13500000" blurRad="0" rotWithShape="0">
              <a:srgbClr val="808080">
                <a:alpha val="50000"/>
              </a:srgbClr>
            </a:outerShdw>
          </a:effectLst>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ulţi paşi importanţi s-au făcut în înţelegerea şi controlul luminii folosind doar lumina lumânărilor. Astăzi însă ai la îndemână surse de lumină mult mai convenabil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 lanternă poate fi aprinsă şi stinsă prin simpla apăsare a  unui buton. Ea trimite un fascicul intens de lumină sub forma unui con. Poţi vedea foarte clar forma fasciculului într-o seară cu ceaţă sau în apa unui acvariu în care ai pus câteva picături de lap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in păcate, fasciculul este larg de îndată ce părăseşte lanterna şi este din ce în ce mai larg pe măsură ce se îndepărtează. Este un fascicul larg şi divergent. Un fascicul mai subţire şi mai puţin divergent ţi-ar fi mai util.</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 sursă mai convenabilă de lumină este un indicator laser.</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şi sunt mai mici decât o lanternă, indicatoarele laser emit lumină foarte strălucitoare, mult mai strălucitoare decât Soarele! Din acest motiv, pe acestea sunt aplicate etichete de avertizare.</a:t>
            </a:r>
            <a:endParaRPr b="0" lang="en-US" sz="1200" spc="-1" strike="noStrike">
              <a:solidFill>
                <a:srgbClr val="000000"/>
              </a:solidFill>
              <a:latin typeface="Arial"/>
            </a:endParaRPr>
          </a:p>
        </p:txBody>
      </p:sp>
      <p:pic>
        <p:nvPicPr>
          <p:cNvPr id="46" name="Content Placeholder 5" descr="comp_i.jpg"/>
          <p:cNvPicPr/>
          <p:nvPr/>
        </p:nvPicPr>
        <p:blipFill>
          <a:blip r:embed="rId1"/>
          <a:stretch/>
        </p:blipFill>
        <p:spPr>
          <a:xfrm>
            <a:off x="5334120" y="1828800"/>
            <a:ext cx="2523960" cy="252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61760" y="274680"/>
            <a:ext cx="7467480" cy="48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ta</dc:creator>
  <dc:description/>
  <dc:language>en-US</dc:language>
  <cp:lastModifiedBy>s13a3</cp:lastModifiedBy>
  <dcterms:modified xsi:type="dcterms:W3CDTF">2012-06-18T11:02:50Z</dcterms:modified>
  <cp:revision>2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