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1F0B-D1BF-40E3-BE19-862C7D30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305C-14DF-4634-9742-2123B470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2663-7254-4A71-8DEE-A0FA0510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FB88-20C5-4654-A9F0-86F92EAD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E8C8-8127-4669-ADB1-0B5B588A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4939-85C7-4AF4-84FD-4A51A5A8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2675-52F9-4A3C-9976-FB72880C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FDED-0E42-4C68-927A-5DCC095C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A577-D7F4-48D9-872A-E3A1F4B2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FE3D-3D26-458A-8E1A-D76D6EB6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1D66-A97A-4D0D-8F1F-72340073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232E-0CE7-49E8-9F4A-991D313D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AC9D-B8CB-4ACE-AC3B-899268FD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E6D0-877A-4067-817A-EE1DEDF6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AE80-2D7E-4822-8050-7D43399F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E228-EF8C-4D1D-B805-4E53085B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619E-D826-4DFC-8FB3-AED8077C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76F5-17BC-403E-A0D0-3D2C044E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2F7D-3FAA-41B9-A5EB-96E71463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7AB3-A605-49A3-B82A-1DE4F336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41F9-D37D-465B-9C3A-3F3D0921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3D11-22E7-4A9C-91F9-44E02858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726A-E519-4FB9-AD25-048DE53A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5BFF-D74D-484C-BFFD-1308F2FE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E96A-8D63-4592-A6AC-75052FADEE8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2B7C-A0FC-4F38-AA07-927670D4EED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9440"/>
            <a:ext cx="6400800" cy="6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9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a pentru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508720" y="155736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b3s7</cp:lastModifiedBy>
  <dcterms:modified xsi:type="dcterms:W3CDTF">2012-06-19T11:03:37Z</dcterms:modified>
  <cp:revision>30</cp:revision>
  <dc:subject/>
  <dc:title>SALARIUL</dc:title>
</cp:coreProperties>
</file>