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B7148-199C-4490-8401-47A8F8E4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E6607-DF40-43D7-91EC-3B16AF090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47EA0-0A9F-4EBD-ABF5-198863263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6FFC7-FE18-4B0A-9D72-B0F2956E6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59856-3196-4854-A648-50D709721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E237-6704-47B4-B413-1DDACFA3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96F1A-098A-4E9F-A4DC-BB53AADE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0835-5493-45A3-87FA-8B4365FE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CDFE-9324-4FE7-9CA5-CF121EBA3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8230-A7FF-4715-AD59-46A059BC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7C5B-5A0D-430F-8D01-6B36B345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7391-E63A-4480-9DAC-0B6DAB5A7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714B-3DF8-4895-A93D-E9FECC23C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p:nvPr/>
        </p:nvSpPr>
        <p:spPr>
          <a:xfrm>
            <a:off x="74628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txBox="1"/>
          <p:nvPr/>
        </p:nvSpPr>
        <p:spPr>
          <a:xfrm rot="18687000">
            <a:off x="811800" y="1702440"/>
            <a:ext cx="227664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SESIUNEA IUNIE-IULIE</a:t>
            </a:r>
            <a:endParaRPr b="0" lang="en-US" sz="1400" spc="1" strike="noStrike">
              <a:ln w="9360">
                <a:solidFill>
                  <a:srgbClr val="000000"/>
                </a:solidFill>
                <a:miter/>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9" name="Picture 8" descr=""/>
          <p:cNvPicPr/>
          <p:nvPr/>
        </p:nvPicPr>
        <p:blipFill>
          <a:blip r:embed="rId1"/>
          <a:stretch/>
        </p:blipFill>
        <p:spPr>
          <a:xfrm>
            <a:off x="5257800" y="1752480"/>
            <a:ext cx="2943360" cy="301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20</cp:lastModifiedBy>
  <dcterms:modified xsi:type="dcterms:W3CDTF">2012-04-12T08:10:41Z</dcterms:modified>
  <cp:revision>32</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