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EC2-5708-4EE2-B50C-AFC0EAE0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ACA-FFE2-4B1C-9BC1-6B420F07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B2D-7E3C-4CBC-B59A-AE5CCFE0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1AE-954B-4E6B-8805-1FD6A43D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4D3-595B-4158-B2CE-8BA07493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EE3-C577-4501-B00A-7A17C46E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B22-075D-4BD2-8723-816EB804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B99-1FB0-48E3-A506-D3BDC0F4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180-C5D4-411A-B469-4DEEE977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CFF-25B5-449B-A611-5A29A7A1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32E-5B8F-44B3-8F76-13948332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C04-B143-4DF8-B6B0-4F57B63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932-9091-4BC0-BFDD-35E001EF8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ÎMBRĂCĂMINTEA ROMANIL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nualul de Limba latină, clasa a IX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aniela Văduva, consultant principal I. Fische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8360" y="4724280"/>
            <a:ext cx="18478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oga, îmbrăcămintea oficială a cetăţeanului roman, (interzisă străinilor) era o piesă din lână albă (toga candida) tăiată în două semicercuri, ale căror dimensiuni ajungeau până la şase metri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 timp de doliu sau alte nenorociri se purta tog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culoare neagră (toga sordida). Aranjarea ei era destul de complicată şi cerea foarte multă mig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gistraţii şi băieţii cetăţenilor romani (până la 17 ani) purtau toga praetexta, toga tivită pe marg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o bandă de purpură. După ce deveneau majori, tinerii îmbrăcau toga virilă (toga viri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nica, haină de uz curent, strânsă pe talie cu ajutorul unei cingători (cinctura), era purtată, de obicei, pe sub tog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llium şi paenula (îmbrăcăminte pentru timpul rece) au înlocuit cu timpul tog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emeile purtau o tunică, cu sau fără mâneci, mai largă decât cea a bărbaţilor. Pe deasupra acesteia se punea stola, o cămaşă lungă până la glezne, strânsă pe talie cu o cingătoare. Peste stola se purta o manta simplă (ricinium), sau o haină mai mare (palla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0"/>
            <a:ext cx="921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mp_i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76500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gaţi la toate modurile şi timpurile din tema de perfect, verbele de mai jo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cludo, -ere, -s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stendo, -ere, -nd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do, -are, -avi, -at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cunoaşteţi următoarele forme verbale şi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enaviss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piv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luera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overimu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neru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alutaveritis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taţi propoziţiile următoare punând verbele la indicativ perfect.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esar post pugnam Ro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en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udius ab adulescentia in villa habit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ani longo bello Gallos vinc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40464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a3</cp:lastModifiedBy>
  <dcterms:modified xsi:type="dcterms:W3CDTF">2012-06-18T11:17:06Z</dcterms:modified>
  <cp:revision>45</cp:revision>
  <dc:subject/>
  <dc:title>SALARIUL</dc:title>
</cp:coreProperties>
</file>