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86DB-FC36-4DAC-AF98-19686973F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7ABB-E746-458C-A9A7-45CB5D2C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73EC-13FD-4501-B4B1-12A2CA13B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2987-BE4D-434A-AB1A-7D43C8B66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A23A-774F-4014-B04B-96928DFD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2DAA-6F6F-42FA-8625-5B306C16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6E27-0DA0-4D00-88D0-FC6377B1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027E-82D4-4E27-A5A5-1D6A0F63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CFE4-6E84-479A-ADC8-A69E79C1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0572-0608-428F-AAEA-489C859E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EFE7-4CAF-4D3F-BE32-6248D0B4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742A-3433-4A55-90B9-05C8D991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69E3-DB29-4484-8F06-40063224C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40384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comp_i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3-08T12:45:58Z</dcterms:modified>
  <cp:revision>2</cp:revision>
  <dc:subject>CNEE</dc:subject>
  <dc:title>CN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