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F307-2BE1-4D8F-B952-9082850B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A408-8529-45AD-815F-B0A9A6B1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D6DA-0B47-4F01-AC32-BC8ECC68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A493-6C36-4BD6-8EBB-7240024C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736F-5E41-4C7D-B3FC-E95D8C41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43DF-BE80-4505-87A2-B3F037CC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6A75-496C-4895-80B5-9AA1BCE2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194A-D04E-430A-85D8-5C4A7CB3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D5BD-613A-446F-AA95-326A937E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175F-9F29-4807-B8C7-C33F99EB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C13F-FFCA-4392-BE50-DBE16830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8B49-4FDF-4803-A55F-48CAC4A8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A6EF-0406-4192-BD12-70D8CCD04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429000" y="4876920"/>
            <a:ext cx="22096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esiunea iunie - iuli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advTm="5000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comp_i"/>
          <p:cNvPicPr/>
          <p:nvPr/>
        </p:nvPicPr>
        <p:blipFill>
          <a:blip r:embed="rId1"/>
          <a:stretch/>
        </p:blipFill>
        <p:spPr>
          <a:xfrm>
            <a:off x="5105520" y="1828800"/>
            <a:ext cx="3593880" cy="359424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</cp:lastModifiedBy>
  <dcterms:modified xsi:type="dcterms:W3CDTF">2012-06-18T11:06:09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