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F26-0942-407B-9D2D-57494F1D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05B-6C91-4D48-B026-A9FDFF46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9B3-4520-476D-9B2B-4D2E0F18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02B-EC58-44AA-AC38-151C3DA7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B9C-3456-4D7B-AD4A-1C1227A5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1FD-5FD1-4E83-A480-51DE9EFA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A0F6-71A8-45A7-8672-763F2A13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A8A-7AC3-4517-AFF3-47ECA58D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906-06D3-43B1-9328-6D91D54B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AC2-C631-4ECD-B9DF-3841DE58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B4E-90DA-41AE-AAE4-2831B36A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956-0893-4100-86C8-A50A5679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8D94-B479-439D-8A62-C1784E5CF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50920" y="62136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219640" y="1628640"/>
            <a:ext cx="31672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5:51Z</dcterms:modified>
  <cp:revision>32</cp:revision>
  <dc:subject/>
  <dc:title>SALARIUL</dc:title>
</cp:coreProperties>
</file>