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2D115-2203-4475-A670-1F98E8258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1AADA-DECB-43A8-A399-4AB44CFC5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C4F5E-0179-4E24-B86E-36488A1CE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D579D-C099-420E-87B8-A91149810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49233-09F9-4030-957B-E3DC4F682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865A5-1238-41AB-B04C-589498BEF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EFC79-8E05-420C-A8D2-B0F946747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BC4BD-ECF2-43DA-A42F-910ADA394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2C170-E75F-4ACF-9BB6-D9CBD1B57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F010C-3C50-4A8E-A2D4-E7C1AA908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274D3-65AD-4D97-A805-83144F877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C3870-B9F8-4F95-8114-7F6E9496E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6670-C6BA-4CAA-8CE2-8010C2BC63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4379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fade" transition="in">
                                      <p:cBhvr additive="repl">
                                        <p:cTn id="12"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grayscl/>
          </a:blip>
          <a:srcRect l="19700" t="50010" r="15700" b="40000"/>
          <a:stretch/>
        </p:blipFill>
        <p:spPr>
          <a:xfrm>
            <a:off x="5738760" y="3400560"/>
            <a:ext cx="1474920" cy="22860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2-06-19T11:18:14Z</dcterms:modified>
  <cp:revision>27</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