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ECDA3-227C-4F73-B55E-B9C8FEA7B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1A627-53E5-4580-9C2F-2DA33AB4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C3249-1DCC-4610-972C-989DAB776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CB186-717E-4695-B64E-86E866F96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B0C9-6949-4821-984B-0534CF56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FA3D8-A42C-4486-89AA-D9280D040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B371-5C23-49B4-96C9-912FAF57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8D02-2842-460A-ACB6-B2A162EC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75537-A48F-4B0D-B250-F25FD9F1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8553-FD28-4D80-861F-7176A507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4E33-F0F9-4ECD-8343-38BD5951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0BF1-A48F-4689-A4BE-F70C387B1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5B06-C70C-4BF8-8AE2-AFFD42124C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grayscl/>
          </a:blip>
          <a:stretch/>
        </p:blipFill>
        <p:spPr>
          <a:xfrm>
            <a:off x="5148360" y="981000"/>
            <a:ext cx="1439640" cy="134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1:35Z</dcterms:modified>
  <cp:revision>46</cp:revision>
  <dc:subject/>
  <dc:title>SALARIUL</dc:title>
</cp:coreProperties>
</file>