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4ED-D6F9-4139-B001-9AF087C5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FEE-7A03-4A28-9B47-7FE7450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1F0-1384-4039-B589-FDDED48B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A71-C45F-4B43-909F-27D9FEB3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B85-E2E5-44A1-8EA9-6BE06DD3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D65-52EA-4E38-835C-FFA8D91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9BF-802C-4DED-BD3B-B76240E3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0AF-C534-4F26-B50A-0841EF6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D2C-78C6-4C3F-B1EC-3C0B488A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533-F0D9-46BC-BD2D-C0391AA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5FA-FB27-41C2-94EA-6DAEAC0A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5C6-9515-4A14-9EA4-EA4B388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51C-95B5-47FE-96D3-D68A0CE8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rcRect l="0" t="9999" r="0" b="9999"/>
          <a:stretch/>
        </p:blipFill>
        <p:spPr>
          <a:xfrm>
            <a:off x="5181480" y="762120"/>
            <a:ext cx="3600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7b2</cp:lastModifiedBy>
  <dcterms:modified xsi:type="dcterms:W3CDTF">2012-06-19T10:51:2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