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F2C-87E5-4A73-90E0-3A2104EF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DB3-4074-4750-B326-458F3B8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290-EE66-4FF7-B500-2F28AB5E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097-E360-4C10-A090-CE488F3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85A8-AF66-4D49-9C25-62653432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149-01B9-44EA-9399-61BD6ABE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832B-6A49-40BB-8042-D06F141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566-F36E-4A6F-B1A2-3CA72AE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BB4A-653B-4199-A698-60A3A20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4FE2-D807-4978-9248-46AAC97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FE91-A81A-44F4-83F8-C488DEE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A9C-DA33-42F8-8BBB-191E77C7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724A-4E6E-4F4B-8F43-9B35B55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BA12-82A1-44CC-AB88-EFF196D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15B-314A-4366-AF45-D8C7FA9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83D5-4949-4CD7-A70B-6F80E17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855-7A54-47E8-87D7-7C02518A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25E-BF8C-497F-A834-DD12B412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C54-6161-4074-A73C-DBBA4847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098-D5CA-4144-B0B8-28879DF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80A-0124-4E88-B56B-51D6C16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C7F-E90D-4B5F-9A15-6CB3B86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28E-F5FA-4878-97F7-AA9ED1C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2FE-A0C1-4F31-AF7A-7391D95B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93F-1C78-4097-9019-66EFAD48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DBA0-44B5-4BEB-8314-002ACE9D2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26d18"/>
                </a:solidFill>
                <a:latin typeface="Times New Roman"/>
              </a:rPr>
              <a:t>APARIŢIA ŞI RĂSPÂNDIREA CREŞTINISMULUI</a:t>
            </a: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a26d18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5840" y="3736440"/>
            <a:ext cx="67802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09880" y="3166920"/>
            <a:ext cx="5924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aptat după Manualul de Istorie, clasa a V-a, Zoe Petre,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49731" t="19594" r="-39775" b="15616"/>
          <a:stretch/>
        </p:blipFill>
        <p:spPr>
          <a:xfrm>
            <a:off x="6705720" y="1828800"/>
            <a:ext cx="325908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3a3</cp:lastModifiedBy>
  <dcterms:modified xsi:type="dcterms:W3CDTF">2012-06-19T11:02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