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3" end="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E2170-61D5-41E4-8FC8-3A52CC0C4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0D576-70BB-49EE-9847-4D1F389F8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80F54-1E88-4740-81F2-5109AF12F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0A220-3760-49CF-AFF5-C27360759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2B73C-3D64-477D-B290-C12A72246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4F1C7-B022-48F7-88AA-D1BB2F323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1A7C1-65A6-45EB-9C68-9D6104C75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42BB8-3E24-4D53-A6DE-51ADB545E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3AF38-2BFD-48DC-875C-F886361AF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B8CB1-30D4-441C-B0A6-121EB4C3C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FF320-38E6-4731-98F4-A65EC7035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04022-D11A-47F7-AE80-B2185E8F9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3445F-752C-4EB0-B0F5-E2A6AE00C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37551-C2E7-42CF-A259-0CD541EDC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3FA52-9855-4691-9178-F1245D132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97D46-E647-4D24-936B-79D5D02A0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9A374-BE12-4F7B-9781-C78332931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FD65EC-134E-4016-96EF-5A9D65C788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F6FAEC-C439-450F-96EF-F6C50772D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80EA3-455D-4130-BAE8-90F4C5E8F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6080E-5988-40E3-A38B-18113B655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C9606-CF58-4D29-949A-358262C5A7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83742-1AFD-417A-9F5D-7782BD00B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A4554-A2BB-4A71-913E-F3BDF470A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ED9A3-818B-46BB-B6EF-62620E7B1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CD853-34FA-4BFD-BBF5-D91C8BA6D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5C7F9-C2F6-4B91-BFD7-09A2BA576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EB89D-54C3-4A41-91C8-1592091968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562A55-B867-4BA6-AAC8-B9A7294065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623234-18FB-4203-9A34-F862BF13EA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FD40C5-3E34-4EED-8DD6-34EFF3AA8B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00E08-AA09-486E-B723-8A869ECC5B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1EF6E-C694-40F7-94AC-AB71B07B16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065A8-FF02-4769-B6EA-8ED8C3E64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91A681-0BEB-4691-A36F-FBEC0459E9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832919-7164-4785-9595-C804FA20B0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174776-BB66-43D1-A785-9DA49B104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D5EA0A-247E-49AC-B3BD-952D46AC9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119B5-AA52-4CC9-9E80-7D3A02A5C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E871E-F863-49CD-B7B0-BC3299E2C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6F08FC-BDCA-47D3-AD2F-8FDD346E25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315BC8-531E-4365-9A35-45C83729BF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32AD86-F137-4D64-9261-1C0D3FB315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34EAF-1080-4573-BD8C-5A76328E9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05916-211B-49D0-B4D6-3B09D3725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230B-BBF6-4953-A8A8-0823F81D3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4579-A59F-4814-96BB-855472147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A0F0-714B-4408-B3FC-DB354AFE1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1C18-3C68-4830-AE75-BFB463F10E0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4A1D-46B2-4169-A9C7-EF45AF97BEF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59" name=""/>
          <p:cNvGrpSpPr/>
          <p:nvPr/>
        </p:nvGrpSpPr>
        <p:grpSpPr>
          <a:xfrm>
            <a:off x="0" y="0"/>
            <a:ext cx="9140760" cy="6851520"/>
            <a:chOff x="0" y="0"/>
            <a:chExt cx="9140760" cy="6851520"/>
          </a:xfrm>
        </p:grpSpPr>
        <p:sp>
          <p:nvSpPr>
            <p:cNvPr id="16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72" name=""/>
            <p:cNvGrpSpPr/>
            <p:nvPr/>
          </p:nvGrpSpPr>
          <p:grpSpPr>
            <a:xfrm>
              <a:off x="304920" y="3625920"/>
              <a:ext cx="1990440" cy="1465200"/>
              <a:chOff x="304920" y="3625920"/>
              <a:chExt cx="1990440" cy="1465200"/>
            </a:xfrm>
          </p:grpSpPr>
          <p:sp>
            <p:nvSpPr>
              <p:cNvPr id="173"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4"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4"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8"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9"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91"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3"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0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20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20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3F73-DA64-46F7-B3F8-A4A9BBED8172}"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39" name=""/>
          <p:cNvGrpSpPr/>
          <p:nvPr/>
        </p:nvGrpSpPr>
        <p:grpSpPr>
          <a:xfrm>
            <a:off x="0" y="0"/>
            <a:ext cx="9140760" cy="6851520"/>
            <a:chOff x="0" y="0"/>
            <a:chExt cx="9140760" cy="6851520"/>
          </a:xfrm>
        </p:grpSpPr>
        <p:sp>
          <p:nvSpPr>
            <p:cNvPr id="24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252" name=""/>
            <p:cNvGrpSpPr/>
            <p:nvPr/>
          </p:nvGrpSpPr>
          <p:grpSpPr>
            <a:xfrm>
              <a:off x="304920" y="3625920"/>
              <a:ext cx="1990440" cy="1465200"/>
              <a:chOff x="304920" y="3625920"/>
              <a:chExt cx="1990440" cy="1465200"/>
            </a:xfrm>
          </p:grpSpPr>
          <p:sp>
            <p:nvSpPr>
              <p:cNvPr id="253"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4"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3"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4"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8"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9"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7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7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28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28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44D8-D1AE-4746-A53B-0FEEDC2F8C3E}"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FRUMOSUL</a:t>
            </a:r>
            <a:endParaRPr b="0" lang="en-US" sz="1400" spc="-1" strike="noStrike">
              <a:solidFill>
                <a:srgbClr val="ffff99"/>
              </a:solidFill>
              <a:latin typeface="Arial"/>
            </a:endParaRPr>
          </a:p>
        </p:txBody>
      </p:sp>
      <p:sp>
        <p:nvSpPr>
          <p:cNvPr id="319" name="PlaceHolder 2"/>
          <p:cNvSpPr>
            <a:spLocks noGrp="1"/>
          </p:cNvSpPr>
          <p:nvPr>
            <p:ph type="subTitle"/>
          </p:nvPr>
        </p:nvSpPr>
        <p:spPr>
          <a:xfrm>
            <a:off x="1371600" y="38890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Estetică, clasa a XII-a,</a:t>
            </a:r>
            <a:r>
              <a:rPr b="0" lang="ro-RO" sz="1000" spc="-1" strike="noStrike">
                <a:solidFill>
                  <a:srgbClr val="ffffff"/>
                </a:solidFill>
                <a:latin typeface="Arial"/>
              </a:rPr>
              <a:t> Adrian Iorgulescu, Doina Pungă, Gheorghe Stroia)</a:t>
            </a:r>
            <a:endParaRPr b="0" lang="en-US" sz="1000" spc="-1" strike="noStrike">
              <a:solidFill>
                <a:srgbClr val="ffffff"/>
              </a:solidFill>
              <a:latin typeface="Verdana"/>
            </a:endParaRPr>
          </a:p>
        </p:txBody>
      </p:sp>
      <p:sp>
        <p:nvSpPr>
          <p:cNvPr id="320"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
        <p:nvSpPr>
          <p:cNvPr id="321"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siunea iunie - iulie</a:t>
            </a:r>
            <a:endParaRPr b="0" lang="en-US" sz="1000" spc="-1" strike="noStrike">
              <a:solidFill>
                <a:srgbClr val="ffffff"/>
              </a:solidFill>
              <a:latin typeface="Arial"/>
            </a:endParaRPr>
          </a:p>
        </p:txBody>
      </p:sp>
      <p:sp>
        <p:nvSpPr>
          <p:cNvPr id="322" name=""/>
          <p:cNvSpPr txBox="1"/>
          <p:nvPr/>
        </p:nvSpPr>
        <p:spPr>
          <a:xfrm>
            <a:off x="2690640" y="3143160"/>
            <a:ext cx="3762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siunea iunie-iuli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3"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324"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25" name="Picture 8" descr=""/>
          <p:cNvPicPr/>
          <p:nvPr/>
        </p:nvPicPr>
        <p:blipFill>
          <a:blip r:embed="rId1"/>
          <a:stretch/>
        </p:blipFill>
        <p:spPr>
          <a:xfrm>
            <a:off x="5292720" y="1773360"/>
            <a:ext cx="3333600" cy="3333600"/>
          </a:xfrm>
          <a:prstGeom prst="rect">
            <a:avLst/>
          </a:prstGeom>
          <a:ln w="0">
            <a:noFill/>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6"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rile de existenţă ale frumosului.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natural, asigurat de existenţa elementelor primordiale: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can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z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m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logice.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uman, constituit din:</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corpului omenesc, alcătuită în principal din elemente naturale, native, dar şi dintr-o îndelungată şlefuire civilizatoar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sufletească, rezultat aproape integral al eforturilor de înnobilare umană;</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etică a vastelor relaţii dintre oameni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ambientală a locului şi rezultatele muncii omeneşti.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artistic. Existenţa sa este asigurată […] d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ourile reflectării frumuseţii din realitate;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ăţile demiurgice ale omului de artă care, pornind de la lumea reală, făureşte o realitate nouă.[…]</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4</cp:lastModifiedBy>
  <dcterms:modified xsi:type="dcterms:W3CDTF">2012-06-18T10:59:46Z</dcterms:modified>
  <cp:revision>39</cp:revision>
  <dc:subject/>
  <dc:title>SALARIUL</dc:title>
</cp:coreProperties>
</file>