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A6B-45FE-4F4D-AC00-5312F349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72E-5BC5-4558-930D-BFC0E859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21E-A1FB-43C7-BDE3-9873379C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AF2-4D08-4F45-A786-BC012DF0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998-309A-4152-9A10-FABBFA91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07F-BA46-4C38-B452-974B10E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27C-018A-4590-88D6-F4ACE9E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BE4-A973-42CD-9A69-1C121C0C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8C5-259F-4015-A372-9EF76107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467-2CCB-4885-96C1-B39F611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D0C-0645-4459-8693-C57BFA0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49A-7FC3-4414-BA8A-2199BF7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684E-B64F-4CE7-B840-737C62730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508720" y="1557360"/>
            <a:ext cx="561960" cy="722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1:58Z</dcterms:modified>
  <cp:revision>30</cp:revision>
  <dc:subject/>
  <dc:title>SALARIUL</dc:title>
</cp:coreProperties>
</file>