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FA0-9680-4B94-BD72-DE7F42FE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99C-C6B1-4FC0-AB89-8548F923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4D7-2D5E-4B13-88A5-EE33332A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655-09F6-42F8-A723-7729571A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59A-BA4B-427E-92D7-CF093380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2AE-A84A-4CE1-BFBF-DB8B3BD3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1CC-77BC-499A-9D9A-3AC30DEA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A76-403E-4ECB-BAA7-D08EA3AE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C64-12F0-4737-9365-89535D4C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80C-8253-4DC9-8DB1-4A128199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B91-EAEA-4D9F-8709-EE9D1A6D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2AC-A876-4411-B2BC-B41C5E6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48B9-C408-4735-B615-F197A499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4875120" y="1446120"/>
            <a:ext cx="709560" cy="7095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5a3</cp:lastModifiedBy>
  <dcterms:modified xsi:type="dcterms:W3CDTF">2012-06-19T11:27:40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