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9AE-1350-4872-81D8-6EF046A8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B8B-8519-4E52-87EF-926B29B9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A7A-8D29-4CDD-88AC-5AD2508E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400-34CE-440F-9EDF-29F19624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6357-1EF2-452D-BDBA-82A44F94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6477-0410-4A74-BEE2-A050BF7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BF12-3C93-457D-8BDB-E2C45E74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359C-369B-47D8-B50A-06B47092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99BA-205F-4547-BAA4-06844829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2885-3F52-49C8-A166-79B1410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5C55-14B1-4AD9-BE38-DCAB370F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7F5-E1E0-4E7E-AB0D-2605D7D2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9A72-FCB7-41DF-AB53-2E1044B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C708-3770-4C4D-8743-4B77D455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49A3-51CE-4144-A5FE-AB6B97D8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2D9D-7055-487B-A979-1C702EE2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E54F-510A-4171-B94D-D88ED75F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897-E187-455E-B87E-2203B40C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2EA-9154-4807-AFEE-033C1B9C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757-DA4E-400C-A348-E6695D06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085-61A2-4CC7-AD7A-B33901F3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F1E-19A4-4728-B2CC-1DCF9DC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0A5-562E-4229-9710-EF15317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35D-1B2B-49CF-AE7E-56C0F67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97B9-8364-425A-8EF9-E0C70568F0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EA6F-BEED-44A8-BFE0-1C2216010A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889080"/>
            <a:ext cx="604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4:28Z</dcterms:modified>
  <cp:revision>31</cp:revision>
  <dc:subject/>
  <dc:title>SALARIUL</dc:title>
</cp:coreProperties>
</file>