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4CF4-998B-4E55-907E-1EB84185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E08-47EF-42D5-A38B-1ABF13BA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A50-D430-49D1-9637-051264E3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E87E-00F4-4DC6-BB11-776C1A78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5C0-F25A-41DC-AEC8-3991D6BF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99CD-9793-4C06-A691-19F6F7D3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38C-7693-4CFE-A8AE-9D70766F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A0D-3090-40A6-BB83-82FE3A2A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F2B-635E-4050-875B-5A767877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E96-94AB-4D1A-AF00-F4D82E95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716-EADC-490C-B5A5-5AD8F067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443-6132-44A8-9AEB-7E25B127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EECF-87EB-42CF-B278-8E7A91230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68360" y="18900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grayscl/>
            <a:lum contrast="-6000"/>
          </a:blip>
          <a:stretch/>
        </p:blipFill>
        <p:spPr>
          <a:xfrm>
            <a:off x="5508720" y="1557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0a3</cp:lastModifiedBy>
  <dcterms:modified xsi:type="dcterms:W3CDTF">2012-06-19T11:00:10Z</dcterms:modified>
  <cp:revision>30</cp:revision>
  <dc:subject/>
  <dc:title>SALARIUL</dc:title>
</cp:coreProperties>
</file>