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B3FBD-9F4F-4F05-BDA0-BED60D094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15781-05BD-4659-981C-A9C11541E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EDB2D-A7C4-436C-8912-B9D14F249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E5814-0FE0-470C-8C80-D373FECB0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2C39B-7346-4054-8B03-0FC05076C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A1289-04B9-47F0-9E9E-911B93C65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D0EED-ECD3-4E4A-A592-FA690A183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D770D-B6FF-4355-925D-E60BCBAF8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A82E6-C874-4847-A935-6095C20BD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9F396-C40C-4E76-9DC9-EF74CD48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F1864-D0C8-45BE-A095-95F7C4BFC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5740-CF93-496B-9AF7-3522E898B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0192-8DD3-4D2B-A062-5037C004B6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2:51:17Z</dcterms:modified>
  <cp:revision>42</cp:revision>
  <dc:subject/>
  <dc:title>SALARIUL</dc:title>
</cp:coreProperties>
</file>