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45383-BF28-411D-AFE6-4307B2D9F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066D7-9BAE-4F71-87AB-10992080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7A4E5-08A6-4378-801F-C89F1B322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41090-4AC0-47C4-BE3C-ACB323B24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4B2A9-97B8-48CB-B3FC-D2652599D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8C9EA-B27A-411F-8CFB-4CF52E4CA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4977E-99E9-4759-821E-27864B8ED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748FA-68BD-4431-94C5-31584D6AB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94EFC-D64E-49E9-9F78-CEAB5E353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AC341-DBB6-4CF1-86E9-E45855FC0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EF37F-C701-465B-BED0-7AC6A3E63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0E39-FDBF-48AA-AE90-E7315A9D7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C4E3B-97EB-4B4C-B188-0B3A59785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2745F-53CB-48E7-9F4C-13DCE502D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931DE-6823-4084-8481-958CBC899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6F741-006B-4B03-89D0-B466C384F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45A53-265F-4CAC-86B5-7E7E5495A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280E-4962-49FC-8919-BE1CC9630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A7162-8AFC-4CAC-BD05-AEC3E52B4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1444-00D3-4670-8E03-02FAF200E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F527-6277-463A-8DD1-037F4582D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6CB3-6867-48DF-AA82-63D87141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6F6A5-0C70-45BF-AE78-CCF888557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4D3E-280F-47A2-B355-D0069ED38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3016-CD9F-4DE4-8224-837C38F0B8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EEDF-530E-4C72-9FCF-AE18F5A631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IMFONIA</a:t>
            </a:r>
            <a:r>
              <a:rPr b="1" lang="en-US" sz="1800" spc="-1" strike="noStrike">
                <a:solidFill>
                  <a:srgbClr val="ccecff"/>
                </a:solidFill>
                <a:latin typeface="Arial"/>
              </a:rPr>
              <a:t> </a:t>
            </a:r>
            <a:endParaRPr b="0" lang="en-US" sz="1800" spc="-1" strike="noStrike">
              <a:solidFill>
                <a:srgbClr val="ccecff"/>
              </a:solidFill>
              <a:latin typeface="Arial"/>
            </a:endParaRPr>
          </a:p>
        </p:txBody>
      </p:sp>
      <p:sp>
        <p:nvSpPr>
          <p:cNvPr id="21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Arial"/>
            </a:endParaRPr>
          </a:p>
        </p:txBody>
      </p:sp>
      <p:sp>
        <p:nvSpPr>
          <p:cNvPr id="21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0"/>
                                        </p:tgtEl>
                                        <p:attrNameLst>
                                          <p:attrName>style.visibility</p:attrName>
                                        </p:attrNameLst>
                                      </p:cBhvr>
                                      <p:to>
                                        <p:strVal val="visible"/>
                                      </p:to>
                                    </p:set>
                                    <p:animEffect filter="dissolve" transition="in">
                                      <p:cBhvr additive="repl">
                                        <p:cTn id="7" dur="5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Arial"/>
            </a:endParaRPr>
          </a:p>
        </p:txBody>
      </p:sp>
      <p:sp>
        <p:nvSpPr>
          <p:cNvPr id="21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15" name="Picture 10" descr=""/>
          <p:cNvPicPr/>
          <p:nvPr/>
        </p:nvPicPr>
        <p:blipFill>
          <a:blip r:embed="rId1">
            <a:grayscl/>
          </a:blip>
          <a:stretch/>
        </p:blipFill>
        <p:spPr>
          <a:xfrm>
            <a:off x="5214960" y="928800"/>
            <a:ext cx="1440000" cy="143964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Arial"/>
            </a:endParaRPr>
          </a:p>
        </p:txBody>
      </p:sp>
      <p:sp>
        <p:nvSpPr>
          <p:cNvPr id="217"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a3</cp:lastModifiedBy>
  <dcterms:modified xsi:type="dcterms:W3CDTF">2012-06-09T23:23:01Z</dcterms:modified>
  <cp:revision>47</cp:revision>
  <dc:subject/>
  <dc:title>SALARIUL</dc:title>
</cp:coreProperties>
</file>