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0A241-7201-4FAC-ADDB-253F5C9EB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4BD73-B9F9-4219-A9E2-CD89CC74A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66AEE-0612-4F7A-AF69-39AD28EE2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E6EE5-0156-4037-8479-C3C389BBC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CA778-F6AD-4803-AE47-D3627FDDA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2F3A4-8549-434F-8DB6-80432F0AE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47A6E-200C-4E60-A96A-400E9AC87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61101-8161-4CCF-860A-42811918E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D5A23-F2CD-439B-B20E-ABF2D2693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461EF-C0F0-4B85-8C13-51EB76642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34236-24F1-49DB-88B1-544727396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27986-125F-4834-BC90-C3EB15FDA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6214D-2CB5-4118-A089-D2383291BA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12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UMOS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32000" y="270792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stetică, clasa a XII-a,</a:t>
            </a:r>
            <a:r>
              <a:rPr b="0" lang="ro-RO" sz="1000" spc="-1" strike="noStrike">
                <a:solidFill>
                  <a:srgbClr val="000000"/>
                </a:solidFill>
                <a:latin typeface="Arial"/>
              </a:rPr>
              <a:t> Adrian Iorgulescu, Doina Pungă, Gheorghe Stroia)</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p:nvPr/>
        </p:nvSpPr>
        <p:spPr>
          <a:xfrm>
            <a:off x="684360" y="3213000"/>
            <a:ext cx="7705440" cy="2831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natural, asigurat de existenţa elementelor primordiale: </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mecanice;</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zice;</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himice;</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iologice.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uman, constituit din:</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rumuseţea corpului omenesc, alcătuită în principal din elemente naturale, native, dar şi dintr-o îndelungată şlefuire civilizatoare;</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rumuseţea sufletească, rezultat aproape integral al eforturilor de înnobilare umană;</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rumuseţea etică a vastelor relaţii dintre oameni [...];</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rumuseţea ambientală a locului şi rezultatele muncii omeneşti.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artistic. Existenţa sa este asigurată […] de:</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ecourile reflectării frumuseţii din realitate; […]</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apacităţile demiurgice ale omului de artă care, pornind de la lumea reală, făureşte o realitate nouă.[…]</a:t>
            </a:r>
            <a:endParaRPr b="0" lang="en-US" sz="1200" spc="-1" strike="noStrike">
              <a:solidFill>
                <a:srgbClr val="000000"/>
              </a:solidFill>
              <a:latin typeface="Arial"/>
            </a:endParaRPr>
          </a:p>
        </p:txBody>
      </p:sp>
    </p:spTree>
  </p:cSld>
  <p:transition spd="slow" advTm="5000">
    <p:cover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8" descr=""/>
          <p:cNvPicPr/>
          <p:nvPr/>
        </p:nvPicPr>
        <p:blipFill>
          <a:blip r:embed="rId1"/>
          <a:stretch/>
        </p:blipFill>
        <p:spPr>
          <a:xfrm>
            <a:off x="5292720" y="1773360"/>
            <a:ext cx="3333600" cy="3333600"/>
          </a:xfrm>
          <a:prstGeom prst="rect">
            <a:avLst/>
          </a:prstGeom>
          <a:ln w="0">
            <a:noFill/>
          </a:ln>
        </p:spPr>
      </p:pic>
    </p:spTree>
  </p:cSld>
  <p:transition spd="slow" advTm="5000">
    <p:cover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natural, asigurat de existenţa elementelor primordial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z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m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ice.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uman, constituit din:</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corpului omenesc, alcătuită în principal din elemente naturale, native, dar şi dintr-o îndelungată şlefuire civiliza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sufletească, rezultat aproape integral al eforturilor de înnobilare umană;</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etică a vastelor relaţii dintre oameni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ambientală a locului şi rezultatele muncii omeneşt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artistic. Existenţa sa este asigurată […] d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urile reflectării frumuseţii din realitat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ăţile demiurgice ale omului de artă care, pornind de la lumea reală, făureşte o realitate nouă.[…]</a:t>
            </a:r>
            <a:endParaRPr b="0" lang="en-US" sz="1200" spc="-1" strike="noStrike">
              <a:solidFill>
                <a:srgbClr val="000000"/>
              </a:solidFill>
              <a:latin typeface="Calibri"/>
            </a:endParaRPr>
          </a:p>
        </p:txBody>
      </p:sp>
    </p:spTree>
  </p:cSld>
  <p:transition spd="slow" advTm="5000">
    <p:cover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9a3</cp:lastModifiedBy>
  <dcterms:modified xsi:type="dcterms:W3CDTF">2012-06-18T11:07:10Z</dcterms:modified>
  <cp:revision>41</cp:revision>
  <dc:subject/>
  <dc:title>SALARIUL</dc:title>
</cp:coreProperties>
</file>