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688-9AAD-42C8-8624-F06E3F2C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F91-5A27-4C0A-BDF1-610F6745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A1B1-829D-434F-96D4-BB8D0F92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3BC-33A2-4BFA-9D6F-585AAAE7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D1BC-5528-4F5C-9723-BD0E67C1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58D4-6791-4A6E-9889-87C973AD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7431-88B0-45D9-8BD2-3B0448F9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768D-79C7-443C-8818-DC7C0A06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E652-1694-4D47-A62E-6AB5A102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8ACF-91E6-413C-A91E-6999891F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077A-0984-4874-8AFA-910E9E0D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896-EDB6-47A6-8786-5FCAE416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BE68-3996-4DF2-BF32-C8714D68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E701-AA58-4952-8428-5E5C3AC0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6DBA-C49D-4665-BE25-AFB8E197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49C4-2C42-488F-AABE-CF84C629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5F66-E61B-43C8-A429-A476A186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30D75-F337-4684-AD97-BD22CD1C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88479-74FE-469C-8CE4-56022B78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A15D2-A880-4758-A05A-A0E4D84B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6C354-247C-4E0B-9423-1064F469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29B86-BA46-4B26-B9EB-292C6685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01B-C8ED-4D46-8CE0-97789ADC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E3E61-A93A-42F0-BBFC-D4590ECC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78F28-DEE0-4A1B-B153-AC7C7039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18FC8-1F3C-4E9C-9791-159619A5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8151-4444-499A-88A3-F89531D9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2F3CD-565C-43F1-B254-FD6C8080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C1EC-48F9-4669-B8EF-E9C1FD87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8E404-F95F-4064-BC32-7348D80B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826-8369-4210-8631-55D50D7D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384-C099-4FF4-B38C-0F27232E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C86-EEF2-4031-8C32-8CF99631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736-B532-4E90-9A01-4EDA7869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69D-9BDA-45B4-950C-666C2F24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705-3B3C-4A64-A870-1F02241B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5686-DE88-4C77-B522-F5EB5B746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F327-5F49-4C01-9457-4ADB5283990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279B-6728-46AE-816D-83BD7F4E3E5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 rot="20846400">
            <a:off x="914400" y="1447560"/>
            <a:ext cx="7238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igh Tower Text"/>
              </a:rPr>
              <a:t>Sesiunea iunie-iulie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igh Tower Text"/>
              <a:ea typeface="High Tow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 Black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 Black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  <a:ea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În ansamblu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m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însă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totodată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în Asia de Sud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ffcc00"/>
                </a:solidFill>
                <a:latin typeface="Arial Black"/>
              </a:rPr>
              <a:t>2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ei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7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1</cp:lastModifiedBy>
  <dcterms:modified xsi:type="dcterms:W3CDTF">2012-06-18T11:11:56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