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D868-A2DC-4E41-BFF3-E820D0EF5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93FE-E608-4630-95B3-314E7E47A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11EF-0486-45F6-BC3F-A42355A0F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4E42-3FD7-49C7-BCC1-A8BA30806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2AE6E-3BA5-4933-A59F-E8DB353F8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DB6A9-347F-490D-89D3-F44A9019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723E6-703C-437A-9BF6-7B314BDB8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C1AE3-264F-4F6B-8AA7-30E69EF1C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7B5E1-0513-4006-A204-FC5CE9EF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14C34-9E96-4A05-88D8-28D39A905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02B06-BC37-4BD7-9289-54A6F323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21ED-594B-42C7-9437-1EF009AC7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7CCB7-4D81-495E-A2D3-402D23D5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034BF-CB73-4093-B75C-6289EF04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8B5EF-B821-407E-BF10-697D22A54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C67A0-CE62-4D52-A47F-E7511CEFE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7F908-10C1-4E24-AFD6-376535D96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6920-34BC-491F-8C1C-0B7511E0B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CBB3-E551-47E0-BEEF-856054D7A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2D26-BF4C-48A0-AF50-1AFD1A7F2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423A-D7F1-43F4-8F24-6A8AABCBA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8BD1-9595-4E60-93C3-06B77943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8244-F61C-44EB-BAD7-11FEE8E5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BBB0-C3ED-4E49-9224-CF821612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2522D-D623-41AD-B7D4-43D4713B0DF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5B9D0-57B2-417C-8E46-A5F45FCE917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FRUMOSUL</a:t>
            </a:r>
            <a:endParaRPr b="1" lang="en-US" sz="1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905120" y="4059000"/>
            <a:ext cx="5867280" cy="6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ffffff"/>
                </a:solidFill>
                <a:latin typeface="Arial"/>
              </a:rPr>
              <a:t>Manualul de Estetică, clasa a XII-a,</a:t>
            </a: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 Adrian Iorgulescu, Doina Pungă, Gheorghe Stroia)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Calibri"/>
              </a:rPr>
              <a:t>Categorie fundamentală a esteticii, frumosul reflectă însuşiril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proprietă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le naturii, vi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i social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ale cre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ilor umane capabile să trezească în personalitatea valorificatoare stări de satisfac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e, emo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bucurie estetică, precum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aptitudinil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înzestrările specifice ale fii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i ome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i generatoare a sentimentelor de plăcer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admir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e. Frumosul oglindeşte deopotrivă ordinea lumii exterioare, obiective şi armonia trăirilor interioare, subiective, sociabilitatea şi individualitatea omului, îmbinând planul senzorialităţii afective cu cel al raţionalităţii lucide în efortul de a obţine o imagine globală unitară asupra condiţiei uman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 plan european, primele reflecţii asupra frumosului s-au ivit în orizontul spiritual elen. Întrebându-se „ce e frumosu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”, Platon îl aprecia ca pe un lucru folositor, potrivit scopului său, făcut cu meşteşug şi care produce o plăcere recepţionată cu ajutorul văzului şi auzului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ntru el, ca şi pentru mulţi alţii, nu toate plăcerile sunt estetice, ci numai acelea care ţin de simţurile superioare, singurele apte să asigure o stare agreabilă, de desfătare spirituală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u trebuie să năzuieşti către orice plăcere, spunea Democrit, ci numai către plăcerea pentru ceea ce este frumos”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şi de natură ideală, abstractă, plasat ca arhetip universal în zonele ideii pure, frumosul, afirma Platon, are strânse contacte cu binele, „identificându-se pretutindeni cu măsura şi proporţia”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53964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5292720" y="1773360"/>
            <a:ext cx="565200" cy="56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durile de existenţă ale frumosului. […]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umosul natural, asigurat de existenţa elementelor primordiale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canice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zice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imice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ologice. […]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umosul uman, constituit din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umuseţea corpului omenesc, alcătuită în principal din elemente naturale, native, dar şi dintr-o îndelungată şlefuire civilizatoare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umuseţea sufletească, rezultat aproape integral al eforturilor de înnobilare umană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umuseţea etică a vastelor relaţii dintre oameni [...]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umuseţea ambientală a locului şi rezultatele muncii omeneşti. […]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umosul artistic. Existenţa sa este asigurată […] de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urile reflectării frumuseţii din realitate; […]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pacităţile demiurgice ale omului de artă care, pornind de la lumea reală, făureşte o realitate nouă.[…]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539640" y="26028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Elev</cp:lastModifiedBy>
  <dcterms:modified xsi:type="dcterms:W3CDTF">2012-06-19T11:06:49Z</dcterms:modified>
  <cp:revision>38</cp:revision>
  <dc:subject/>
  <dc:title>SALARIUL</dc:title>
</cp:coreProperties>
</file>