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42D-6F00-4EF2-AD22-055D263F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A9D-8691-4E95-A926-D29705BD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082-708D-48C0-B684-0249EBA5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012-41AB-4E89-A499-E92A5A02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7F6-0C56-4F45-9DF5-5E89B94A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C5C-10DC-4B8A-8148-1766007B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605-7095-4924-B2B7-94E4A485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7E9-10FC-4913-81C5-D13D01C2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E3D-658C-4AB7-B7F0-20AA2F2F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E52-5C09-4E07-92EA-22640AD5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55F-CD4E-44F2-81DE-ADA1E79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E22-8E8E-4CE5-B5AB-56E46564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2B0A-4FBB-4676-8FCC-850C63DE9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lum contrast="6000"/>
            <a:alphaModFix amt="98000"/>
          </a:blip>
          <a:stretch/>
        </p:blipFill>
        <p:spPr>
          <a:xfrm>
            <a:off x="5181480" y="1752480"/>
            <a:ext cx="1440000" cy="14400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3b2</cp:lastModifiedBy>
  <dcterms:modified xsi:type="dcterms:W3CDTF">2007-05-03T02:25:55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