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D3AA-8AB8-43D5-99F2-4479E01E7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AB7A-33F5-4743-A0B1-02085CD95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36F0-F5F1-49BE-B468-EEDE2359C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689F-43EB-4C83-B76B-7C37E6259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35D770-4763-40F2-9253-4E6B3FB30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E3B0D8-9128-4FC8-B913-BD0C09ADC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A6854D-F4B4-48C8-8911-F3CEF1118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E55A00-E632-488A-9DC0-FDC1F293F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6AF360-E6D3-41D7-A567-827BB15BC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71BE3A-4B9B-4381-AE20-A4C94D51E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3278D7-0B5E-4E01-B32C-60B4A2BF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27D3-CE89-4D0A-9548-144C67066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9D06FA-F138-416B-B8FF-43C5351E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F050AF-1C34-4A8A-BAB8-0B5E8F3A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B0BC23-9E44-4CE9-ADF1-D09057855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069DF8-78F0-4011-9E42-70946639F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6F4514-4667-4D8C-991C-1F008EDF0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31B0-C678-4331-9A69-94FAE7AEC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0139-29D2-49EB-8A61-1614424FE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D27A-3C36-41AC-B814-6F029BF88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9A3D-1BA7-4E81-836E-02CCEEFAB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2332-5900-4EEA-A1BA-A4F18C5C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A56F-0E75-42F0-9F25-459CE6C9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F373-5EAB-4D91-BAD6-B48C6219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52378-5EFF-4FAB-9815-B71A866EF4B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0119A-BF7B-4B27-9848-248E446CDA8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PETROLU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(Adaptat după </a:t>
            </a:r>
            <a:r>
              <a:rPr b="0" i="1" lang="es-ES" sz="1000" spc="-1" strike="noStrike">
                <a:solidFill>
                  <a:srgbClr val="ffffff"/>
                </a:solidFill>
                <a:latin typeface="Tahoma"/>
              </a:rPr>
              <a:t>Manualul de Chimie</a:t>
            </a:r>
            <a:r>
              <a:rPr b="0" lang="ro-RO" sz="1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s-ES" sz="1000" spc="-1" strike="noStrike">
                <a:solidFill>
                  <a:srgbClr val="ffffff"/>
                </a:solidFill>
                <a:latin typeface="Tahoma"/>
              </a:rPr>
              <a:t>clasa a X-a</a:t>
            </a: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o-RO" sz="1000" spc="-1" strike="noStrike">
                <a:solidFill>
                  <a:srgbClr val="ffffff"/>
                </a:solidFill>
                <a:latin typeface="Tahoma"/>
              </a:rPr>
              <a:t>Rodica Constantinescu, Maria-Luiza Popescu)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Tahoma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ffffff"/>
                </a:solidFill>
                <a:latin typeface="Tahoma"/>
              </a:rPr>
              <a:t>Proba de evaluare a competenţelor digitale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– document de lucru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038480" cy="31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Primele cercetări legate de cunoaşterea compozi</a:t>
            </a:r>
            <a:r>
              <a:rPr b="0" lang="ro-RO" sz="1200" spc="-1" strike="noStrike">
                <a:solidFill>
                  <a:srgbClr val="ffffff"/>
                </a:solidFill>
                <a:latin typeface="Tahoma"/>
              </a:rPr>
              <a:t>ţiei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petrolului românesc au fost iniţiate la sfârşitul secolului trecut de către Petru Poni (1841 - 1925) la Iaşi, care a izolat anumiţi termeni ai seriilor de hidrocarburi din petrol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Petrolul este un amestec </a:t>
            </a:r>
            <a:r>
              <a:rPr b="0" lang="ro-RO" sz="1200" spc="-1" strike="noStrike">
                <a:solidFill>
                  <a:srgbClr val="ffffff"/>
                </a:solidFill>
                <a:latin typeface="Tahoma"/>
              </a:rPr>
              <a:t>complex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de hidrocarburi gazoase şi solide, dizolvate în hidrocarburi lichide. Hidrocarburile frecvent întâlnite în compoziţia petrolului aparţin în general seriei alcanilor, cicloalcanilor (naftene) şi arenelo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Alchenele şi alchinele mai reactive lipsesc din petrol. Pe lângă hidrocarburile menţionate, în petrol mai apar şi compuşi organici cu oxigen, azot sau sulf, în cantităţi foarte mici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Sulful trebuie îndepărtat în cursul prelucrării petrolului, deoarece prin ardere rezultă dioxid de sulf (un gaz coroziv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În funcţie de locul zăcământului şi de condiţiile în care acesta s-a format, în compoziţia petrolului pot predomina una sau alta dintre aceste clase de hidrocarburi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6" descr="comp_i"/>
          <p:cNvPicPr/>
          <p:nvPr/>
        </p:nvPicPr>
        <p:blipFill>
          <a:blip r:embed="rId2">
            <a:grayscl/>
          </a:blip>
          <a:srcRect l="27997" t="0" r="0" b="0"/>
          <a:stretch/>
        </p:blipFill>
        <p:spPr>
          <a:xfrm>
            <a:off x="6113520" y="1676520"/>
            <a:ext cx="1439640" cy="1800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Tahoma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ffffff"/>
                </a:solidFill>
                <a:latin typeface="Tahoma"/>
              </a:rPr>
              <a:t>Proba de evaluare a competenţelor digitale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– document de lucru</a:t>
            </a:r>
            <a:br>
              <a:rPr sz="4000"/>
            </a:b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8381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Petrolul este 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un lichid vâscos, de culoare brună, cu fluorescenţă verde-albăstruie, cu miros specific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densitatea petrolului este mai mică decât a apei, variind între 0,800 şi 0,930 g/c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este insolubil în apă, formând cu aceasta o emulsi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Cracare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Cracarea este procesul în care au loc ruperi ale unor legături simple C-C din alcani şi cicloalcani. Cracarea poate fi termică sau catalitică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Materiile prime folosite la cracarea termică sunt motorina şi păcura, iar produşii rezultaţi sunt alcani şi alchene inferioare, numite gaze de cracare, benzină de cracare şi cocs petroli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Cracarea catalitică foloseşte în special motorina ca materie primă. Se obţin gaze de rafinărie, benzină mai bună decât cea obţinută prin cracarea termică şi cocs petroli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Ştiaţi că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În urma prelucrării complexe a petrolului se obţin circa 300 de produs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Metanul este principalul constituent al gazelor natural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Gazele naturale, care însoţesc în general zăcămintele de petrol, sunt o sursă de materii prime pentru obţinerea de produse: îngrăşăminte, mase plastice, cauciuc cloroprenic, acetilenă, metanol, formaldehidă, solvenţi, hidrogen etc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2</cp:lastModifiedBy>
  <dcterms:modified xsi:type="dcterms:W3CDTF">2012-06-19T10:57:11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