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1CC20-4D73-4FA1-9E13-6E1318625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F4E1-6425-4306-8079-509F1097F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53166-6089-49EF-A5C7-697EEB67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5EE13-8AE4-4A88-8C3E-87873B6A5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038D-6E29-422B-B37F-1CB26030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B509F-28E4-4F4C-B856-1820A40C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C1B23-39F4-4199-9C53-D35E3D46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CF2C-572F-4056-A83B-BC8EC038A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4348-3F50-43F0-A40A-98BA8655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5FEAD-5859-4034-AA9D-D8143563A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DA89-148F-4AA1-8F11-416904BE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A0982-B956-4CE9-A507-334A220D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96BA-6272-469E-9449-48C430C30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905120" y="45720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esiunea iunie - iuli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5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spd="med" advTm="5000">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ws19</cp:lastModifiedBy>
  <dcterms:modified xsi:type="dcterms:W3CDTF">2012-06-18T11:04: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