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0EEC7-5013-40E9-9A28-100DDB2C4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5C71E-2B8F-4CDA-8FEE-5A165E1B6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4070B-8E6F-4B1F-AEB6-040C5A309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642A0-0346-4E6D-ACA1-F063AE6C4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08A0F-C9D8-485A-8D7C-DC2EDDEFF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51FCE-08DA-412A-AB43-95015A05A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E5002-DF6C-4470-80C3-C9999457D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970E0-312C-4B6C-AD64-BD4C37F77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A0172-0E11-4666-8170-B7E360CA1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16D3A-1B59-49CC-BCCD-6473C35A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89036-435B-4294-BB32-EC1B5750D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ECFF5-BE23-433A-A0AC-42281FEC6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19A9-7A08-42E2-994D-D24A2D5582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627280" y="4653000"/>
            <a:ext cx="393372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siunea iunie - iuli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5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63d18"/>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advTm="5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advTm="5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ws22</cp:lastModifiedBy>
  <dcterms:modified xsi:type="dcterms:W3CDTF">2012-06-18T11:06:15Z</dcterms:modified>
  <cp:revision>39</cp:revision>
  <dc:subject/>
  <dc:title>SALARIUL</dc:title>
</cp:coreProperties>
</file>