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E8070-97A7-42E0-9745-DFDD2F1FC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AA630-CEC3-49F4-8735-BD587CAB4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1703B-3B85-4113-B477-AD7271B23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24A82-1CDD-4873-B06B-079FD376C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52B07-66B8-4E39-8C72-BE1CFAA7E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A0329-DD08-4828-A7A1-89661DCB5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27DB3-09CF-4E3F-AF77-0685BDA1A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82193-ED74-4624-828D-5430881F4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45ED6-7302-46BC-A5E8-15DD232C7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0E4D5-50C3-41F6-8E7F-23916172A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E7B22-6677-4236-8FB6-C99FCBD29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0099-34FD-43D9-ADC9-DA4765F20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FD54-1F83-4024-92CF-DACF6880A9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1000"/>
                                        <p:tgtEl>
                                          <p:spTgt spid="42">
                                            <p:txEl>
                                              <p:pRg st="0" end="0"/>
                                            </p:txEl>
                                          </p:spTgt>
                                        </p:tgtEl>
                                      </p:cBhvr>
                                    </p:animEffect>
                                    <p:anim calcmode="lin" valueType="num">
                                      <p:cBhvr additive="repl">
                                        <p:cTn id="12"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42">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stretch/>
        </p:blipFill>
        <p:spPr>
          <a:xfrm>
            <a:off x="5214960" y="928800"/>
            <a:ext cx="1440000" cy="1439640"/>
          </a:xfrm>
          <a:prstGeom prst="rect">
            <a:avLst/>
          </a:prstGeom>
          <a:ln w="0">
            <a:noFill/>
          </a:ln>
        </p:spPr>
      </p:pic>
    </p:spTree>
  </p:cSld>
  <p:transition spd="med">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ws29</cp:lastModifiedBy>
  <dcterms:modified xsi:type="dcterms:W3CDTF">2004-10-29T01:48:12Z</dcterms:modified>
  <cp:revision>49</cp:revision>
  <dc:subject/>
  <dc:title>SALARIUL</dc:title>
</cp:coreProperties>
</file>