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3E2-38B3-47F4-8600-FE85A928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1EC-6286-4E80-A69A-C13C7E19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94C-3421-41B3-8793-8B158017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37E-D83F-408C-A705-0CF1373A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4C41-B1EE-4016-B02E-EEED1786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456B-54CC-4F57-8199-9CE6469E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B44F-9BEB-4B90-A2C0-232709D0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C4DE-9DD9-41B8-A136-0316B61C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DBDA-C6E8-4B24-812B-BD6FC2C9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A16A-AED1-4951-A7F7-5387E78F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78AF-FEAD-4DF2-825D-BB0AED9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4C4-8C38-445F-BC38-94D4D0F3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4120-C9B1-4CD6-B532-38DC7BE4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E871-3B9F-4449-A7B7-C382083D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1094-3759-4875-A506-EE463BAD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8C1-D45A-4A01-9414-115CED45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7DE5-30FE-4182-A346-7571328E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FE4-7F5C-4354-92D2-CA659C21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6B0-FF05-42FA-A658-18B0149A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B42-3B37-4EB1-97C0-171CE772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7D5-3C94-4D2E-8165-A5CC89E5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EEA-7422-4F45-90EE-BB291D5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74F-6D7F-4DC6-8B79-7C591250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0C2-E55C-4992-917C-5FCA88C2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BE52-2A69-4F3E-851D-75F9F47DA64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EE9B-962F-4DEF-92B3-5E94489CDD4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ALTE ROMANE  REALISTE INTERBELICE</a:t>
            </a:r>
            <a:endParaRPr b="0" lang="en-US" sz="1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836360" y="4021200"/>
            <a:ext cx="57452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2f1311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900"/>
            </a:b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9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2f1311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3</cp:lastModifiedBy>
  <dcterms:modified xsi:type="dcterms:W3CDTF">2012-06-19T11:30:32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