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9A5-DEC4-4347-AAB4-DCF3533F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F7C-3999-4E66-8D16-011659CE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8A2-98E2-4AF7-933F-9DA1F65E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090-10A3-48D8-82B4-F124311B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F6F-B413-4DE8-86AA-930F9ADE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99A-3930-4A70-ADF9-7D40B84A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2B6-245D-48BC-9461-FFB24AD7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FFE-E1B1-49E2-99BD-61010570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716-3D99-4BE7-BC4C-4D291A08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CC1-D6EC-4565-A7F4-6E9A11D6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588-FE5E-429C-8E41-DCEB91A5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D01-6D32-4E73-BF99-8F293A58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B3D2-70BC-4AAB-BB44-04BEEDA3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24080" y="4724280"/>
            <a:ext cx="39340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siunea iunie - iul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16</cp:lastModifiedBy>
  <dcterms:modified xsi:type="dcterms:W3CDTF">2012-06-18T11:05:1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