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FDA-0693-47B2-B658-03A14D73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1A0-D762-473E-962B-DC06E71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F08-E6DB-4852-9F00-85D0D181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F49-B962-4006-B2F9-4141ED1B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CD7-596D-4709-8E68-E40D13E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09E-DEF5-40DB-8319-C59D4F83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AB6-7456-4346-9498-39D0E37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EFA-C4D7-4B63-B3B7-36A7DC38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2A6-594C-44C9-85C3-52F7DB9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52E-075A-470A-8701-CA82C623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CFF-CDED-45C0-8421-0B9CD39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855-BF27-4B51-9353-EFF01C9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2B39-8973-4C3E-A4F8-6E5927445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413000"/>
            <a:ext cx="34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2a3</cp:lastModifiedBy>
  <dcterms:modified xsi:type="dcterms:W3CDTF">2012-06-18T10:54:08Z</dcterms:modified>
  <cp:revision>31</cp:revision>
  <dc:subject/>
  <dc:title>SALARIUL</dc:title>
</cp:coreProperties>
</file>