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7F360-CCAC-4CC0-A7A3-5A6447E4C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8623C-6CC8-488C-AF82-DD4FD22A8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C194B-6496-4CBD-A912-7F76F49FF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C50B7-6AEE-4E68-8E08-47F9A5CD9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01042-BA2A-41F5-B5F4-0BEC327A4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166E0-A65D-4E6C-9A51-2433412BB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A6A21-586B-4EB7-9237-83AFF3C5A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C86B7-58EE-4599-B663-25CE4236F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723AF-B2E1-44C1-AFBB-AF324F7C3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CE0DB-0388-435E-B2D1-0AA9936BA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D9650-CBF4-4CA7-8868-444A524BF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17AE4-14D0-4018-B539-8CDC6D898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F6DF-4206-4F80-86C4-D5B3E9DF1F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LiviaT</cp:lastModifiedBy>
  <dcterms:modified xsi:type="dcterms:W3CDTF">2012-03-14T13:55:50Z</dcterms:modified>
  <cp:revision>45</cp:revision>
  <dc:subject/>
  <dc:title>SALARIUL</dc:title>
</cp:coreProperties>
</file>