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A257A-43DB-438A-A9CE-A16F1374B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CC657-AA7D-4C94-8D11-E337095D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48FEC-1402-429A-8CB6-7ECC9E22E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D41A0-EBD6-4329-8C0E-C0F666D79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D9C7-FE84-4D0C-A622-78483CAC9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9AD67-6C1D-48A5-A92A-08723EC17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863A-EAD3-4886-BE65-50A7442B4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6005B-5C91-42B7-BBE1-3F0CEB0E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26D3-9717-4A17-BF8D-724F8D2F6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E966-659C-47C7-B4CE-B534829AB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5C67-EC42-4D8D-AD06-88958401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8F76-6495-4DBF-84E6-42D87950D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9F75-4B5D-49FB-8A5A-005A7AE73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4379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rcRect l="19700" t="50010" r="15700" b="40000"/>
          <a:stretch/>
        </p:blipFill>
        <p:spPr>
          <a:xfrm>
            <a:off x="5738760" y="3400560"/>
            <a:ext cx="1474920" cy="2286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18:14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