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6382C-0DE7-4AA3-990B-6D14A4C3C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7B013-917F-4C22-8E46-53F2AFC49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F14CE-D6C2-42E3-A1D6-3D5782F76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0547B-C337-4BC3-8570-BAF83FD76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126C1-AB7D-47B6-A13D-8DBF7C780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6AE07-AC87-432A-BA84-11D05EBA4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7454C-453A-4BB2-A0DD-E6D86C273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934A2-3C4F-47A9-B2C9-1B3F8C3C7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7D8E6-C0B8-47A3-8A2C-AD5EB421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27C0B-263A-4DD7-9658-F301EE5C6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AFD73-BFD7-4BA5-B864-072150A3E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1C79D-9702-40A0-AC5B-4334F631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9ABC7-DC20-473F-96DA-DA633C12D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4D6CF-BEB2-44DA-8DFB-C49CDD1BD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E6E6D-E71B-41B3-AF03-C53CA0A41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38739-424E-4509-9905-28FF1C13B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347FB-F020-446C-9D7C-8FF82BA3B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17ED-EB87-4A46-B1D5-06240AFE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45DF5-D860-43A9-9B91-F7C345A31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17C2-73B1-4504-9D40-BB426BAD1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674D-13E0-4B0E-9463-63863FA7A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8AFA-9442-4ADA-9A2C-C262076E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54DB4-87F2-44C1-933D-C0CC161F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1384-951F-45A2-9932-94B92F043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5A62-4BA0-48D9-9850-06F11777B6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B228-8A93-4BBA-A509-81FFA30C74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IMFONIA</a:t>
            </a:r>
            <a:r>
              <a:rPr b="1" lang="en-US" sz="1800" spc="-1" strike="noStrike">
                <a:solidFill>
                  <a:srgbClr val="ccecff"/>
                </a:solidFill>
                <a:latin typeface="Arial"/>
              </a:rPr>
              <a:t> </a:t>
            </a:r>
            <a:endParaRPr b="0" lang="en-US" sz="1800" spc="-1" strike="noStrike">
              <a:solidFill>
                <a:srgbClr val="ccecff"/>
              </a:solidFill>
              <a:latin typeface="Arial"/>
            </a:endParaRPr>
          </a:p>
        </p:txBody>
      </p:sp>
      <p:sp>
        <p:nvSpPr>
          <p:cNvPr id="21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Arial"/>
            </a:endParaRPr>
          </a:p>
        </p:txBody>
      </p:sp>
      <p:sp>
        <p:nvSpPr>
          <p:cNvPr id="21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0"/>
                                        </p:tgtEl>
                                        <p:attrNameLst>
                                          <p:attrName>style.visibility</p:attrName>
                                        </p:attrNameLst>
                                      </p:cBhvr>
                                      <p:to>
                                        <p:strVal val="visible"/>
                                      </p:to>
                                    </p:set>
                                    <p:animEffect filter="dissolve" transition="in">
                                      <p:cBhvr additive="repl">
                                        <p:cTn id="7" dur="5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Arial"/>
            </a:endParaRPr>
          </a:p>
        </p:txBody>
      </p:sp>
      <p:sp>
        <p:nvSpPr>
          <p:cNvPr id="21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15" name="Picture 10" descr=""/>
          <p:cNvPicPr/>
          <p:nvPr/>
        </p:nvPicPr>
        <p:blipFill>
          <a:blip r:embed="rId1">
            <a:grayscl/>
          </a:blip>
          <a:stretch/>
        </p:blipFill>
        <p:spPr>
          <a:xfrm>
            <a:off x="5214960" y="928800"/>
            <a:ext cx="1440000" cy="14396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Arial"/>
            </a:endParaRPr>
          </a:p>
        </p:txBody>
      </p:sp>
      <p:sp>
        <p:nvSpPr>
          <p:cNvPr id="217"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a3</cp:lastModifiedBy>
  <dcterms:modified xsi:type="dcterms:W3CDTF">2012-06-09T23:23:01Z</dcterms:modified>
  <cp:revision>47</cp:revision>
  <dc:subject/>
  <dc:title>SALARIUL</dc:title>
</cp:coreProperties>
</file>