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756E8-2DBF-4FAB-A6F0-5BEA2566A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45BA5-47FB-46C6-B20F-E3A9339A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C4E80-C2D6-4557-B96B-22E38C320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3524E-3B8E-456C-B4FE-47656A25B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4F938-28F3-42F9-8D6F-ACAE19A3D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58088-B9B2-4CAC-90EE-7AD6C16A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11C15-452E-42D2-A5A6-AF21CEB58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35B20-650C-4455-A3A0-3F3E7DA3B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3C5D9-1D17-4784-8BCC-674469BB1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B81B-C57D-444D-903F-ABBE2DB34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D2F7-33EE-4F7F-B384-E901F3BF9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18F25-1FDE-44D8-94CB-BE491E200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6F52-E06B-4144-A4DE-9AEBC14F1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268360" y="4437000"/>
            <a:ext cx="4819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2b2</cp:lastModifiedBy>
  <dcterms:modified xsi:type="dcterms:W3CDTF">2012-06-18T10:51:17Z</dcterms:modified>
  <cp:revision>39</cp:revision>
  <dc:subject/>
  <dc:title>SALARIUL</dc:title>
</cp:coreProperties>
</file>