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BCED-A246-41C4-9EBB-A2A3CD8B7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0528-083F-422E-9487-BEACAEB9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1B09-A3D3-49C9-B246-4E7CECE26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764E-BF58-4063-A400-75890A234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C596-3163-468C-BDFD-E2A5024E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4680-0E1B-41D3-A90F-90F51BCC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1EDA-3CDB-4E3E-AD2D-8C529487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D3C6-E4B6-4CCA-B891-38A52C83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1C35-54D0-4BCC-9271-722E96A8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BA02-5CC0-4A59-918A-0915BF9D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E2AA-4355-49F8-A034-31E6CCA8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C2FD-C95F-43E8-8FD6-50090211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2D32-DE17-434C-B8BE-2B81250C519A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CONSTITUIREA STATELOR MEDIEVALE ÎN SPAȚIUL ROMÂNES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8800" y="3885840"/>
            <a:ext cx="728640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Istor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, Ioan Scurtu, Marian Curculescu, Constantin Dincă, Aurel Constantin Soar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1125000"/>
            <a:ext cx="47512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cesul european de constituire a statelor medievale s-a înregistrat şi în spaţiul românesc. Au existat premise interne şi exter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misele interne au fost diverse: creşterea demografică, determinată de dărnicia pământului, resursele solului şi subsolului, configuraţia reliefului, care au asigurat protecţia românilor în vremuri de restrişte; dezvoltarea economică (agricultura, meşteşugurile, creşterea vitelor, comerţul, circulaţia monetară); evoluţia politico-socială, care a condus la procesul de feudalizare, realizându-se trecerea de la uniunile de obşti (romanii populare) la constituirea primelor formaţiuni politice numite cnezate şi voievodate, conduse de cneji, respectiv voievozi. Aceştia aveau atribuţii militare, politice, judecătoreşti şi administrative.[…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 particularitate o reprezintă contribuţia românilor din Transilvania la geneza statelor extracarpatice (Ţara Românească şi Moldova) reflectată în tradiţia descălecatului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misele externe au stimulat procesul de constituire a statelor medievale. Astfel, prezenţa cumanilor (aceştia au organizat în secolele XI-XIII un stat în câmpia nord-dunăreană) şi a tătarilor (Hanatul Hoardei de Aur în nordul Mării Negre) a creat un echilibru de forţe care a împiedicat Regatul Ungaria, Imperiul Bizantin şi statele ruse Kiev şi Halici să-şi extindă dominaţia asupra spaţiului românes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 asemenea, un fapt notabil l-a reprezentat criza internă din Regatul Ungariei, determinată de luptele pentru tron apărute în urma stingerii dinastiei arpadiene, în anul 1301.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6" descr="denush.jpg"/>
          <p:cNvPicPr/>
          <p:nvPr/>
        </p:nvPicPr>
        <p:blipFill>
          <a:blip r:embed="rId1"/>
          <a:stretch/>
        </p:blipFill>
        <p:spPr>
          <a:xfrm>
            <a:off x="5435640" y="2276640"/>
            <a:ext cx="323856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iploma ioaniţilor este atestată în anu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13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124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14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Formaţiunile politice din Dobrogea sunt unificate 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Leustachi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Bal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Basarab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săvârşirea unificării Moldovei aparţine voievodului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Roman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rago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Petru Muș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Ordonaţi cronologic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lupta de la Pos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,,descălecatul” lui Negru Vod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Leustachi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Roman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obrotic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7:24:23Z</dcterms:created>
  <dc:creator>CNEE</dc:creator>
  <dc:description/>
  <dc:language>en-US</dc:language>
  <cp:lastModifiedBy>Guest</cp:lastModifiedBy>
  <dcterms:modified xsi:type="dcterms:W3CDTF">2012-03-08T12:46:19Z</dcterms:modified>
  <cp:revision>2</cp:revision>
  <dc:subject>CNEE</dc:subject>
  <dc:title>CNEE</dc:title>
</cp:coreProperties>
</file>