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157C-46D8-4021-8323-10B9634D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A456-6F16-4798-85B3-46674F69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189D-CA5B-47A9-A2C3-E4B098E5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3E35-F5F8-4684-890A-3EBF8EDC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5EA0-A733-4E66-BE30-3695921D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774F-1369-4B17-8784-92FB0A3A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4C22-2D27-4CFF-9AFF-8DCC472F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9BC1-1FD4-4B0B-BAD2-F8AD7F86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A7FA-6C87-4473-A2C6-4C415176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CE8B-C897-4762-9B7C-65592C8C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C46B-F81B-474C-898F-2EF04A2D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0B46-F55A-46FD-8534-F1CA9636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A7BA-2C5C-4B81-BEEB-6E45D0B2B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/>
          <a:stretch/>
        </p:blipFill>
        <p:spPr>
          <a:xfrm>
            <a:off x="5072040" y="2266920"/>
            <a:ext cx="31910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9T11:27:31Z</dcterms:modified>
  <cp:revision>23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