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3DE-A8AB-4BD2-8930-8B2F299E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146-A1EC-4702-989E-96FFB91D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9D7-1BEC-47FC-BE4B-CF815BD5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8B3-CEA7-43CA-ABBE-9D048F49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67A9-195F-4CC8-AA72-C03F2111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C42E-B1A6-4821-A16B-88F7BFE2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1E7B-ECFD-487D-BAD4-81B86197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3E93-580E-4E87-9F7B-A2117B05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CE41-88C0-4FE9-A029-CEA49AB1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1E68-6335-4B03-B08B-5A8B0A56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2889-7F96-4E0B-9C5D-2E6A2924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4A9-727A-4001-A6D8-3ED7346E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2A27-1D28-4040-979C-B95AFF58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4973-96E8-4FA3-BE71-8AD1DC59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7116-CAAC-4708-9189-B1BDE613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A50D-D24C-4C75-B272-865135ED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788C-EC21-4977-B67F-F5629E3D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DCD-963A-4329-9753-06C22C43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9EB-469A-4FC8-AFFE-B2D2F5F0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154-A023-42BA-B24D-E05A4E9F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AA4-E2E6-4010-96FC-52A85894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2B7-1090-46BD-AC29-71925CF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7CD-89E3-4EAD-AB36-1C1297E0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2D4-4ABC-4E89-B82F-F7952133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4263-886A-4924-AA88-413B63D49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A13E-BC3E-4F19-9B84-50B9D3BEB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26d18"/>
                </a:solidFill>
                <a:latin typeface="Times New Roman"/>
              </a:rPr>
              <a:t>APARIŢIA ŞI RĂSPÂNDIREA CREŞTINISMULUI</a:t>
            </a: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a26d18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a26d18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a26d18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5840" y="3736440"/>
            <a:ext cx="678024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09880" y="3166920"/>
            <a:ext cx="5924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aptat după Manualul de Istorie, clasa a V-a, Zoe Petre,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Proba de evaluare a competenţelor digitale</a:t>
            </a:r>
            <a:r>
              <a:rPr b="1" lang="en-US" sz="1000" spc="-1" strike="noStrike">
                <a:solidFill>
                  <a:srgbClr val="a26d18"/>
                </a:solidFill>
                <a:latin typeface="Times New Roman"/>
              </a:rPr>
              <a:t> – document de lucru</a:t>
            </a:r>
            <a:br>
              <a:rPr sz="4000"/>
            </a:br>
            <a:endParaRPr b="1" lang="en-US" sz="1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49731" t="19594" r="-39775" b="15616"/>
          <a:stretch/>
        </p:blipFill>
        <p:spPr>
          <a:xfrm>
            <a:off x="6705720" y="1828800"/>
            <a:ext cx="325908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Proba de evaluare a competenţelor digitale</a:t>
            </a:r>
            <a:r>
              <a:rPr b="1" lang="en-US" sz="1000" spc="-1" strike="noStrike">
                <a:solidFill>
                  <a:srgbClr val="a26d18"/>
                </a:solidFill>
                <a:latin typeface="Times New Roman"/>
              </a:rPr>
              <a:t> – document de lucru</a:t>
            </a:r>
            <a:br>
              <a:rPr sz="4000"/>
            </a:br>
            <a:endParaRPr b="1" lang="en-US" sz="1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3a3</cp:lastModifiedBy>
  <dcterms:modified xsi:type="dcterms:W3CDTF">2012-06-19T11:02:26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