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9EA38-071E-4981-9022-346319B03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A47C-63A0-4F8F-817F-776588DC8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70596-843A-419E-A763-D120226BC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5F6EF-BFAE-4034-97D1-EA6398983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E29E-B707-4E50-8FB4-2744609C3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C6F9-7B6B-414F-B6C7-A4F471445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49DBF-0C86-4BC3-8105-E9081D46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56A1-66D1-4970-A577-7097B6F8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78637-C2F7-48E2-B37F-20CC675E1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E411-545F-4785-9251-E46D24A5B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DDA3-C487-481F-9107-AE6E3BF26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C61BA-1C94-4735-B9B5-41721AFE2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A19E-15C4-4E8C-964B-C33B504D7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627280" y="4653000"/>
            <a:ext cx="39337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siunea iunie - iuli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63d18"/>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2</cp:lastModifiedBy>
  <dcterms:modified xsi:type="dcterms:W3CDTF">2012-06-18T11:06:15Z</dcterms:modified>
  <cp:revision>39</cp:revision>
  <dc:subject/>
  <dc:title>SALARIUL</dc:title>
</cp:coreProperties>
</file>