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A515-8F15-4255-8147-90BBE177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0EE4-42A1-4F14-B358-26C1CA73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E293-DC9C-4282-A1FC-430EF7DE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B66A-DB69-4C21-8358-CF3BE575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887-6487-4052-8EFC-EF1CC5E6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04D1-CA88-49DB-B3AE-F75FD358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1049-330B-4EEF-9385-B76E44C1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370-6282-4283-9A3D-D109E58F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32B7-4F6C-4409-9339-8F315DA4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9393-7581-4733-B2EF-C8DC0493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5A2-34AB-45A2-B53E-186CDB9F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C810-4ED2-4FF5-AAB3-118E1889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08CA-9A9C-4DFA-9DAB-3C2D6061C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124080" y="4724280"/>
            <a:ext cx="393408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esiunea iunie - iuli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16</cp:lastModifiedBy>
  <dcterms:modified xsi:type="dcterms:W3CDTF">2012-06-18T11:05:18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