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335-5D15-4C8C-923C-706855A8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DCC6-0CCB-4C27-B736-92792B28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3544-8B12-4E83-8FAD-FE0AE190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924-133D-40C9-80C9-9281BFC4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FB73-EF2E-421B-B37F-94D4C76B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567F-8080-40B0-A7D6-FD3588A0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EA92-D36D-4AEF-B8F2-6075B681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87C8-C9D5-4910-976B-9348E6F4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538E-5387-4155-9800-174453AD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D97A-107A-4002-B34E-54854F2E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2AAF-EBBF-4064-920E-73EC99E7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FE3-CFBB-4FEB-9741-A8519232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ED8F-B3CF-4C5E-B7AD-40B60FE6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954B-FE9D-429D-941E-58DB4622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9F59-A44F-4351-BA72-01CAC5AC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50B5-B756-4197-9A1A-5E94AEB4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4055-6826-40A8-83B4-13F3BF8B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C94-9C32-4373-AE84-B2163BE8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640B-DD19-43C3-B286-63302284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6E3-3503-479D-86E6-B21F8DE8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F5B-3461-4521-A6C1-D7E64C3B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889D-8FBC-474A-ADDC-EBF70B4F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C49-A0B7-405D-88FF-5AA18AB6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C49-00BC-45E0-BE91-5E509844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3989-F16A-4DD3-81A6-8EDCAA02BCD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F49A-A771-4730-BAC0-2F884372863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FRUMOSUL</a:t>
            </a:r>
            <a:endParaRPr b="1" lang="en-US" sz="1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5120" y="4059000"/>
            <a:ext cx="586728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Estetică, clasa a XII-a,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 Adrian Iorgulescu, Doina Pungă, Gheorghe Stroia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Categorie fundamentală a esteticii, frumosul reflectă însuşir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propriet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le naturii, vi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 socia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le cr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lor umane capabile să trezească în personalitatea valorificatoare stări de satisfa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, em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bucurie estetică, precum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ptitudin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înzestrările specifice ale fi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i ome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 generatoare a sentimentelor de plăcer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dmir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. Frumosul oglindeşte deopotrivă ordinea lumii exterioare, obiective şi armonia trăirilor interioare, subiective, sociabilitatea şi individualitatea omului, îmbinând planul senzorialităţii afective cu cel al raţionalităţii lucide în efortul de a obţine o imagine globală unitară asupra condiţiei uman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 plan european, primele reflecţii asupra frumosului s-au ivit în orizontul spiritual elen. Întrebându-se „ce e frumos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”, Platon îl aprecia ca pe un lucru folositor, potrivit scopului său, făcut cu meşteşug şi care produce o plăcere recepţionată cu ajutorul văzului şi auzului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el, ca şi pentru mulţi alţii, nu toate plăcerile sunt estetice, ci numai acelea care ţin de simţurile superioare, singurele apte să asigure o stare agreabilă, de desfătare spiritual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 trebuie să năzuieşti către orice plăcere, spunea Democrit, ci numai către plăcerea pentru ceea ce este frumos”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şi de natură ideală, abstractă, plasat ca arhetip universal în zonele ideii pure, frumosul, afirma Platon, are strânse contacte cu binele, „identificându-se pretutindeni cu măsura şi proporţia”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292720" y="1773360"/>
            <a:ext cx="5652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osul natural, asigurat de existenţa elementelor primordiale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canic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zic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mic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logice. 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osul uman, constituit di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useţea corpului omenesc, alcătuită în principal din elemente naturale, native, dar şi dintr-o îndelungată şlefuire civilizatoar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useţea sufletească, rezultat aproape integral al eforturilor de înnobilare uman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useţea etică a vastelor relaţii dintre oameni [...]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useţea ambientală a locului şi rezultatele muncii omeneşti. 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osul artistic. Existenţa sa este asigurată […] d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urile reflectării frumuseţii din realitate; 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acităţile demiurgice ale omului de artă care, pornind de la lumea reală, făureşte o realitate nouă.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06:49Z</dcterms:modified>
  <cp:revision>38</cp:revision>
  <dc:subject/>
  <dc:title>SALARIUL</dc:title>
</cp:coreProperties>
</file>