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9F1D1-B510-488A-8011-A21C23307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DEE7-C355-43AA-8813-F5E9E93A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A378F-EB12-48ED-B57C-76B453A69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AC363-CF1A-4960-B7C6-7EDECD9A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CC52-2920-40D9-BAE1-B5AC3522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02751-8F14-4495-AD67-97ED9A6A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C5EA-975C-4F89-84DB-57F4D807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0211-18B7-4910-B7FE-C5B8E16F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11B50-0B7A-43FC-A678-19FF74AF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BDFC-EC5E-4B7B-85AF-689BD326B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5D5D-6E80-447B-A980-3A227204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24E8-3B19-4141-A0FE-577A1F919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13CF-A9C9-4BFC-B68E-91B2DF387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4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4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4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41"/>
                                        </p:tgtEl>
                                        <p:attrNameLst>
                                          <p:attrName>ppt_y</p:attrName>
                                        </p:attrNameLst>
                                      </p:cBhvr>
                                      <p:tavLst>
                                        <p:tav tm="0">
                                          <p:val>
                                            <p:strVal val="#ppt_y"/>
                                          </p:val>
                                        </p:tav>
                                        <p:tav tm="100000">
                                          <p:val>
                                            <p:strVal val="#ppt_y"/>
                                          </p:val>
                                        </p:tav>
                                      </p:tavLst>
                                    </p:anim>
                                    <p:set>
                                      <p:cBhvr>
                                        <p:cTn id="26" dur="1" fill="hold">
                                          <p:stCondLst>
                                            <p:cond delay="499"/>
                                          </p:stCondLst>
                                        </p:cTn>
                                        <p:tgtEl>
                                          <p:spTgt spid="41"/>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4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4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4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42">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tretch/>
        </p:blipFill>
        <p:spPr>
          <a:xfrm>
            <a:off x="5029200" y="1600200"/>
            <a:ext cx="1800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7a3</cp:lastModifiedBy>
  <dcterms:modified xsi:type="dcterms:W3CDTF">2012-06-10T10:50:07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