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D98C-5711-4E12-B417-64601D21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EF3D-CF98-4C23-B1D7-301A59ED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5078-7C83-47A1-92EB-6D0F2D27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4EB-635A-4909-B61F-FA2F71EC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F1D-A3C3-44AE-A79E-A05EEDCD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54B-ECF1-48ED-9DB5-1AE3E105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2BD-2FA6-4793-BA1B-10E8C978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39D-D286-40C0-8E4B-8C409493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B70-834B-47D7-BB10-CEBE9E38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B3C2-CE2E-4606-86C0-C886772E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7C18-CA95-4D11-A8B1-6068EBFE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3C26-EC3F-45BE-B249-D1413F87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E52C-F5FE-4CD8-9142-F0E1DE133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62160" y="3105000"/>
            <a:ext cx="481968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siunea iunie-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13</cp:lastModifiedBy>
  <dcterms:modified xsi:type="dcterms:W3CDTF">2012-06-18T11:35:41Z</dcterms:modified>
  <cp:revision>2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