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88DFC-B180-472B-88C3-099E8E1E3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44D6D-08CA-4859-8C3D-866D45074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72FBE-D955-43E4-9C83-F79D3ABF1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7A527-77AC-45A5-8D3A-C6AB4D795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FEE0E-CBF9-49C8-BE0F-9BC5E9D3D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4E373-AE41-4A40-8321-42EF03B40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EF6B8-C1E9-4D73-98FB-E3242496D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C67A0-7FFC-4D8F-806E-224961BA7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AD019-7AB2-46A0-997D-31D6EEC4B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D96B-8CC3-4ECA-9872-72365DD7E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3B49-22E5-4A67-9284-AC99A5387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AF289-A83E-46D8-9073-868C259A6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732F-8F31-4EFB-B469-4229B93DC7E6}"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8Z</dcterms:modified>
  <cp:revision>43</cp:revision>
  <dc:subject/>
  <dc:title>SALARIUL</dc:title>
</cp:coreProperties>
</file>