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48690-315A-433C-86F6-CDF6144FA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18DFA-5547-464C-B9C7-17944D1BC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47344-664B-457F-A924-02D997749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A5DB3-FBC2-4A80-B5D9-30A418E7F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CD96E-35BC-469C-A301-80696AFF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38E0B-90BA-4627-95AC-B468E345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B6C2D-8953-444E-9B01-58BF8FAC2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417F1-DE13-4870-BACF-68C79B237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B1A03-5DD9-456B-BE5D-E29347F2D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9B43-92FF-409B-9F39-1976A19FD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3B359-35C2-42DD-B748-D45A1EE0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51D7-459C-45E2-850A-FF79E242A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6ADD-05D6-4205-B79E-6700C2316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724280" y="304920"/>
            <a:ext cx="3934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 - 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cc00"/>
            </a:gs>
            <a:gs pos="100000">
              <a:srgbClr val="cc00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4b2</cp:lastModifiedBy>
  <dcterms:modified xsi:type="dcterms:W3CDTF">2012-06-18T10:40:32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