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8BD9D-35BB-43F3-AF7A-D0313506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9C6A-CCDB-460F-980F-884AF944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C256B-F983-4397-8DF4-2848A8E47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73108-5F38-4F32-8A4C-7583EB544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D9D3B-9885-46AB-A88D-590A48F05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94686-EEF9-49B2-A1C0-4A1E7C67C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030E3-BB5C-453A-AD7F-8A5DF3EDF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C7C5B-7FE5-4B6A-B825-E39BC53E5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D196B-A470-4240-AAE5-BBD392C23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56D80-DADA-495C-BDAF-10FECCD82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0466A-048C-420A-8768-1FF6B3B09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F7D6-A481-4DBF-80F0-3C4A954F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2AADE-0D65-4BBA-B0BA-D1064E3E4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BE82-3B2D-4842-940F-948D1DA45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D6847-B9B5-4F82-863B-820E85A19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0E9E9-89B8-46EF-9D5E-BEB6A2396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EDD98-C5AC-48DC-8B99-A4EC17E0A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25F4E-F3AA-4220-8518-E84BB76C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ABA77-5727-4A2C-9F30-4DBC69F83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35FD-E53B-4888-B276-3E86661F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1767-5486-4B68-8AD0-A38571C5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0C42-541A-41A7-83DF-8F42656A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4E59-3BEA-47CF-A77E-AF037D96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0ED6-FD0B-4E84-8392-63F0FECFF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A941-A40A-4CA6-8B92-81966FB149C1}"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575A-D267-4C1D-91C7-0987A7F73484}"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SIMFONIA</a:t>
            </a:r>
            <a:r>
              <a:rPr b="1" lang="en-US" sz="1700" spc="-1" strike="noStrike">
                <a:solidFill>
                  <a:srgbClr val="c4c3aa"/>
                </a:solidFill>
                <a:latin typeface="Arial"/>
              </a:rPr>
              <a:t> </a:t>
            </a:r>
            <a:endParaRPr b="0" lang="en-US" sz="1700" spc="-1" strike="noStrike">
              <a:solidFill>
                <a:srgbClr val="c4c3aa"/>
              </a:solidFill>
              <a:latin typeface="Arial"/>
            </a:endParaRPr>
          </a:p>
        </p:txBody>
      </p:sp>
      <p:sp>
        <p:nvSpPr>
          <p:cNvPr id="330"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Verdana"/>
            </a:endParaRPr>
          </a:p>
        </p:txBody>
      </p:sp>
      <p:sp>
        <p:nvSpPr>
          <p:cNvPr id="33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3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Picture 10" descr=""/>
          <p:cNvPicPr/>
          <p:nvPr/>
        </p:nvPicPr>
        <p:blipFill>
          <a:blip r:embed="rId1">
            <a:grayscl/>
          </a:blip>
          <a:stretch/>
        </p:blipFill>
        <p:spPr>
          <a:xfrm>
            <a:off x="5214960" y="92880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Verdana"/>
            </a:endParaRPr>
          </a:p>
        </p:txBody>
      </p:sp>
      <p:sp>
        <p:nvSpPr>
          <p:cNvPr id="33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9</cp:lastModifiedBy>
  <dcterms:modified xsi:type="dcterms:W3CDTF">2012-06-19T10:51:36Z</dcterms:modified>
  <cp:revision>46</cp:revision>
  <dc:subject/>
  <dc:title>SALARIUL</dc:title>
</cp:coreProperties>
</file>