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3C52C-6F19-4EE0-9ECC-B932E4DA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36F5-74A9-4148-B8A2-949A227E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F83AA-2E07-46A8-B687-D31B23214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7360B-BFCA-422F-AFA0-2FFB58B19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38DB-20AF-41FC-A165-9281C0D08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3D67E-D18C-44F2-985C-00FECA0D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6C9F-9EDD-417F-B644-2BCD585E0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4DAB-49F0-453E-A8A5-C651244E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69E9-63AE-4DEA-B1B1-0EB51ADE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8D4C-53D9-45D7-9780-AB1AE5C8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3F80-D34D-490A-B3A3-84576308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2FCC-9765-48AC-9617-1F9407E74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38CC-140F-4DB9-B79B-B5F38DE68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5148360" y="17002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NEE</dc:creator>
  <dc:description/>
  <dc:language>en-US</dc:language>
  <cp:lastModifiedBy>LiviaT</cp:lastModifiedBy>
  <dcterms:modified xsi:type="dcterms:W3CDTF">2012-03-15T08:15:51Z</dcterms:modified>
  <cp:revision>3</cp:revision>
  <dc:subject>CNEE</dc:subject>
  <dc:title>CNEE</dc:title>
</cp:coreProperties>
</file>