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C0F7-43AD-4A44-BF67-C1A83792C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D8B7-F88D-4B9B-9012-1BBD245CE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E2E2-54D3-47A5-ABC9-0A084A86C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F550-3DCE-4486-AD82-D51CE1BCC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8EAE4-074F-46F6-8F40-76546F939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F28FD-E8F4-4B4D-B59D-44C8D904D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52B49-EE2B-4A9C-8091-D046427E9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03D13-BF5F-4595-BB1E-7B168F2F9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F89A1-1351-4E80-9C12-E6E13D4F8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EF0DF-1818-4ECE-9326-3AD37238E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16EE6-DB8A-4700-B459-CD1084071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9F4F-F13B-43BF-A2F2-14C66DD49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5A68E-06A4-4021-8F81-E8608E540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58DE1-2C5C-49D4-8BC4-9252BA802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78511-BB33-40A7-B75E-C116E334D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AD456-B14A-43CF-AC9D-6B3BEC369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85619-D27E-4C65-8C0D-0C51F9230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3658-AB47-4EBA-9F23-894A41E38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136D-3A41-46C1-A0FD-24D0070B2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DDA6-C5BB-484D-9D93-2E5CD1B2A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12C3-DA2D-4C76-9C67-DBC032A27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A6A0-67B6-44FC-B1A0-AFCF11A0B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1AD9-CDA8-4BE9-B364-899C38148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245B-D0BD-42D8-BDB3-CEF2EE6E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2A378-52B7-488B-ABB5-5F8632A28390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96420-031C-4DBF-B1B8-4BCA78B6D3EB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f7d47d"/>
                </a:solidFill>
                <a:latin typeface="Arial"/>
              </a:rPr>
              <a:t>ALTE ROMANE  REALISTE INTERBELICE</a:t>
            </a:r>
            <a:endParaRPr b="0" lang="en-US" sz="1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836360" y="4021200"/>
            <a:ext cx="5745240" cy="106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2f1311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2f1311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2f1311"/>
                </a:solidFill>
                <a:latin typeface="Arial"/>
              </a:rPr>
              <a:t>, </a:t>
            </a:r>
            <a:r>
              <a:rPr b="0" i="1" lang="ro-RO" sz="1000" spc="-1" strike="noStrike">
                <a:solidFill>
                  <a:srgbClr val="2f1311"/>
                </a:solidFill>
                <a:latin typeface="Arial"/>
              </a:rPr>
              <a:t>clasa a X</a:t>
            </a:r>
            <a:r>
              <a:rPr b="0" i="1" lang="en-US" sz="1000" spc="-1" strike="noStrike">
                <a:solidFill>
                  <a:srgbClr val="2f1311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, Doina Ruşti)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7d47d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f7d47d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f7d47d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f7d47d"/>
                </a:solidFill>
                <a:latin typeface="Arial"/>
              </a:rPr>
              <a:t>Examenul de bacalaureat 2012</a:t>
            </a:r>
            <a:br>
              <a:rPr sz="900"/>
            </a:br>
            <a:r>
              <a:rPr b="0" lang="ro-RO" sz="900" spc="-1" strike="noStrike">
                <a:solidFill>
                  <a:srgbClr val="f7d47d"/>
                </a:solidFill>
                <a:latin typeface="Arial"/>
              </a:rPr>
              <a:t>Proba de evaluare a competenţelor digitale</a:t>
            </a:r>
            <a:r>
              <a:rPr b="0" lang="en-US" sz="900" spc="-1" strike="noStrike">
                <a:solidFill>
                  <a:srgbClr val="f7d47d"/>
                </a:solidFill>
                <a:latin typeface="Arial"/>
              </a:rPr>
              <a:t> – document de lucru</a:t>
            </a:r>
            <a:endParaRPr b="0" lang="en-US" sz="9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Liviu Rebreanu – Ion (1920): 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Glasul pământului şi Glasul iubirii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Liviu Rebreanu – Pădurea spânzuraţilor (1922):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Liviu Rebreanu – Răscoala (1932): surprinde psihologia colectivă într-un moment limită, în contextul evenimentului real de la 1907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Liviu Rebreanu – Gorila (1938):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6" name="Picture 11" descr="comp_i"/>
          <p:cNvPicPr/>
          <p:nvPr/>
        </p:nvPicPr>
        <p:blipFill>
          <a:blip r:embed="rId1">
            <a:grayscl/>
          </a:blip>
          <a:stretch/>
        </p:blipFill>
        <p:spPr>
          <a:xfrm>
            <a:off x="4876920" y="1447920"/>
            <a:ext cx="1439640" cy="143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2f1311"/>
              </a:buClr>
              <a:buSzPct val="8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2f1311"/>
              </a:buClr>
              <a:buSzPct val="8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2f1311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2f1311"/>
              </a:buClr>
              <a:buSzPct val="8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2f1311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2f1311"/>
              </a:buClr>
              <a:buSzPct val="8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2f1311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2f1311"/>
              </a:buClr>
              <a:buSzPct val="8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2f1311"/>
              </a:buClr>
              <a:buSzPct val="8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2f1311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2f1311"/>
              </a:buClr>
              <a:buSzPct val="8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2f1311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2f1311"/>
              </a:buClr>
              <a:buSzPct val="8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2f1311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2f1311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2f1311"/>
              </a:buClr>
              <a:buSzPct val="8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2f1311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2f1311"/>
              </a:buClr>
              <a:buSzPct val="8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2f1311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7d47d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f7d47d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f7d47d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b3s3</cp:lastModifiedBy>
  <dcterms:modified xsi:type="dcterms:W3CDTF">2012-06-19T11:30:32Z</dcterms:modified>
  <cp:revision>24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