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A4050-238E-46E8-834E-7B654FB2D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E0122-C97A-487E-BD85-59B43E623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20590-2739-470C-BDCC-2C3A70554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99725-6566-4032-B562-6239DF112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9D039-EB67-416B-B24D-51F63576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1C43-795C-4515-AAC8-1326A31C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FDF37-1562-4460-947D-534ACA8B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8AAB-93D6-4496-AD59-E236B694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71F3C-19D1-4030-81E1-A39D64BE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2277-5ABF-441A-BB33-CDC226FE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A7C1E-1DE8-4DD4-B628-21D1EAE8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FBCC-EBC1-460F-A9CE-74792F1A9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8E45-C7F2-42AA-86A0-426C03913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95640" y="170028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siunea iunie-iul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66"/>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p:transition spd="med"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p:transition spd="med"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8T10:56:26Z</dcterms:modified>
  <cp:revision>47</cp:revision>
  <dc:subject/>
  <dc:title>SALARIUL</dc:title>
</cp:coreProperties>
</file>