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DA7-9072-47BD-A849-D52B337D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B6CD-2B34-4036-A985-E187C190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699-61CA-4244-B3C2-9FF25AFE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255-BE5A-4377-99EC-41AD73AD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B43-EFBA-4F73-A52B-9139A525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478-8E5B-42AA-8B7C-EDFCE108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549-15CC-4664-984B-B6CEBEAE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5652-F022-4684-8EF8-DFEE3084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ABA3-A8BE-40D4-9AFE-A7050C6E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8B30-FE6F-49EA-8F1A-960CBA41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2F8-2615-4E87-A916-DE968B3B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272-72F8-4FFA-B242-85864787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2650-C3D1-44C2-87EC-03B5A1DB0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PARIŢIA ŞI RĂSPÂNDIREA CREŞTINISMUL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181480" y="144792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dactaţi pe scurt semnificaţia următorilor terme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rce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rdonaţi cronologic următoarele evenimen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vizarea Imperiului 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tragerea administraţiei şi armatei romane din Da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nirea hunilor în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urmări au av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ătrunderea ostrogoţilor în I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Justin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Diocleţ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12</cp:lastModifiedBy>
  <dcterms:modified xsi:type="dcterms:W3CDTF">2012-06-19T11:25:02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