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E29-3F5A-4AF0-90CC-1958A3AB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352-6EE9-4A2D-A0D4-8EAD91FE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A9E-A011-4B52-BE53-F4287272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D6D-A4C6-48A6-ACFD-8ED1DF9A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1D8-41E8-476D-8C3F-AAF8B7E0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708-24AD-420F-8982-5703BFA8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DBF-8F38-40C6-9E77-24D07AF8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807-CD81-468E-9AA1-7F1070F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B0D-F7C5-49A1-B9FD-DFD2D2D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D48-6AF7-4755-B9C7-DA22BB1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C80-3F7E-417E-87E0-1DC5414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DAB-6182-422A-ABE6-83A4C170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75B-8267-46E3-BDCA-045809C87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508720" y="1557360"/>
            <a:ext cx="561960" cy="722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1:58Z</dcterms:modified>
  <cp:revision>30</cp:revision>
  <dc:subject/>
  <dc:title>SALARIUL</dc:title>
</cp:coreProperties>
</file>