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E6A-716D-4638-9D8C-9B57E45B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842-3390-4ABF-B7AE-1F210F35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563-2103-4F4C-AC2F-3636A978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90A-AFCA-4498-AB7F-ADA6AFAE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6E7-9775-4777-9756-0A76A180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431-6BD4-4C0A-B086-860DC9C1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D4F-6695-4E76-A98D-93662BAF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3A5-3BFE-44A9-AEF5-DFCCE53B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02D-C8C4-48B4-8735-81AD14DD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5B1-05AD-4CB3-80E5-454D0D2A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A85-D59C-4D52-857A-7C34F90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414-372C-4D14-B5F4-E2BEACC5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7CF6-E0A0-42D1-8842-8A06EAE7D4F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FRUMOSU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2:49:49Z</dcterms:modified>
  <cp:revision>37</cp:revision>
  <dc:subject/>
  <dc:title>SALARIUL</dc:title>
</cp:coreProperties>
</file>