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D91F-C3C9-498C-A128-F2D94A86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7C5C-5646-4AA7-A035-6A73ABCC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1675-7C6E-4EBD-BD11-5CB4C141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F3EA-1A07-473F-8A1D-6EF26841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D475-7AF7-42E1-828F-706032D3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A99-3E10-496F-AA6E-0F8B0ED9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5104-D7AC-4D40-9D61-C90BF43B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97EA-B881-4443-8EEA-56E10EBC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80C8-6C56-4B18-97D1-17211DE4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0683-D242-4EFB-A6B3-973A24F4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6513-723A-471A-9D61-942F746E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E2CF-847B-4F58-9E05-0BD39B87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19C0-3DAB-408A-813B-753D98808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VEST ŞI DE SUD-V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Geograf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28960" y="3105000"/>
            <a:ext cx="5086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siunea Iunie- 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d52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eastă regiu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grafi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 se află în partea de vest a continentului, la contactul cu Europa şi Africa. Are, în cea mai mare parte, limite marine, cele terestre fiind prezente numai în est, unde se învecinează cu Asia de Sud, şi pe o mică porţiune în nord, unde se întinde lanţul muntos Caucaz, care constituie graniţa dintre Asia şi Europa. Deşi deţine numai o şeptime din suprafaţa Asiei şi mai puţin de o zecime din populaţia acesteia, Asia de Vest şi de Sud-Vest concentrează peste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ime din ţările continentului.Totodată este regiunea din Asia cu cea mai mare varietate de populaţii: arabi, persani şi turci – care formează majoritatea, evrei, armeni, greci, azeri, georgieni ş.a. Armenii, evreii şi grecii sunt printre cele mai vechi popoare ale lumi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Vest şi de Sud-Vest este cea mai bogată regiune din lume în petrol şi gaz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 dezvoltare economică, ţările de aici au niveluri dife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, Asia de Vest şi de Sud–Vest este o regiune de platouri vechi, constând din: două peninsule, Arabia şi Asia Mică, ocupate de platouri înconjurate de munţi; Podişul Iranian, desfăşurat la est de Golful Persic; o câmpie joasă şi fertilă, Câmpia Mesopotamiei.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âmpia Mesopotamiei este singura câmpie mai întinsă din Asia de Vest şi de Sud–Vest. Este foarte fertilă, datorită celor două fluvii car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limitează: Tigru şi Eufrat. Fertilitatea ei a favorizat încă din vechime dezvoltarea unor mari civilizaţii: sumeriană, akkadiană, babilonian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comp_i"/>
          <p:cNvPicPr/>
          <p:nvPr/>
        </p:nvPicPr>
        <p:blipFill>
          <a:blip r:embed="rId1"/>
          <a:stretch/>
        </p:blipFill>
        <p:spPr>
          <a:xfrm>
            <a:off x="5638680" y="198108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ificarea ţărilor Asiei de Vest şi de Sud-V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Apropi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rcia, capitala: Ank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pru, capitala: Nico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ria, capitala: Dama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ban, capitala: Beir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srael, capitala: Ierusal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rdania, capitala: Amma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Mijloci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abia Saudită, capitala: Riy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Yemen, capitala: S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’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an, capitala: Mus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miratele Arabe Unite, capital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bu Dha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Qatar, capitala: Do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ahrain, capitala: Mana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te ţ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menia, capitala: Erev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orgia, capitala: Tbil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erbaijan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pital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Ba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7b2</cp:lastModifiedBy>
  <dcterms:modified xsi:type="dcterms:W3CDTF">2012-06-18T10:55:53Z</dcterms:modified>
  <cp:revision>38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