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0DE6-5B50-493C-93E8-D6CD10D84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7E90-2960-49ED-AA01-48B914D62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A56D-D44B-4F78-94E4-4D161E223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7A75-9928-41C5-8C99-57778E212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CE246-48DB-4ED7-890A-B0139A467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A46F0-AB5E-4074-8B26-D9C46C6A2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0957B-0D81-4F44-A589-AA86606BB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615B3-95AF-4873-8FE5-F97E796E8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97EA5-8BAB-4655-A5B7-23DC56B87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A6E37-FFFA-4901-B507-8AD197828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63D6E-18A9-44EA-BE93-9A100F6D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B15A-B8C1-4E87-B50C-3A387429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7F986-2E9D-499B-97A8-BB7F8C39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C6B6C-7118-4ECD-B3A6-419B1DED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17114-4286-4BE3-B9D3-1E51A98ED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DBC1D-A635-45CF-94FB-4ACBCF4CD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FB07F-15FA-4489-A584-3295A5E18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52D6-7DF3-47EB-B9E0-0B93261A7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B200-BD0A-464E-8BB7-277BA0FC1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FB4A-D866-4DBA-A8E9-AC53E6A83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2FA5-6859-4F51-910F-94CE0517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4184-E249-45A8-872B-66BBCEA1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752A-7DCA-4BAA-9D5B-DFC207F6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4587-DF16-43AF-A05B-282E323C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72344-745C-4167-94FC-CCB23BB63CD6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55D8-1F9E-45A7-82B5-67B0BB8AA161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f7d47d"/>
                </a:solidFill>
                <a:latin typeface="Arial"/>
              </a:rPr>
              <a:t>METODA BACKTRACKING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083960" y="3870360"/>
            <a:ext cx="5745240" cy="6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2f1311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2f1311"/>
                </a:solidFill>
                <a:latin typeface="Arial"/>
              </a:rPr>
              <a:t>Manualul de Informatică, clasa a X-a, </a:t>
            </a:r>
            <a:r>
              <a:rPr b="0" lang="ro-RO" sz="1000" spc="-1" strike="noStrike">
                <a:solidFill>
                  <a:srgbClr val="2f1311"/>
                </a:solidFill>
                <a:latin typeface="Arial"/>
              </a:rPr>
              <a:t> Livia Ţoca, Andreea-Ruxanda Demco, Cristian Opincaru, Adrian Sindile</a:t>
            </a: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o-RO" sz="1000" spc="-1" strike="noStrike">
                <a:solidFill>
                  <a:srgbClr val="2f1311"/>
                </a:solidFill>
                <a:latin typeface="Arial"/>
              </a:rPr>
              <a:t>)</a:t>
            </a:r>
            <a:r>
              <a:rPr b="0" lang="en-GB" sz="1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2f1311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2f1311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De multe ori, în aplicaţii apar probleme în care se cere găsirea unor soluţii de forma x=x1x2…xn, unde xi</a:t>
            </a:r>
            <a:r>
              <a:rPr b="0" lang="ro-RO" sz="1200" spc="-1" strike="noStrike">
                <a:solidFill>
                  <a:srgbClr val="2f1311"/>
                </a:solidFill>
                <a:latin typeface="Symbol"/>
                <a:ea typeface="Symbol"/>
              </a:rPr>
              <a:t></a:t>
            </a: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Ai, i=1,…,n, în care x1...xn trebuie să îndeplinească anumite condiţii. Am putea să generăm toate combinaţiile posibile de valori şi apoi să le alegem doar pe cele convenabile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Considerând mulţimile Ai={ai,1, ai,2,…,ai,n(i)}, aceste combinaţii s-ar putea construi astfel: pentru fiecare valoare posibilă fixată pentru componenta xi, vom alege toate valorile posibile</a:t>
            </a: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pentru componenta xi</a:t>
            </a: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1 şi pentru fiecare astfel de valoare fixată pentru xi</a:t>
            </a: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+1</a:t>
            </a: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 vom alege toate valorile posibile pentru componenta xi</a:t>
            </a: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+2 etc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Rezolvând problema în acest mod, deci generând toate elementele produsului cartezian A1xA2x...</a:t>
            </a: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x</a:t>
            </a: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An şi verificând abia apoi dacă fiecare combinaţie este o soluţie, eficienţa este scăzută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Astfel, dacă de exemplu ne propunem să generăm toate cuvintele formate cu literele a, b, c, aşa încât fiecare literă să apară o singură dată, combinaţiile posibile sunt în număr de 27, dintre care convin doar 6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Tehnica Backtracking propune generarea soluţiei prin completarea vectorului x în ordinea x1x2...xn şi are la bază un principiu „de bun simţ”: dacă se constată că având o combinaţie parţială de forma v1v2...vk-1 (unde v1, ..., vk-1 sunt valori deja fixate), dacă alegem pentru xk o valoare vk şi combinaţia rezultată nu ne permite să ajungem la o soluţie, se renunţă la această valoare şi se încearcă o alta (dintre cele netestate în această etapă). Într-adevăr, oricum am alege celelalte valori, dacă una nu corespunde nu putem avea o soluţie. </a:t>
            </a: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2f1311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2f1311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6" name="Picture 9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5364000" y="1773360"/>
            <a:ext cx="144000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Exerciţii şi probleme </a:t>
            </a: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Dacă pentru nivelul k oarecare al vectorului soluţie am verificat toate valorile posibile: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algoritmul se încheie</a:t>
            </a: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se revine pe nivelul anterior;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se trece pe nivelul următor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După ce s-a găsit o valoare convenabilă pentru componenta k, următorul pas este: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se trece la componenta următoare, k</a:t>
            </a: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+1</a:t>
            </a: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 (dacă nu s-a ajuns la soluţie);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se rămâne la componenta k, căutând în continuare o altă valoare convenabilă;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se revine la componenta k-1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În ce condiţii se revine la componenta anterioară</a:t>
            </a: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după ce am găsit o valoare convenabilă pentru componenta k;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dacă valoarea testată pentru componenta k nu convine;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dacă am testat toate valorile posibile pentru componenta k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2f1311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2f1311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s9b2</cp:lastModifiedBy>
  <dcterms:modified xsi:type="dcterms:W3CDTF">2012-06-19T10:52:17Z</dcterms:modified>
  <cp:revision>32</cp:revision>
  <dc:subject/>
  <dc:title>SALARIUL</dc:title>
</cp:coreProperties>
</file>