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ABA0-7F15-4FE8-825F-71C9A8ED8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525C-AE1E-4C66-B3AE-3080D5E4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A6CE-1194-4ABC-9172-1AF6985C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62F1-EEA4-4544-885A-578AA00BC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0229-6712-4232-AF35-825C851B4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6144-561C-4F1F-AB5B-666667E4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405D-87C2-4E31-9EC2-EBF8EDDA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D145-66B6-43EF-A998-97ADB2AE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716F-531D-43F8-AAE7-5C4873F8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8CD7-A527-4C42-A8A2-AA761945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BD84-9CD3-45FB-8664-58786940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C101-D11F-4619-93CF-E63FDBA6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5FC3-D899-463C-8963-ECEC7AD3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7F34-D60D-4E68-B3C1-7AFED4C9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C612-EDF7-4BC7-A443-CB8A53C6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1082-DD1F-4072-875D-B8BFFD34C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9EEB-BF88-4728-A66D-6C52D72B0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1497B-22A7-4C04-8936-FA3FEEED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E6977-4710-4B2D-9F48-FA9F3615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EC607-D29E-476A-BFEB-ED7E43B5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F34E2-5DBB-4618-91E6-869066D1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BF4CC-8ABC-4097-914C-C7DF4CD0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D40D-A4D5-47E4-BACD-8AD2A995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273AA-B933-4BFA-B586-A5C5948A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5A01D-BC68-4AA1-AF58-C1532B51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520F2-1AC4-4740-A8AD-339DFEB1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CEA20-8840-474C-B524-A52E6E8D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016C2-8485-4760-9600-413B7198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42E03-B4FD-4EDA-8194-2E895B60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9F4CE-1992-4869-9D5C-85863DC68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710D-688F-4BC4-9BE6-486F9F3C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3787-9057-4BCD-A3E1-0946F1D3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2280-F340-49F6-8D92-1CE5B564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277C-B10D-43FA-940A-29CB5A55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81DC-1C0D-455D-9A47-BC483A9F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08F9-26A7-43C2-91AA-A333157E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E709-513A-4025-80F9-0C90DE102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13F4-1B06-45EE-8F6C-CBC332BC0A2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1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DE91-DC8A-47DB-8D77-9C6F27CD11E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SU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ŞI OCEANUL IND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220968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Geografie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 rot="20846400">
            <a:off x="914400" y="1447560"/>
            <a:ext cx="7238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igh Tower Text"/>
              </a:rPr>
              <a:t>Sesiunea iunie-iulie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igh Tower Text"/>
              <a:ea typeface="High Tower Tex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 Black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Arial Black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Arial Black"/>
                <a:ea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572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13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Asia de Sud se află în partea meridională a continentului. Are în egală măsură limite marine, în sud, unde este scăldată de apele Oceanului Indian, şi terestre, în rest, fiind mărginită de alte regiuni asiatice. Cuprinde o parte continentală, o mare peninsulă (Peninsula Indiană), o insulă mai întinsă (Ceylon) şi câteva arhipeleaguri (Maldive, Andaman, Nicobare).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113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În ansamblu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Asia de Sud este o regiune de platouri şi munţi înalţi. Platouri există îndeosebi în partea sudică [...]. În schimb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munţii se desfăşoară în partea nordică, unde formează cel mai înalt şi mai masiv lanţ muntos de pe glob: Hindu Kush – Karakorum – Himalaya. În acest lanţ muntos sunt concentrate toate cele opt vârfuri de peste 8000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m de pe glob, inclusiv cel mai înalt pisc: Chomolungma, cu 8848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m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113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În acestă regiune există şi câmpii, fără să egaleze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însă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dimensiunile platourilor şi ale munţilor. Face excepţie Câmpia Indo–Gangetică, una dintre cele mai întinse de pe glob: se desfăşoară pe circa 2000 km lungime şi pe câteva sute de kilometri lăţime. Este o câmpie joasă şi fertilă, udată de fluviile Indus, Gange şi Brahmaputra, care sunt cele mai mari din regiune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113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Asia de Sud este una dintre cele mai populate regiuni ale continentului şi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totodată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de pe întreaga planetă: concentrează mai mult de o treime din populaţia Asiei. Totuşi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în Asia de Sud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se întâlnesc mai puţine populaţii decât în alte regiuni ale continentului, între care: indieni, pakistanezi, bengalezi, afghani, nepalezi, singhalezi.[…]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113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Oceanul Indian, cu cei 73,4 milioane km</a:t>
            </a:r>
            <a:r>
              <a:rPr b="0" lang="ro-RO" sz="1200" spc="-1" strike="noStrike" baseline="30000">
                <a:solidFill>
                  <a:srgbClr val="ffcc00"/>
                </a:solidFill>
                <a:latin typeface="Arial Black"/>
              </a:rPr>
              <a:t>2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ai săi, este al treilea ca întindere între oceanele planet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ei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, fiind delimitat de patru continente: Africa (în vest), Asia (în nord), Australia (în est) şi Antartica (în sud). Spre deosebire de oceanele Pacific şi Atlantic, se desfăşoară în cea mare parte în emisfera sudică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7" name="Picture 13" descr="comp_i"/>
          <p:cNvPicPr/>
          <p:nvPr/>
        </p:nvPicPr>
        <p:blipFill>
          <a:blip r:embed="rId1"/>
          <a:stretch/>
        </p:blipFill>
        <p:spPr>
          <a:xfrm>
            <a:off x="5257800" y="190512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spundeţi la următoarele întreb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rmăriţi harta şi tabelul ţărilor din Asia de Sud şi notaţi în cai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insul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fără ieşire la m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ara cea mai populat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regiunea Asia de Sud prin trei elemente specif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rse ale subsolulu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alizaţi harta Oceanului Indian şi numiţ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aralelele importante care-l traverseaz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zonele climatice în care se desfăşoară suprafaţa ocean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alele insu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nţul muntos subma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b3s11</cp:lastModifiedBy>
  <dcterms:modified xsi:type="dcterms:W3CDTF">2012-06-18T11:11:56Z</dcterms:modified>
  <cp:revision>39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