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59481-27C0-4BF1-A1EA-5D4B0471E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E1159-52E2-4D7D-9951-A78CA8523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1EC5B-2227-4FE7-8D13-77EE8306B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26CBC-9A31-41BF-82D2-2425CC1D3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1A72E-64FB-4728-966F-B49E9C177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D948D-2D5F-4FA7-A54A-DFB9608D1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9A09F-0DE4-4FA3-B225-94A542AF7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00873-6B10-493D-865A-811307015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42E97-8FCF-4599-B9A1-A8B90403D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1570B-0D35-4957-B5BD-A854AF6F8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FC0FB-9737-4E89-8BA9-0E816EAD4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BD5A9-3E65-4352-A3E7-66A4B07B5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75A6-38EA-4C0F-9409-159FAC571B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fade" transition="in">
                                      <p:cBhvr additive="repl">
                                        <p:cTn id="12"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4724280" y="1219320"/>
            <a:ext cx="426744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ord</cp:lastModifiedBy>
  <dcterms:modified xsi:type="dcterms:W3CDTF">2012-06-19T11:12:15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