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3" end="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0EFD1-DECC-404D-AB09-6C973539E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BF321-DA3A-43F6-BD43-88A64A3A3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E09F4-5947-4665-AE94-F56E8BA7B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624D0-F0F9-4A21-A48A-AD6DF4992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59621-A11F-48A9-B86F-D2CFA9FB3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B6983-7833-4573-9CCE-D4776C591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F531B-2F9F-411D-A356-B9BED8B88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59D78-35FC-482E-87C1-DB12DE51C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DC0CF-23CA-4FFE-8C5D-96454577A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46FB6-2916-4919-AD2F-C562F8259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DD22C-05AC-4F10-9DFA-4075C5B7E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70091-23A1-4D44-9A04-C2CDEA5E3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28CF4-602D-47D8-AE61-35C6349E9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D1DC9-60DB-4E52-AC81-7E7A5FF76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E746C-1F68-4FC0-8377-0B1724077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D5C44-78F1-45F5-8AAD-5244B9F66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538F5-E930-4912-A613-67E0467CB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C19D87-57B3-40AB-BB75-577EECC8E9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99C85-943D-4B22-A314-F3A5011790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4CD9B-372A-4506-ADB0-29B789D08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07447-9DBF-4DE7-A833-3F43235EF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62A3D-A9A5-489F-A6E0-861E50226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DC41-CFA2-4C88-83EE-937151937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0FC789-444F-437E-9388-561D8DF9CF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A1504-5645-41D1-AB94-8BF9569CE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43B79-CD47-4781-A9BD-370F6BA87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19E6E-D1D1-468E-B69A-6EA4D16A3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C2B80F-9F42-4A77-80DF-D4CDDFEFE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55A5CF-6AD8-4317-A46F-B90CC76C52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EC499A-0E70-4774-9B83-8C946FB2E3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04C189-B129-4ECA-9C55-7B699DF1A6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658C3-C93E-41B5-9A90-D40AE821A6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6E6198-85F8-43E8-8803-15F498F4C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8EE04-1E6B-4E2E-9411-901F2D83D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B3772B-CC39-412A-A597-0E3961F1A6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44D3C1-EE29-4583-963C-9CA5ECCF6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BE599-0AC0-4CD0-BEBC-F19E86C86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91266-8DD3-47CC-8E5B-B371847F2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3E323-0537-4DAF-BCAF-AB3266357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ADFF5-13AE-49FE-9CF0-93CA89E46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198A6-B0E6-48A0-A805-222B0040FB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B64B24-81B7-4912-8073-CF2EBEED1D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71224E-CB46-4833-9DA8-2D0B1B62E9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AD193-8B43-4314-BFAA-C3F1E3401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BD28B-8625-4426-A7F8-22E9D1FA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79185-D8F7-4ABD-ABDF-068054709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5386-5068-4439-8088-12364B8F6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EC92-FA7B-4944-B45F-46B00FBF3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B98B-CDAA-4097-8117-82EEDCA2EE4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17C1-B60D-404A-B6B4-72A8C72FABE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59" name=""/>
          <p:cNvGrpSpPr/>
          <p:nvPr/>
        </p:nvGrpSpPr>
        <p:grpSpPr>
          <a:xfrm>
            <a:off x="0" y="0"/>
            <a:ext cx="9140760" cy="6851520"/>
            <a:chOff x="0" y="0"/>
            <a:chExt cx="9140760" cy="6851520"/>
          </a:xfrm>
        </p:grpSpPr>
        <p:sp>
          <p:nvSpPr>
            <p:cNvPr id="16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72" name=""/>
            <p:cNvGrpSpPr/>
            <p:nvPr/>
          </p:nvGrpSpPr>
          <p:grpSpPr>
            <a:xfrm>
              <a:off x="304920" y="3625920"/>
              <a:ext cx="1990440" cy="1465200"/>
              <a:chOff x="304920" y="3625920"/>
              <a:chExt cx="1990440" cy="1465200"/>
            </a:xfrm>
          </p:grpSpPr>
          <p:sp>
            <p:nvSpPr>
              <p:cNvPr id="173"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4"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4"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8"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9"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91"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3"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0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20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20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6706-49CA-487E-B517-668A55CF9B6A}"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39" name=""/>
          <p:cNvGrpSpPr/>
          <p:nvPr/>
        </p:nvGrpSpPr>
        <p:grpSpPr>
          <a:xfrm>
            <a:off x="0" y="0"/>
            <a:ext cx="9140760" cy="6851520"/>
            <a:chOff x="0" y="0"/>
            <a:chExt cx="9140760" cy="6851520"/>
          </a:xfrm>
        </p:grpSpPr>
        <p:sp>
          <p:nvSpPr>
            <p:cNvPr id="24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252" name=""/>
            <p:cNvGrpSpPr/>
            <p:nvPr/>
          </p:nvGrpSpPr>
          <p:grpSpPr>
            <a:xfrm>
              <a:off x="304920" y="3625920"/>
              <a:ext cx="1990440" cy="1465200"/>
              <a:chOff x="304920" y="3625920"/>
              <a:chExt cx="1990440" cy="1465200"/>
            </a:xfrm>
          </p:grpSpPr>
          <p:sp>
            <p:nvSpPr>
              <p:cNvPr id="253"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4"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3"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4"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8"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9"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7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7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28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28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4540-9FCC-4B3E-9FEE-A7FE34883336}"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FRUMOSUL</a:t>
            </a:r>
            <a:endParaRPr b="0" lang="en-US" sz="1400" spc="-1" strike="noStrike">
              <a:solidFill>
                <a:srgbClr val="ffff99"/>
              </a:solidFill>
              <a:latin typeface="Arial"/>
            </a:endParaRPr>
          </a:p>
        </p:txBody>
      </p:sp>
      <p:sp>
        <p:nvSpPr>
          <p:cNvPr id="319" name="PlaceHolder 2"/>
          <p:cNvSpPr>
            <a:spLocks noGrp="1"/>
          </p:cNvSpPr>
          <p:nvPr>
            <p:ph type="subTitle"/>
          </p:nvPr>
        </p:nvSpPr>
        <p:spPr>
          <a:xfrm>
            <a:off x="1371600" y="38890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Estetică, clasa a XII-a,</a:t>
            </a:r>
            <a:r>
              <a:rPr b="0" lang="ro-RO" sz="1000" spc="-1" strike="noStrike">
                <a:solidFill>
                  <a:srgbClr val="ffffff"/>
                </a:solidFill>
                <a:latin typeface="Arial"/>
              </a:rPr>
              <a:t> Adrian Iorgulescu, Doina Pungă, Gheorghe Stroia)</a:t>
            </a:r>
            <a:endParaRPr b="0" lang="en-US" sz="1000" spc="-1" strike="noStrike">
              <a:solidFill>
                <a:srgbClr val="ffffff"/>
              </a:solidFill>
              <a:latin typeface="Verdana"/>
            </a:endParaRPr>
          </a:p>
        </p:txBody>
      </p:sp>
      <p:sp>
        <p:nvSpPr>
          <p:cNvPr id="320"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
        <p:nvSpPr>
          <p:cNvPr id="321"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siunea iunie - iulie</a:t>
            </a:r>
            <a:endParaRPr b="0" lang="en-US" sz="1000" spc="-1" strike="noStrike">
              <a:solidFill>
                <a:srgbClr val="ffffff"/>
              </a:solidFill>
              <a:latin typeface="Arial"/>
            </a:endParaRPr>
          </a:p>
        </p:txBody>
      </p:sp>
      <p:sp>
        <p:nvSpPr>
          <p:cNvPr id="322" name=""/>
          <p:cNvSpPr txBox="1"/>
          <p:nvPr/>
        </p:nvSpPr>
        <p:spPr>
          <a:xfrm>
            <a:off x="2690640" y="3143160"/>
            <a:ext cx="3762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siunea iunie-iuli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3"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324"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25" name="Picture 8" descr=""/>
          <p:cNvPicPr/>
          <p:nvPr/>
        </p:nvPicPr>
        <p:blipFill>
          <a:blip r:embed="rId1"/>
          <a:stretch/>
        </p:blipFill>
        <p:spPr>
          <a:xfrm>
            <a:off x="5292720" y="1773360"/>
            <a:ext cx="3333600" cy="3333600"/>
          </a:xfrm>
          <a:prstGeom prst="rect">
            <a:avLst/>
          </a:prstGeom>
          <a:ln w="0">
            <a:noFill/>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6"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rile de existenţă ale frumosului.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natural, asigurat de existenţa elementelor primordiale: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can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z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m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logice.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uman, constituit din:</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corpului omenesc, alcătuită în principal din elemente naturale, native, dar şi dintr-o îndelungată şlefuire civilizatoar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sufletească, rezultat aproape integral al eforturilor de înnobilare umană;</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etică a vastelor relaţii dintre oameni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ambientală a locului şi rezultatele muncii omeneşti.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artistic. Existenţa sa este asigurată […] d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ourile reflectării frumuseţii din realitate;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ăţile demiurgice ale omului de artă care, pornind de la lumea reală, făureşte o realitate nouă.[…]</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4</cp:lastModifiedBy>
  <dcterms:modified xsi:type="dcterms:W3CDTF">2012-06-18T10:59:46Z</dcterms:modified>
  <cp:revision>39</cp:revision>
  <dc:subject/>
  <dc:title>SALARIUL</dc:title>
</cp:coreProperties>
</file>