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404BD-48E2-4781-92B9-E1B1E6B8F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09E4-B3A0-429E-B8BE-0DAF85C6A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8C154-C05F-4762-BCC0-74B3E5292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AC888-B183-4A2F-93D9-6B41D8555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1F50-780D-49CB-A526-EA63B628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FAC6-6C57-4216-A647-17E25ACF4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05EAC-9616-4F8B-82DB-BED8697B5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9A283-32A4-46B1-939F-FA7BCA21F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68BC-0BC7-4229-A08E-3421D5530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EC932-C850-4DF7-B1ED-180686A4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6E70-52F9-478E-B113-7DCA3795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23AF-4736-43D4-83F1-253A8F652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1A6F-8D81-49FF-BD81-EC26F220CC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32000" y="270792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p:nvPr/>
        </p:nvSpPr>
        <p:spPr>
          <a:xfrm>
            <a:off x="684360" y="3213000"/>
            <a:ext cx="770544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ecan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z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him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iologi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corpului omenesc, alcătuită în principal din elemente naturale, native, dar şi dintr-o îndelungată şlefuire civilizatoar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sufletească, rezultat aproape integral al eforturilor de înnobilare umană;</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etică a vastelor relaţii dintre oameni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ambientală a locului şi rezultatele muncii omeneşt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courile reflectării frumuseţii din realitat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pacităţile demiurgice ale omului de artă care, pornind de la lumea reală, făureşte o realitate nouă.[…]</a:t>
            </a:r>
            <a:endParaRPr b="0" lang="en-US" sz="1200" spc="-1" strike="noStrike">
              <a:solidFill>
                <a:srgbClr val="000000"/>
              </a:solidFill>
              <a:latin typeface="Arial"/>
            </a:endParaRPr>
          </a:p>
        </p:txBody>
      </p:sp>
    </p:spTree>
  </p:cSld>
  <p:transition spd="slow" advTm="5000">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spd="slow" advTm="5000">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spd="slow" advTm="5000">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9a3</cp:lastModifiedBy>
  <dcterms:modified xsi:type="dcterms:W3CDTF">2012-06-18T11:07:10Z</dcterms:modified>
  <cp:revision>41</cp:revision>
  <dc:subject/>
  <dc:title>SALARIUL</dc:title>
</cp:coreProperties>
</file>