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C8095-2FA5-476C-8E8E-665D5FE8D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EEB51-8D0B-479E-B8C5-60DD7228A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B30A5-F2A6-469C-AA0C-CB3A53D31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9EFBF-939A-4ED5-9077-8855D8E33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4439D-89DA-4501-B404-42E72A597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F71C9-A436-4A38-9731-36ADC848B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8D97D-300F-4B2B-B2CA-4BE095685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697A-C53D-4342-8DA2-33651A434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BDBA0-918F-4BF2-9855-A09897EAA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926A-584A-4714-9FAE-EDA8E34E2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5701-8376-46B6-A7A2-7CA84DDDA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AEF4-005F-4E81-A08E-5CF9522C0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7A5A-9299-4A0B-A51A-23E449CFE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7"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8" name="Picture 5" descr=""/>
          <p:cNvPicPr/>
          <p:nvPr/>
        </p:nvPicPr>
        <p:blipFill>
          <a:blip r:embed="rId1">
            <a:grayscl/>
          </a:blip>
          <a:stretch/>
        </p:blipFill>
        <p:spPr>
          <a:xfrm>
            <a:off x="5105520" y="160020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50"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3: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