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DCE-572B-4A12-8347-07FCC1F8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27D-568E-496D-B5FE-C9F85034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6F0-1C30-4C60-948C-CD7871CC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6D1-9E7B-493D-80DC-60E5D4B6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B75-7378-494A-8E63-785AC696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785-8940-47D9-B66E-1B6D9225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7D8-8848-4FA0-ADE7-B4D0CE6E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172-B048-46D4-BA2F-E0C58406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BBF-59B9-4688-9E1F-BF8BFE1B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516-ACCF-4FD3-ABE9-4B3A4F0A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97F-87D5-4A12-9870-ECD88FDD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8A1-6C41-4C0A-AEE7-F385E5DC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65B-0E3C-41B7-9B54-4AC321CDE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rcRect l="0" t="9999" r="0" b="9999"/>
          <a:stretch/>
        </p:blipFill>
        <p:spPr>
          <a:xfrm>
            <a:off x="5181480" y="762120"/>
            <a:ext cx="36007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7b2</cp:lastModifiedBy>
  <dcterms:modified xsi:type="dcterms:W3CDTF">2012-06-19T10:51:26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