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667-06B7-462C-AB17-A2921287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A97-3E49-4B7D-AF55-28253B4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458-A3A0-4968-A864-6604B594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426-44D3-433A-8730-90B1737E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C2B-B560-458E-8CD3-3689137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834-1CF4-49E6-A781-A51699AD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EA5-33C6-435F-BAD3-96EC9407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687-C518-43CA-A67F-A0778D1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E90-ECA1-4496-88AD-039D8EB3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325-6C56-431F-AF71-71BC3C2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D7C-FC55-439B-BD54-C378F19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CE2-629B-4692-ADDC-65DBF96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2EA-0161-4282-A595-F406ED61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4875120" y="1446120"/>
            <a:ext cx="709560" cy="709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5a3</cp:lastModifiedBy>
  <dcterms:modified xsi:type="dcterms:W3CDTF">2012-06-19T11:27:40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