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42E3-D01F-4AF8-9E6B-1112AAFF2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248E-2591-4670-BF0F-093ED7FB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0D2E-21E4-47D4-81EE-156C40827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9752-4E12-4824-874B-6D5E2B818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185B-97C3-4C73-9914-7BDF56DF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FE4F-6F3B-4136-98CC-8CFFC297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D61D-468D-4124-ADF6-6D9A55B4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2419-1751-4224-BB4E-A15E8F33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90A5-DD8A-4C9A-B8CD-B70D9943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9869-D087-4635-AA93-1722D462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10B3-6BB4-4A3B-BE30-7D2167FF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214D-6CD0-4D86-A41A-DD9EF1D8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05CA-2A2E-47B3-B89C-106D278C8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SU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ŞI OCEANUL IND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Geografie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09680" y="4724280"/>
            <a:ext cx="481968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sesiunea iunie-iul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advTm="5000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572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Sud se află în partea meridională a continentului. Are în egală măsură limite marine, în sud, unde este scăldată de apele Oceanului Indian, şi terestre, în rest, fiind mărginită de alte regiuni asiatice. Cuprinde o parte continentală, o mare peninsulă (Peninsula Indiană), o insulă mai întinsă (Ceylon) şi câteva arhipeleaguri (Maldive, Andaman, Nicobare)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sambl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Asia de Sud este o regiune de platouri şi munţi înalţi. Platouri există îndeosebi în partea sudică [...]. În schim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munţii se desfăşoară în partea nordică, unde formează cel mai înalt şi mai masiv lanţ muntos de pe glob: Hindu Kush – Karakorum – Himalaya. În acest lanţ muntos sunt concentrate toate cele opt vârfuri de peste 80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 de pe glob, inclusiv cel mai înalt pisc: Chomolungma, cu 884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cestă regiune există şi câmpii, fără să egalez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s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dimensiunile platourilor şi ale munţilor. Face excepţie Câmpia Indo–Gangetică, una dintre cele mai întinse de pe glob: se desfăşoară pe circa 2000 km lungime şi pe câteva sute de kilometri lăţime. Este o câmpie joasă şi fertilă, udată de fluviile Indus, Gange şi Brahmaputra, care sunt cele mai mari din regiu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Sud este una dintre cele mai populate regiuni ale continentului ş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totodat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de pe întreaga planetă: concentrează mai mult de o treime din populaţia Asiei. Totuş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 Asia de Su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e întâlnesc mai puţine populaţii decât în alte regiuni ale continentului, între care: indieni, pakistanezi, bengalezi, afghani, nepalezi, singhalezi.[…]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ceanul Indian, cu cei 73,4 milioane km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ai săi, este al treilea ca întindere între oceanele plane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fiind delimitat de patru continente: Africa (în vest), Asia (în nord), Australia (în est) şi Antartica (în sud). Spre deosebire de oceanele Pacific şi Atlantic, se desfăşoară în cea mare parte în emisfera sud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comp_i"/>
          <p:cNvPicPr/>
          <p:nvPr/>
        </p:nvPicPr>
        <p:blipFill>
          <a:blip r:embed="rId1"/>
          <a:stretch/>
        </p:blipFill>
        <p:spPr>
          <a:xfrm>
            <a:off x="5257800" y="1905120"/>
            <a:ext cx="3238560" cy="3238560"/>
          </a:xfrm>
          <a:prstGeom prst="rect">
            <a:avLst/>
          </a:prstGeom>
          <a:ln w="0">
            <a:noFill/>
          </a:ln>
        </p:spPr>
      </p:pic>
    </p:spTree>
  </p:cSld>
  <p:transition advTm="5000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spundeţi la următoarele întreb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rmăriţi harta şi tabelul ţărilor din Asia de Sud şi notaţi în cai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insul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fără ieşire la m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ara cea mai populat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regiunea Asia de Sud prin trei elemente specif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ef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rse ale subsolulu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nalizaţi harta Oceanului Indian şi numiţ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aralelele importante care-l traverseaz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zonele climatice în care se desfăşoară suprafaţa ocean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alele insu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nţul muntos submar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s8b2</cp:lastModifiedBy>
  <dcterms:modified xsi:type="dcterms:W3CDTF">2012-06-18T11:17:09Z</dcterms:modified>
  <cp:revision>39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