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1FA3-CDA8-4516-BFCD-37E21924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E44-0C87-4FA9-A3AF-69D4990C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109-1A02-47FD-B5E4-FDA6F55F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F4C8-6C96-4077-A68C-9B6B95A7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707C-F02D-41F0-A85E-E47D685C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080B-F285-4257-9E13-2E2438C7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9E81-EB0A-4814-9EBD-A289A8D2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71D3-DCE1-4007-8F9C-5E36D25D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DA7-B7D3-4E11-947D-869858B8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E55-83CD-41A5-9BCC-D85A6FEC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4386-CE95-4C29-8CCE-470DC49B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32A-7D8E-46ED-94C6-EEC9ED68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6AD1-2260-42DB-9767-F99253A65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48120" y="1828800"/>
            <a:ext cx="2752560" cy="361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siunea iunie-iuli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med" advTm="5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15a3</cp:lastModifiedBy>
  <dcterms:modified xsi:type="dcterms:W3CDTF">2012-06-12T14:10:07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