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91E0-0AF1-47C8-B29A-2601BA6E6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6011-4CFE-4206-993A-4CF13A8F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7E67-C3C7-4193-9ACE-99D553AD3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AAB1-4B66-4A16-B0E5-852D19012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EB80-2B6C-4369-8D6B-E02A3AF1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DA3A-01B3-4A08-9B71-9B6E51BE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59D5-D648-4B3A-8852-83D9F7FB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9909-1A9A-4FB5-BFA7-9E07D177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2DD5-18CB-4BA9-8CAF-03F5D4A1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DD28-AC32-4BFF-92C3-1FA90EBA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7EE3-15B8-43BE-A6F9-C93A03BF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7172-DA90-4C8C-A453-AA74BDF1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7F51-6255-41BD-8B6E-32F2AB25B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Raspberry&amp;usg=ALkJrhgQ3zZW4g8mZYDF7JLgLLuv-v_Ycw" TargetMode="External"/><Relationship Id="rId4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Rubus&amp;usg=ALkJrhgVhKpNdVy0LgY7FhRnsFfzgthHFw" TargetMode="External"/><Relationship Id="rId5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Europe&amp;usg=ALkJrhgrO_3KePL2ro-6NklNnhde3Z4sPg" TargetMode="External"/><Relationship Id="rId6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Asia&amp;usg=ALkJrhi1gqEiytxnarClGy7Hcxv5XjuQYA" TargetMode="External"/><Relationship Id="rId7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Rubus_idaeus&amp;usg=ALkJrhhyEG2yZcCJdgClPurYNVw-aeQeJA#cite_note-fe-0" TargetMode="External"/><Relationship Id="rId8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Rubus_idaeus&amp;usg=ALkJrhhyEG2yZcCJdgClPurYNVw-aeQeJA#cite_note-grin-1" TargetMode="External"/><Relationship Id="rId9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North_America&amp;usg=ALkJrhhLT3GQuY0lxtfjHoqBRiPji30v3A" TargetMode="External"/><Relationship Id="rId10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Variety_%28biology%29&amp;usg=ALkJrhjbC-Gv7tUlqkuZB8XmaB4RyQoMbg" TargetMode="External"/><Relationship Id="rId11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Rubus_strigosus&amp;usg=ALkJrhj0mHLo-5lMgST3_ctKG6pRO2lKjQ" TargetMode="External"/><Relationship Id="rId12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Rubus_strigosus&amp;usg=ALkJrhj0mHLo-5lMgST3_ctKG6pRO2lKjQ" TargetMode="External"/><Relationship Id="rId13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Rubus_strigosus&amp;usg=ALkJrhj0mHLo-5lMgST3_ctKG6pRO2lKjQ" TargetMode="External"/><Relationship Id="rId14" Type="http://schemas.openxmlformats.org/officeDocument/2006/relationships/image" Target="../media/image2.jpeg"/><Relationship Id="rId15" Type="http://schemas.openxmlformats.org/officeDocument/2006/relationships/image" Target="../media/image3.jpeg"/><Relationship Id="rId16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ru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Rubus idaeus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(zmeura,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ocazional, ca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european de zmeură, Framboise,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sau pur şi simplu, 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zmeur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), este o specie de culoare roşie-fructe de 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ubu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nativ pentru 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Europ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de Nord şi 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Asia,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şi de obicei cultivat în alte regiuni temperate. 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[1]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[2]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O instalaţie de strâns legate, în 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America de Nord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, uneori considerate ca fiind 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soiu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Rubus idaeu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var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strigosus,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este mult mai frecvent tratate ca specie, distincte. 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strigosus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 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Rubu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(American zmeura), cum se face aici. [3] Red-fructe zmeura cultivate, chiar şi în America de Nord, sunt, în general,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Rubus idaeu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sau derivaţi horticole de hibrizi de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R.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idaeu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R.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strigosus,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aceste plante sunt toate abordate în prezentul artic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Fi&amp;scedil;ier: Malina.jpg"/>
          <p:cNvPicPr/>
          <p:nvPr/>
        </p:nvPicPr>
        <p:blipFill>
          <a:blip r:embed="rId14"/>
          <a:stretch/>
        </p:blipFill>
        <p:spPr>
          <a:xfrm>
            <a:off x="457200" y="1600200"/>
            <a:ext cx="3733920" cy="2182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15"/>
          <a:stretch/>
        </p:blipFill>
        <p:spPr>
          <a:xfrm>
            <a:off x="4648320" y="1600200"/>
            <a:ext cx="403848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10:22:16Z</dcterms:created>
  <dc:creator>Elev</dc:creator>
  <dc:description/>
  <dc:language>en-US</dc:language>
  <cp:lastModifiedBy>Elev</cp:lastModifiedBy>
  <dcterms:modified xsi:type="dcterms:W3CDTF">2012-06-18T10:29:4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