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114C-74E8-477C-A6DF-B8E8DC26E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DFCC-FDCA-43F4-BE94-57056CE21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5059-DC9D-45E4-960B-EB4B69929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9A2E-0821-4A1C-B8DA-B76032B71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8546-85E1-490F-A498-09730B88A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5461-1CC5-490F-8C8B-50C084807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8EE8-DCA2-49F8-BC5B-B13EE77FC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68A7-9B6C-457A-A26F-E04CBE7A8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6746-019B-43C6-9461-1BF643482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61EC-9C25-4171-A0A3-AE1764A6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743E-ED47-47F7-BA0A-421DE273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352A-09AA-44B2-B9E1-2D90C546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BA0A7-04CA-43F8-BE10-B48D98FFE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o.wikipedia.org/wiki/Arbust" TargetMode="External"/><Relationship Id="rId2" Type="http://schemas.openxmlformats.org/officeDocument/2006/relationships/hyperlink" Target="http://ro.wikipedia.org/wiki/Rosaceae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Zmeurul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o-RO" sz="2400" spc="-1" strike="noStrike">
                <a:solidFill>
                  <a:srgbClr val="000000"/>
                </a:solidFill>
                <a:latin typeface="Arial"/>
              </a:rPr>
              <a:t>Rubus idaeus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) este un </a:t>
            </a:r>
            <a:r>
              <a:rPr b="0" lang="ro-RO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rbust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tufos, peren, cu lăstari târâtori, cu tulpini drepte, arcuite spre vârf, cu ghimpi drepți, de forma unor ace, adeseori plasați numai pe partea inferioară. Zmeurul aparține familiei </a:t>
            </a:r>
            <a:r>
              <a:rPr b="0" lang="ro-RO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Rosaceae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2666880" y="3809880"/>
            <a:ext cx="370548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8T10:15:59Z</dcterms:created>
  <dc:creator>Elev</dc:creator>
  <dc:description/>
  <dc:language>en-US</dc:language>
  <cp:lastModifiedBy>Elev</cp:lastModifiedBy>
  <dcterms:modified xsi:type="dcterms:W3CDTF">2012-06-18T10:18:5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