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2D9-3580-499F-BD3B-1C75B789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7DB-7A72-4191-8760-84D9F62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961-E50C-4427-8937-8F95F7F8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129-D2AB-46DB-8A13-DE53E40C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786-A30A-45AD-A48D-1BE16F28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3E0-F5A1-46BF-A7CE-DA57F06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C44-4641-4143-B601-7798C30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6ED-7ED8-4A7C-89AD-3F68AE2E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C94-AFC4-450E-A440-F51F5D62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370-3D7E-4209-AD80-2D3BB65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DE4-D1AA-4F74-B44C-8A63AA2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68B-905F-44EE-B8F7-D868921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99F6-DF9F-4166-A2E7-CC942D8F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lum contrast="6000"/>
            <a:alphaModFix amt="98000"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3b2</cp:lastModifiedBy>
  <dcterms:modified xsi:type="dcterms:W3CDTF">2007-05-03T02:25:55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