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3657600" cy="457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7BB-1648-4AF0-A13F-97BF2223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329256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2642760"/>
            <a:ext cx="329256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B98-0476-43D0-B336-EB13CDCC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8AC-5450-4103-94F2-E9995BF6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106632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106632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264276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264276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264276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1F4-C901-487C-A14F-828D9FDB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1066320"/>
            <a:ext cx="329256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21A-AAF3-4AA9-A3D1-C521B25C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329256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C0F-A1E8-4575-B9DC-F05C2029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76A-2BA2-4474-BC75-C94CFB47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6D22-5D63-425F-9B27-66D20F10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182160"/>
            <a:ext cx="329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50C-0158-4B55-8C2F-2583DF4E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86A-8D6E-4380-924B-F9536BF0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740-C9F7-4BC0-A180-63D919E8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2642760"/>
            <a:ext cx="329256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25D-5E47-4C09-B20A-6388B24B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1066320"/>
            <a:ext cx="329256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2680" indent="-147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7520" indent="-117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22240" indent="-1173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573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0573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0573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4164120"/>
            <a:ext cx="854280" cy="317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4164120"/>
            <a:ext cx="1159200" cy="317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4164120"/>
            <a:ext cx="854280" cy="317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08270194-15D8-4EBA-B738-F241553C38A8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1420560"/>
            <a:ext cx="3108240" cy="9795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2400" y="254160"/>
            <a:ext cx="33526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500"/>
            </a:b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6720" y="2590560"/>
            <a:ext cx="2711520" cy="1168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p>
            <a:pPr>
              <a:spcBef>
                <a:spcPts val="125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5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5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500"/>
            </a:b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2100"/>
            </a:b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160" y="1066320"/>
            <a:ext cx="1616040" cy="23367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073240" y="965160"/>
            <a:ext cx="144792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500"/>
            </a:b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2100"/>
            </a:b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2520" y="1066680"/>
            <a:ext cx="3200400" cy="1727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312840" indent="-312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</cp:lastModifiedBy>
  <dcterms:modified xsi:type="dcterms:W3CDTF">2012-06-19T11:25:4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