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50BB9-24FF-4F90-924C-85CFFF2D2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A4A58-6847-4076-9771-094603061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0BABA-2084-4FAE-AF79-F90C228BC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DA7D8-775E-484E-B2A7-50B7F7FF4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8C791-53FC-43FC-96A2-E68AADC0B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165DD-ACB5-4CE2-8B5B-6E9B7A877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6F9DD-52CC-46BD-9C7D-E7E471956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101F0-7DF5-4AF4-993E-D96C5C13A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C0353-3762-4201-9290-9F9F8BCF0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85E1C-243E-4107-9883-7EBA705AB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771B9-3FC8-4AB4-8AC7-75B0A0552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00EDF-C876-4D4E-97E0-EC348D5B2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BA18-8D54-4EDF-9D81-89E6A676D8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1752480" y="5029200"/>
            <a:ext cx="5181840" cy="1295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esiunea iunie - iulie</a:t>
            </a:r>
            <a:endParaRPr b="0" lang="en-US" sz="1800" spc="1" strike="noStrike">
              <a:ln w="9360">
                <a:solidFill>
                  <a:srgbClr val="000000"/>
                </a:solidFill>
                <a:miter/>
              </a:ln>
              <a:solidFill>
                <a:srgbClr val="000000"/>
              </a:solidFill>
              <a:latin typeface="Arial Black"/>
              <a:ea typeface="Arial Black"/>
            </a:endParaRPr>
          </a:p>
        </p:txBody>
      </p:sp>
    </p:spTree>
  </p:cSld>
  <p:transition spd="med" advTm="5000">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comp_i"/>
          <p:cNvPicPr/>
          <p:nvPr/>
        </p:nvPicPr>
        <p:blipFill>
          <a:blip r:embed="rId1"/>
          <a:stretch/>
        </p:blipFill>
        <p:spPr>
          <a:xfrm>
            <a:off x="5715000" y="1600200"/>
            <a:ext cx="3067200" cy="3067200"/>
          </a:xfrm>
          <a:prstGeom prst="rect">
            <a:avLst/>
          </a:prstGeom>
          <a:ln w="0">
            <a:noFill/>
          </a:ln>
        </p:spPr>
      </p:pic>
    </p:spTree>
  </p:cSld>
  <p:transition spd="med" advTm="5000">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p:transition spd="med" advTm="5000">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Elev</cp:lastModifiedBy>
  <dcterms:modified xsi:type="dcterms:W3CDTF">2010-06-20T11:42:27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