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04D-DAAB-40C3-AD74-FC1308DF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008-7597-4C27-A952-E2C9D103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B33-7D06-4597-B0C9-93620E65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C80-E861-44F4-A52D-FE14B602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D61-B118-4A87-BBE5-E7C4CE67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DA7-045E-4D74-9C2B-026DEEBE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A01-A538-4D4D-A233-9348F0DE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795-E382-4B77-B744-14742353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DC6-CE88-4089-B663-93C24BFF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64B-1B16-4D7A-8627-097351D8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7CA-3A23-4015-A624-4BECED16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F65-4692-4031-AA32-522BF063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97E1-36FD-4BE6-8AEE-B639BCFA83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dfd293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alphaModFix amt="92000"/>
          </a:blip>
          <a:stretch/>
        </p:blipFill>
        <p:spPr>
          <a:xfrm>
            <a:off x="5181480" y="1752480"/>
            <a:ext cx="565200" cy="709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4</cp:lastModifiedBy>
  <dcterms:modified xsi:type="dcterms:W3CDTF">2012-06-19T11:14:21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