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C75-F305-44F8-A394-E701794A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7FB-E1B5-41C4-89AA-52297419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6D2-C89C-4B33-8566-8FE33B96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59D-717E-41A3-89BA-709779AD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291-BB73-4990-A502-9A926738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F3D-FA6D-4FC0-8E98-11621403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92BF-C638-45F6-8211-41B6A428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0D7-FDEF-4BCC-90F5-5275DDE1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A2E-80C3-4F19-B32D-7DBCD672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7D0-8AF2-4F4C-8DA7-FDB5EFFF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90C-EE6C-4E6B-A147-C93B5E28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C8D-534F-4161-9911-E1A4D778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6AF0-6A9C-4161-ACEF-9BDBF9F17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56000" y="4797360"/>
            <a:ext cx="3743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esiunea iunie - iuli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211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b3s5</cp:lastModifiedBy>
  <dcterms:modified xsi:type="dcterms:W3CDTF">2012-06-18T11:05:40Z</dcterms:modified>
  <cp:revision>30</cp:revision>
  <dc:subject/>
  <dc:title>SALARIUL</dc:title>
</cp:coreProperties>
</file>