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1733-016D-4916-ACE8-4983D6AA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147-2315-4F60-8D9D-AE12A52B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036-8834-4492-93D6-50860F6B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D234-7D82-477B-B331-BD341207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35C4-E349-4B87-AFF7-087154FF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431-42F8-4070-BB82-EE4B1611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9A7D-C940-4045-9B36-4129D3EC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E9F-0B72-4C4C-A2A5-D29C1340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912-1885-42C0-9062-CC7DD89A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9B7-AB5F-4AF0-83CA-32B43CB7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150-4EF3-42BB-AA0F-AB357BBE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BE6-D2C7-4CE2-9C21-727B01D7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AD7A-7DD9-4297-90F5-4746A8194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/>
          <a:stretch/>
        </p:blipFill>
        <p:spPr>
          <a:xfrm>
            <a:off x="5072040" y="2266920"/>
            <a:ext cx="31910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8T13:34:23Z</dcterms:modified>
  <cp:revision>22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