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94DFD-5368-42C6-8D22-681AA3CF3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C6B77-FBEA-405D-9BAD-565F9198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F9709-B915-4474-A266-E18C0A6C0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FF174-9BD1-4480-97A7-0ACDABA65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3B5D-AD4E-492F-A230-1EE480616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407E8-C1CA-4C92-B6D8-A81AA4BB8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9D48B-45FE-4B21-B601-CCEFD7EB8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D06B-897E-4367-A20C-F58FF237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EB7AE-38D3-46A9-B49C-6F10E9DC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D3167-8D19-46E0-8C85-BEA9892D9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5616-DA7F-46FF-8F88-3ED2227C1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4FCE-DF58-45C2-BBAA-104CE2E36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2410-02AC-4742-975C-F93B7EE03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grayscl/>
          </a:blip>
          <a:stretch/>
        </p:blipFill>
        <p:spPr>
          <a:xfrm>
            <a:off x="5148360" y="981000"/>
            <a:ext cx="1439640" cy="134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1:35Z</dcterms:modified>
  <cp:revision>46</cp:revision>
  <dc:subject/>
  <dc:title>SALARIUL</dc:title>
</cp:coreProperties>
</file>