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EC7D-5B20-4DCB-B73E-95CE613CD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AF6D-A85D-4F3E-88F0-A30AEC0D2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8E55-DFC5-4774-816C-C3692AC48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CA95-1016-4FBB-B957-E9192FA8A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B76B-ADAC-4433-BFC8-18A43E857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EE69-3CFD-4F07-9911-08389344C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4E2C-99CB-4AD3-B5EE-330B60B88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4E14-E761-424E-ADEE-1D99A876A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1161-7617-49CC-8CE0-C9B8C09A6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73E3-02A6-4FD4-94DE-661BC8B2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CD30-9049-4CD2-A84B-94271F924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F4E7-934A-4F8F-B84C-BE1C21560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E220B-8312-4AD2-87E7-B035D73B08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CREŞTEREA ŞI DEZVOLTAREA ECONOMICĂ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Economie, clasele a X-a şi a XI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Maria Liana Lăcătuş, George-Paul Lăcătuş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267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hiar economiile cele mai dinamice, care au promovat progresul tehnic şi au înregistrat creşteri rapide la nivelul capacităţilor de producţie, nu au putut asigura o creştere economică permanentă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reşterea economică din anumite perioade de timp a fost urmată de recesiune şi depresiune, cu alte cuvinte, de scăderea nivelului producţiei şi a gradului de ocupare a forţei de muncă, de şomaj și inflaţ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tivitatea economică evoluează ciclic, înregistrând creşteri şi căderi period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tivitatea economică este fluctuantă. Unele fluctuaţii reprezintă variaţii sezoniere ale activităţii desfăşurate, însă altele sunt periodice şi ţin de o evoluţie ciclică a econom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iclul economic este intervalul dintre două perioade succesive de creştere economică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 …]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iecare ciclu economic are o anumită intensitate şi durată şi se deosebeşte, prin acestea, de celelalte, deşi presupune parcurgerea aceloraşi patru faze. Periodicitatea medie a unui ciclu este de 8-10 ani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comp_i"/>
          <p:cNvPicPr/>
          <p:nvPr/>
        </p:nvPicPr>
        <p:blipFill>
          <a:blip r:embed="rId1"/>
          <a:stretch/>
        </p:blipFill>
        <p:spPr>
          <a:xfrm>
            <a:off x="5181480" y="1752480"/>
            <a:ext cx="3372120" cy="33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omajul este un dezechilibru economic care constă în existenţa unui surplus de ofertă pe piaţa forţei de mun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45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opulaţia totală cuprin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opulaţie inapt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opulaţie aptă, dar care nu este disponibil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orţa de muncă - populaţia ocupat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omer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45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ipuri de şomaj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ricțional (voluntar sau sezoni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tructura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icl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45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ntru a combate şomajul, statul promovează politici active de ocupare a forţei de muncă, adoptând măsuri prec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prijinirea creării de locuri de muncă pentru şomer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ordarea de facilităţi fiscale agenţilor economici care angajează şomer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ntegrarea şomerilor în programe de recalificare și creştere a gradului de reintegrare a acestor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ordarea de subsidii agenţilor economici care angajează absolvenţ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Guest</cp:lastModifiedBy>
  <dcterms:modified xsi:type="dcterms:W3CDTF">2012-06-18T13:34:10Z</dcterms:modified>
  <cp:revision>31</cp:revision>
  <dc:subject/>
  <dc:title>CREŞTEREA ŞI DEZVOLTAREA ECONOMICĂ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