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5EC-D9CF-41AC-931F-197D2894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BA3-4DF7-4B2F-A843-33EEC502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37C-D0EB-492E-A4F3-DE04C673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056-6477-404E-968E-A78EA860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DA1B-1B6D-4456-9D64-946C68B5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0EA-CD62-45BA-A320-CBB48690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7529-B36E-463C-9E53-6A57B22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52B6-2DB0-4D88-A9C6-08DBD9E6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0C75-8AEF-4F7E-899B-D63E723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A63D-0D82-436E-9428-BE43CB79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23C5-7B5D-4060-B6EF-FCDF4AC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149-D599-4DF4-BD53-6505C0C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05F5-D587-4A40-B141-42C2318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AEF2-FEF8-438A-81A3-781EC6E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6BD8-CAAB-4C6F-BC28-7C38089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CD6D-CE60-4840-8B63-499D1B9D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C3EB-D115-46C8-9EFC-80006F14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C9B-A827-4950-A754-504AA240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C42-F517-408B-9CD4-A5A83745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490-494E-4D2B-90AB-49039950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21C-8486-4317-8674-B3748B02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530-39A0-44CD-AC94-41F5BEF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087-B07F-4850-B6C7-DAF4B53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648-8F65-4ADD-9C2B-F6C5A5E5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4ED0-A9D5-4C77-A3C1-93527B6B2F2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BCE5-8C5A-4B13-8146-807B4AAAE42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RUMO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cc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2b2</cp:lastModifiedBy>
  <dcterms:modified xsi:type="dcterms:W3CDTF">2012-06-19T11:31:36Z</dcterms:modified>
  <cp:revision>38</cp:revision>
  <dc:subject/>
  <dc:title>SALARIUL</dc:title>
</cp:coreProperties>
</file>