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2CCB-2840-48A3-AB87-8B462F68D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2F84-AA7F-4038-852B-7924DC95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36E2-7E14-43CE-84ED-B9D6D79D4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B7C4-7B9F-425F-B067-07CE46568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A7A2-23CB-490B-B3E2-8E8C52C2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CE19-2FA9-497E-8B48-535FB6A9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B536-4C80-40FB-A4AB-845F89F2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AB87-9538-4F78-A89E-01641E9D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1AD4-2A3E-42D4-A875-11ECE8B1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FBC7-B273-4091-A951-28586CF7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21B8-1055-4220-BF16-B66C75FF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9555-122A-40F1-B584-B7129179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8F38-6B75-40AE-97F9-3F94E7B2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6D34-80EC-43B0-8811-021ACFE2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34FC-B6EC-414F-ACCF-E0E2B275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0780-CED2-415D-8E54-FD90EC64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C0E2-8ADD-4A45-AC76-EFCE25D77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1845-C9F6-44AA-8F66-10ED3872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EDDF-0954-4ED3-90C5-69118EE0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B906-5C2B-4F8F-AF5E-E5B2F7FF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B2A6-EFC4-423E-B693-4C063F23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73D9-2CD9-4A95-A39C-5DA629A3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F9C6-8E82-4811-A7AF-A146E3F0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CE68-BCA7-4EAF-8E46-C2875403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189F-7395-449E-91D8-0885C05AC6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8C98-1DAA-47DF-A15A-9DE6143711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b7"/>
                </a:solidFill>
                <a:latin typeface="Allegro BT"/>
              </a:rPr>
              <a:t>ALTE ROMANE  REALISTE INTERBELICE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543040" y="4162320"/>
            <a:ext cx="6228000" cy="9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b7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fffb7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ffffb7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ffffb7"/>
                </a:solidFill>
                <a:latin typeface="Arial Black"/>
              </a:rPr>
              <a:t>Examenul de bacalaureat 2012</a:t>
            </a:r>
            <a:br>
              <a:rPr sz="1000"/>
            </a:br>
            <a:r>
              <a:rPr b="1" lang="ro-RO" sz="1000" spc="-1" strike="noStrike">
                <a:solidFill>
                  <a:srgbClr val="ffffb7"/>
                </a:solidFill>
                <a:latin typeface="Arial Black"/>
              </a:rPr>
              <a:t>Proba de evaluare a competenţelor digitale</a:t>
            </a:r>
            <a:r>
              <a:rPr b="1" lang="en-US" sz="1000" spc="-1" strike="noStrike">
                <a:solidFill>
                  <a:srgbClr val="ffffb7"/>
                </a:solidFill>
                <a:latin typeface="Arial Black"/>
              </a:rPr>
              <a:t> – document de lucru</a:t>
            </a:r>
            <a:endParaRPr b="1" lang="en-US" sz="1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1" descr="comp_i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ffffff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b7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fffb7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ffffb7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ws20</cp:lastModifiedBy>
  <dcterms:modified xsi:type="dcterms:W3CDTF">2012-04-12T08:32:19Z</dcterms:modified>
  <cp:revision>24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