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B64C-CB79-4E70-BF76-8CE0EDFD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0F85-BEFD-492F-981F-C6493E72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5185-025F-4071-96B3-C0A622C9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8A3A-56F8-4971-AE2D-86FC32004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1D06-42A3-4C15-84C3-DB703F0A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FEAD-C69C-4FC2-86CD-58EFDC8A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E195-EBD5-46AC-9CCD-EBF06368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2486-E272-4CC3-BD95-1EF37E28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3C0A-F4AA-48A8-805F-EA7EF7EA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E487-A2AA-4A45-A588-E7469C7A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7F06-BB17-45DD-96B1-16F54D51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DBCC-2D24-4E3F-BC09-7EE94441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DA11-CBAA-4FAE-A6C1-7FDBA360D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CIZI ŞI BA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nualul de Chimie,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Elena Alexandrescu, Viorica Zaharia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izii şi bazele sunt substanţe compuse anorganice sau organice implicate în multe procese naturale sau în reacţiile aplicate în laboratoarele de chimie şi în industria chimic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dicatorii acido-bazici sunt substanţe organi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ra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e îşi schimbă structura şi, în consecinţă, culoarea, în funcţie de caracterul acid sau b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c al soluţ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oluţia apoasă diluată de acid clorhidric, concentraţia ionilor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mare, pentru că, practic, toate moleculele de acid clorhidric au ionizat la dizolvare. Acidul clorhidric este un acid tare. În aceste condiţii, mai multe molecule de turnesol şi-au schimbat structura şi culoarea roşie este mai intensă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şi alte teorii în chimie care definesc noţiunile de acid şi baz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ul 1880, Svante Arrhenius  a definit acizii ca substanţe compuse care, în soluţie apoasă, formează ioni hidrataţi de 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rogen (H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(aq)) şi bazele ca substanţe compuse care eliberează în soluţie ioni metalici (Me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n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şi ioni hidroxid (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 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bstanţe ca HCI,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,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OH sunt acizi Arrhenius, iar substanţe ca NaOH, Ca(OH)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KOH sunt baze Arrhen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0290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533520" y="1066680"/>
            <a:ext cx="784836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licaț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. Compoziţia  procentuală de masă a unui oxoacid cu M=98 este:  2,04% H, 32,653% S, 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306%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abiliţi formula moleculară a oxoacidul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ecuaţiile reacţiilor de ionizare ce au loc la dizolvarea oxoacidului în ap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reciaţi tăria oxoacidului, ştiind că are constantele de aciditate :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,2*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2. Metilamina (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este o bază slabă. În soluţia apoasă de metilamină,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ai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3. Acidul iodhidric  (HI) este un acid foarte tare. În soluţia apoasă de acid iodhidric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ii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concentraţii egale cu concentraţia iniţială a acid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ionii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1596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5T12:33:1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