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01BB1-9163-4D87-876F-16438B87E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09A2-8934-4D88-96FD-6CB8D84FB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486D9-5BFB-4E38-B24D-8718E4704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8FD41-34FE-4902-96EB-549952DD6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D142-4C38-4E11-A6B8-A175E3F41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7218-3F90-4E1C-A8D1-162E87C6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7E32-E210-4DDE-AC09-08B4A0F7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F300-072F-404E-B0B4-600E7D28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C357-43DE-4D27-89C2-CBD2CC053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6972-A237-4BA0-80CC-3BE016F70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A785-9C5B-4828-A022-10EB8E652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8769-D564-48E9-858C-200B2F5C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9030-220D-432B-8C14-1C3212C0F2A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43Z</dcterms:modified>
  <cp:revision>46</cp:revision>
  <dc:subject/>
  <dc:title>SALARIUL</dc:title>
</cp:coreProperties>
</file>