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626EF-1482-48E8-B1F1-63DB6E322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1B1E-7A3D-4D01-90A3-C9BD7B065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EBB1D-9B75-48CB-87AB-6DEE868F1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AD95C-FD78-404C-9597-6B900BD92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FF64B-92F4-42FC-AB87-8CBACEC50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9C885-212F-4193-9D3B-9911444E7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6E31E-FA23-4216-843D-4E0B78427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0CDF1-4580-44F5-AB63-BD1A89671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BDBCD-0417-49D2-83A7-C9B01E429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8609-A821-4E0F-8D27-0611F6977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68E3-8A82-45ED-BE6E-AB40D622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1220-F930-46C4-8496-D46E86731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EB21-A035-4D9F-89A1-3858DC3DC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CANICA   NEWTONIAN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838080" y="3886200"/>
            <a:ext cx="77724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676160"/>
            <a:ext cx="42670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lenii la rând oamenii nu au înţeles prea bine mişcarea. Până acum câteva secole, călătoria cu 60 km/h într-o cabină închisă părea imposibilă. Iată cum era argumentată această imposibilita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ro-RO" sz="1200" spc="-1" strike="noStrike">
                <a:solidFill>
                  <a:srgbClr val="000000"/>
                </a:solidFill>
                <a:latin typeface="Arial"/>
              </a:rPr>
              <a:t>Aerul ar presa pe peretele din spatele cabinei. Cei aflaţi pe locurile din faţă s-ar sufoca din lipsa de aer, iar cei aflaţi în spate nu ar putea respira aerul prea concentrat!</a:t>
            </a:r>
            <a:r>
              <a:rPr b="0" lang="it-IT" sz="1200" spc="-1" strike="noStrike">
                <a:solidFill>
                  <a:srgbClr val="000000"/>
                </a:solidFill>
                <a:latin typeface="Arial"/>
              </a:rPr>
              <a:t>”. Paşi importanţi în înţelegerea mişcării au fost făcuţi de Galilei şi Newton în secolul XVI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tăzi înţelegem mult mai bine mişcarea. Astfel, ne permitem să călătorim confortabil zburând cu 1000 km/h!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ezentarea</a:t>
            </a:r>
            <a:r>
              <a:rPr b="0" lang="ro-RO" sz="1200" spc="-1" strike="noStrike">
                <a:solidFill>
                  <a:srgbClr val="000000"/>
                </a:solidFill>
                <a:latin typeface="Arial"/>
              </a:rPr>
              <a:t> unor valori numerice fără precizarea unităţilor de măsură poate produce confuzii. În caseta din figură este prezentată păţania celor de la NASA (National Aeronautics and Space Administration - Admin</a:t>
            </a:r>
            <a:r>
              <a:rPr b="0" lang="en-GB" sz="1200" spc="-1" strike="noStrike">
                <a:solidFill>
                  <a:srgbClr val="000000"/>
                </a:solidFill>
                <a:latin typeface="Arial"/>
              </a:rPr>
              <a:t>i</a:t>
            </a:r>
            <a:r>
              <a:rPr b="0" lang="ro-RO" sz="1200" spc="-1" strike="noStrike">
                <a:solidFill>
                  <a:srgbClr val="000000"/>
                </a:solidFill>
                <a:latin typeface="Arial"/>
              </a:rPr>
              <a:t>straţia aeronautică şi Spaţială Naţională). O misiune de sute de milioane de dolari a fost ratată din cauza unei neînţelegeri asupra unităţilor de măsură!</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În 1999, sonda spaţială Mars Climate Orbiter s-a dezintegrat în apropierea planetei Marte pentru că o echipă de tehnicieni a efectuat calculele de apropiere în metri iar altă echipă le-a interpretat ca fiind  picioare! (1 picior= 0,3038 m).</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2057400"/>
            <a:ext cx="2733480" cy="27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74320"/>
            <a:ext cx="5791320" cy="1143000"/>
          </a:xfrm>
          <a:prstGeom prst="rect">
            <a:avLst/>
          </a:prstGeom>
          <a:noFill/>
          <a:ln w="0">
            <a:noFill/>
          </a:ln>
        </p:spPr>
        <p:txBody>
          <a:bodyPr anchor="ctr">
            <a:noAutofit/>
          </a:bodyPr>
          <a:p>
            <a:pPr marL="44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533520" y="1294920"/>
            <a:ext cx="7696080" cy="4953240"/>
          </a:xfrm>
          <a:prstGeom prst="rect">
            <a:avLst/>
          </a:prstGeom>
          <a:noFill/>
          <a:ln w="0">
            <a:noFill/>
          </a:ln>
        </p:spPr>
        <p:txBody>
          <a:bodyPr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 Scrie în notație științifică, folosind unități SI</a:t>
            </a:r>
            <a:r>
              <a:rPr b="0" i="1" lang="ro-RO"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luminii în vid;</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rata unui an;</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stanța pe care o parcurge lumina într-un an.</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 Cifrele sigure ale unui număr, plus încă una care este estimată, reprezintă cifrele semnificative ale acestui număr. Rezultatele calculelor nu trebuie să aibă mai multe cifre semnificative decât cele mai imprecise date folosite. Folosind o riglă gradată în mm:</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măsura lungimea unei coli de scris?</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prezenta aria foii?</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ăsoară lungimea și lățimea coli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3.  Care dintre următoarele situații sunt posibil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unui corp să fie la un moment dat nulă, iar accelerația nenulă;</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orient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direcție, dar sensuri contr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corp să se miște înainte, iar accelerația acestuia să fie orientată lateral</a:t>
            </a:r>
            <a:r>
              <a:rPr b="0" lang="en-GB" sz="1200" spc="-1" strike="noStrike">
                <a:solidFill>
                  <a:srgbClr val="000000"/>
                </a:solidFill>
                <a:latin typeface="Arial"/>
              </a:rPr>
              <a:t>.</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2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