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B6001-62D2-4A59-8FEA-B1FDBF562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8916E-6E2F-46B4-9514-4583EFC67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9D2F9-E9DD-43C2-A977-2EBF91F41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B1C31-F296-40CB-803E-48C63333A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66BC2-A3B3-45D4-8BBA-A6A4FB31E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0A4B-B6D8-45AF-A962-79F24D436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7201-0E02-40FE-A185-D1CE9F157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F3511-B0C1-4E84-B43F-A0F9AC0C0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1B90F-55F7-4A8C-A82F-31E217866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3AF6-695D-48EF-8BDA-3F875EBAE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3344-4F49-49F6-AC5B-21C566F9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C615A-A805-4053-BE57-A3E7EA16E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3CA-5C62-4C61-9A0A-1BD0B18AD9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2:49Z</dcterms:modified>
  <cp:revision>43</cp:revision>
  <dc:subject/>
  <dc:title>SALARIUL</dc:title>
</cp:coreProperties>
</file>