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17B2F-8C7E-4E1A-A2D1-AD2136886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86053-91C0-4FDF-9200-AB6EA0F18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3BD66-CC8F-422C-A57A-87EA22E07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7A35F-0357-4F38-BD2D-5E41A1D64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4EF6C-23E4-4E14-B38A-BA1823618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BCA56-7B4D-470C-B68B-90F014DD2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20683-0CDC-422B-9EC5-C59F61425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C61DB-91A0-45E9-8499-9B84CD8E1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DD659-1CD7-4764-96E8-B00946F19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DF16D-C889-4E6C-8DF3-38DFD80BE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9142B-0D6D-4730-8D4D-C0C485986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FC7B4-FDAD-403E-9284-DD739DA32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B4F8-F3B1-4CC0-BF09-8E099FE338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7" name="Content Placeholder 5" descr="comp_i.jpg"/>
          <p:cNvPicPr/>
          <p:nvPr/>
        </p:nvPicPr>
        <p:blipFill>
          <a:blip r:embed="rId1"/>
          <a:stretch/>
        </p:blipFill>
        <p:spPr>
          <a:xfrm>
            <a:off x="5334120" y="1828800"/>
            <a:ext cx="252396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274680"/>
            <a:ext cx="74674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Guest</cp:lastModifiedBy>
  <dcterms:modified xsi:type="dcterms:W3CDTF">2012-06-15T12:33:20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