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061-6096-419B-AFFE-60A6536C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0EC-DE52-4477-BF2E-5F91B97C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89D-AFE9-49A0-8851-81A26630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E9F-91AF-4816-801A-89D4BA00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5A4-35B0-43E1-8EF0-3D34598C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844-CE1E-46A4-B31B-22DF66A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98E-A6DC-434A-9130-915A839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4C2-0FB7-4366-8159-A1CEB92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156-ABEC-4309-AC73-6D162FE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E0D-131C-4841-8F88-C666928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F9A-708F-4F70-94EB-DB447FD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F4A-3EA8-47DA-B30E-39862B7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9754-A456-4688-A6B0-DC859372F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136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19640" y="162864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51Z</dcterms:modified>
  <cp:revision>32</cp:revision>
  <dc:subject/>
  <dc:title>SALARIUL</dc:title>
</cp:coreProperties>
</file>