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9E055-BA79-4600-9732-88FA42C67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2416D-4D83-4B11-A11D-8843706FF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CE8CA-0839-4DBC-8E38-795BA49FA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E993F-7D3F-474D-9F8F-5BC7FAFBB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A9D37-4E2C-445F-B4EC-3C754D629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21372-B3AD-4AE5-92D1-E9AB4FE5C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E5FCF-F76F-44C0-B276-18CC2F7A6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F3B6C-7044-4C5B-ADBB-B637DE41C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A7A5D-8CC2-4998-BAC2-F932B20FD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139A-7AB5-493F-8DF5-F4860E594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B1CE2-5DCB-412A-B6BE-D8EE2341C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82198-BCD1-478E-B41F-5938B66E9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E8A1-035E-4CB6-BD5A-CE65C012DF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grayscl/>
          </a:blip>
          <a:stretch/>
        </p:blipFill>
        <p:spPr>
          <a:xfrm>
            <a:off x="5148360" y="148428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08-29T10:09:32Z</dcterms:modified>
  <cp:revision>43</cp:revision>
  <dc:subject/>
  <dc:title>SALARIUL</dc:title>
</cp:coreProperties>
</file>