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93C-FBAE-499D-A932-2FA536D9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DD4-02F3-4E6B-BD4C-71884C9D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BEA-F72F-4FDB-AD1C-280F03D4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F8C-FC13-4B37-A0F1-110D06E4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4D1-2964-4019-9296-159615D7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A69-83DB-4995-BD57-F9D5A0BE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BC3-BEAE-4426-9208-8D078105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D5A-81A4-4F9E-96A5-0FCBCBAC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169-BB40-4466-ADC5-F7AD6112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C3B-B63C-4A47-85D2-A2987F55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A22-1576-4AD4-A38E-F6C64B90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0D7-1A90-464E-8E4B-52D37F0B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6CAE-F50F-4AC7-95C9-BB3A6710E52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Guest</cp:lastModifiedBy>
  <dcterms:modified xsi:type="dcterms:W3CDTF">2012-06-15T12:33:30Z</dcterms:modified>
  <cp:revision>29</cp:revision>
  <dc:subject/>
  <dc:title>SALARIUL</dc:title>
</cp:coreProperties>
</file>