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CAE-483C-41A2-9973-09066A26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CE6-0240-4796-AA0B-A2064A19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2FE-AD9A-41C9-ACF8-F65EB128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75C-71F0-445F-A7F8-E30D8936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895-47FE-476A-9A8D-41D560AB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480E-2655-4B09-9DEC-B6BA6C3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D7A-DBB0-4ADA-9D3A-494D5336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2BF6-46F7-4DB7-B746-CA234E0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F97C-4D6A-4C14-A656-A922FDD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AE5-8040-4F51-8E87-477A763A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304-EE63-4784-A109-632D6C5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F9D-F67F-4DF3-82BB-1ADA7969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32D7-C4D6-4C0F-BD8E-7EAFD18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6F1E-5F7F-42BB-814A-CDDAF52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2089-5A42-4007-805E-D9F123D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500-DA76-4F58-B9FC-533FA686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E2CF-2B3B-4805-968C-F7179B74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961-A3D3-4577-A394-B2E6930F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512-8C1F-473B-9384-8FA3F6F5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A3C-7DE1-498A-9145-CC65E24A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A25-6872-4039-9EB3-55CC0DAE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0E7-9A26-4C11-920A-79A282D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22D-0156-4CE4-814A-AC1016D2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1DA-71C5-4EA3-9D62-6B77582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9F7-6D76-4EA6-8C59-90F4794334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D61-3A93-487B-BE32-7D983A91EF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b7e7ff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20400" y="3909960"/>
            <a:ext cx="664236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comp_i"/>
          <p:cNvPicPr/>
          <p:nvPr/>
        </p:nvPicPr>
        <p:blipFill>
          <a:blip r:embed="rId2"/>
          <a:stretch/>
        </p:blipFill>
        <p:spPr>
          <a:xfrm>
            <a:off x="5205240" y="2197080"/>
            <a:ext cx="13032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9T11:15:1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