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B78-D3E9-417A-99F2-2C76ACD2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238-D5CC-4D7A-AE9D-06F3612C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905-F4F5-48E0-8A34-EB5D14B5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373-F850-4788-BE66-C334A39B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E992E-AF6D-48BB-AE0D-EB5D1234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7D9AF-DD1B-4310-A3C9-73F204AE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8CA73-E41D-48AD-9F9A-A93F861D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900B1-11DD-4250-868F-AB4A887C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3B290-0E3D-4ED2-93DD-49842B4C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EDAAB-C915-486B-B6B5-7E823F0D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BBDF4-14B9-4091-8629-E749BFF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814-9BCD-44A1-B48E-C1EAEDAE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09C5C-675A-4276-8ABC-E3EEBE00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B8EB4-D04A-40A3-9495-1C15D51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1970C-DFB0-4D3C-B0BA-37EDC36F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6491A-2A0B-4042-A4CB-F8AB33F5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32DF-50EE-4F92-956E-F5AF8F0F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9DC-1A4C-4B11-AB10-33C2020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E3A-0C0B-4923-B1AA-C457F501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022-D84F-48EE-95EC-B1734253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D96-9768-4938-8205-74DC52F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430-1DB7-4987-B86F-DBBB50A9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ED6-A927-4E8E-9C38-C1830EAE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4CD-1A62-4E51-B1E9-9AC7205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37DD-6459-42D9-A382-EF83D07BE0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32D9-9018-4326-A40E-85C8095E99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rcRect l="27997" t="0" r="0" b="0"/>
          <a:stretch/>
        </p:blipFill>
        <p:spPr>
          <a:xfrm>
            <a:off x="6113520" y="1676520"/>
            <a:ext cx="143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2</cp:lastModifiedBy>
  <dcterms:modified xsi:type="dcterms:W3CDTF">2012-06-19T10:57:1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