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1C668-8D63-4B80-A262-36F3EBA7B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2026-AD20-4688-A97C-CCD68A57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B703B-C94E-4A9D-A0CD-C6CC8FE4E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449B0-ABD2-4A2F-B39C-D7829145D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1027-D082-4367-9398-C621EE5D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9FB5-FE2C-4852-9298-346AB94A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3B21-6CC0-4252-8E8C-BE1943C5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929E-49B7-4E78-94F2-B88AB1D1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F4E8-15E6-412B-9B09-F5F4C432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557F-5EB7-4712-A71C-5FD4AA55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8CBC-8B73-4A76-AB8C-F128EFA8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1261-1648-4AA5-AF98-A6659F121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AD4B-3855-4983-A56A-7B644AFFE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24000" y="335772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1:02:26Z</dcterms:modified>
  <cp:revision>47</cp:revision>
  <dc:subject/>
  <dc:title>SALARIUL</dc:title>
</cp:coreProperties>
</file>