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543E70-67D6-4395-8C45-80B170266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4C690-C70E-4CC9-B68D-C2C3C8AE7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E54A5-A265-4A61-9D5B-F427BC34F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850B9-596A-4578-96CE-DEEDF6AFD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4F155-9320-489B-AFF2-EBD8BD4F8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76AF2-DE13-4FB5-84C3-041B717AB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97FB8-190E-4962-A442-92AE91D45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4F4F8-9010-4B63-BF82-577116DD8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A911C-73B3-417D-B8BD-1E844CD4C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F22D5-2D03-4C06-B930-0D6B88E62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446C4-6B67-4FE2-B469-3CE8A5830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A0567-5312-4E2B-A086-1326CC5EE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F4242-7E0C-45FE-B85D-9F5483DF9A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REFLEXIA ŞI REFRACŢIA LUMINII</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6200"/>
            <a:ext cx="815328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6840" y="1371240"/>
            <a:ext cx="4267080" cy="441972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ulţi paşi importanţi s-au făcut în înţelegerea şi controlul luminii folosind doar lumina lumânărilor. Astăzi însă ai la îndemână surse de lumină mult mai convenabil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lanternă poate fi aprinsă şi stinsă prin simpla apăsare a  unui buton. Ea trimite un fascicul intens de lumină sub forma unui con. Poţi vedea foarte clar forma fasciculului într-o seară cu ceaţă sau în apa unui acvariu în care ai pus câteva picături de lap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n păcate, fasciculul este larg de îndată ce părăseşte lanterna şi este din ce în ce mai larg pe măsură ce se îndepărtează. Este un fascicul larg şi divergent. Un fascicul mai subţire şi mai puţin divergent ţi-ar fi mai uti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sursă mai convenabilă de lumină este un indicator laser.</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şi sunt mai mici decât o lanternă, indicatoarele laser emit lumină foarte strălucitoare, mult mai strălucitoare decât Soarele! Din acest motiv, pe acestea sunt aplicate etichete de avertizare.</a:t>
            </a:r>
            <a:endParaRPr b="0" lang="en-US" sz="1200" spc="-1" strike="noStrike">
              <a:solidFill>
                <a:srgbClr val="000000"/>
              </a:solidFill>
              <a:latin typeface="Arial"/>
            </a:endParaRPr>
          </a:p>
        </p:txBody>
      </p:sp>
      <p:pic>
        <p:nvPicPr>
          <p:cNvPr id="47" name="Content Placeholder 5" descr="comp_i.jpg"/>
          <p:cNvPicPr/>
          <p:nvPr/>
        </p:nvPicPr>
        <p:blipFill>
          <a:blip r:embed="rId1"/>
          <a:stretch/>
        </p:blipFill>
        <p:spPr>
          <a:xfrm>
            <a:off x="5334120" y="1828800"/>
            <a:ext cx="2523960" cy="252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274680"/>
            <a:ext cx="746748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228240" y="1142640"/>
            <a:ext cx="8381880" cy="5181480"/>
          </a:xfrm>
          <a:prstGeom prst="rect">
            <a:avLst/>
          </a:prstGeom>
          <a:noFill/>
          <a:ln w="0">
            <a:noFill/>
          </a:ln>
        </p:spPr>
        <p:txBody>
          <a:bodyPr tIns="0" bIns="0" anchor="ctr">
            <a:normAutofit/>
          </a:bodyPr>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r>
              <a:rPr b="0" lang="en-GB" sz="1200" spc="-1" strike="noStrike">
                <a:solidFill>
                  <a:srgbClr val="000000"/>
                </a:solidFill>
                <a:latin typeface="Arial"/>
              </a:rPr>
              <a:t> </a:t>
            </a:r>
            <a:r>
              <a:rPr b="0" lang="ro-RO" sz="1200" spc="-1" strike="noStrike">
                <a:solidFill>
                  <a:srgbClr val="000000"/>
                </a:solidFill>
                <a:latin typeface="Arial"/>
              </a:rPr>
              <a:t>Construiţi o diagramă cu direcţii de referinţă, mai uşor de realizat decât un raportor:</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saţi pe foaia dublă cu pătrăţele un cerc cu raza de 10 cm.</a:t>
            </a:r>
            <a:r>
              <a:rPr b="0" lang="en-GB" sz="1200" spc="-1" strike="noStrike">
                <a:solidFill>
                  <a:srgbClr val="000000"/>
                </a:solidFill>
                <a:latin typeface="Arial"/>
              </a:rPr>
              <a:t> </a:t>
            </a:r>
            <a:r>
              <a:rPr b="0" lang="ro-RO" sz="1200" spc="-1" strike="noStrike">
                <a:solidFill>
                  <a:srgbClr val="000000"/>
                </a:solidFill>
                <a:latin typeface="Arial"/>
              </a:rPr>
              <a:t>[…]</a:t>
            </a:r>
            <a:r>
              <a:rPr b="0" lang="en-GB" sz="1200" spc="-1" strike="noStrike">
                <a:solidFill>
                  <a:srgbClr val="000000"/>
                </a:solidFill>
                <a:latin typeface="Arial"/>
              </a:rPr>
              <a:t> </a:t>
            </a:r>
            <a:r>
              <a:rPr b="0" lang="ro-RO" sz="1200" spc="-1" strike="noStrike">
                <a:solidFill>
                  <a:srgbClr val="000000"/>
                </a:solidFill>
                <a:latin typeface="Arial"/>
              </a:rPr>
              <a:t>Trasaţi două diametre perpendiculare</a:t>
            </a:r>
            <a:r>
              <a:rPr b="0" lang="en-GB" sz="1200" spc="-1" strike="noStrike">
                <a:solidFill>
                  <a:srgbClr val="000000"/>
                </a:solidFill>
                <a:latin typeface="Arial"/>
              </a:rPr>
              <a:t> […]</a:t>
            </a:r>
            <a:r>
              <a:rPr b="0" lang="ro-RO" sz="1200" spc="-1" strike="noStrike">
                <a:solidFill>
                  <a:srgbClr val="000000"/>
                </a:solidFill>
                <a:latin typeface="Arial"/>
              </a:rPr>
              <a:t>. Marcaţi punctele de pe cerc aflate la distanţe de câte 1 cm</a:t>
            </a:r>
            <a:r>
              <a:rPr b="0" lang="en-GB" sz="1200" spc="-1" strike="noStrike">
                <a:solidFill>
                  <a:srgbClr val="000000"/>
                </a:solidFill>
                <a:latin typeface="Arial"/>
              </a:rPr>
              <a:t> </a:t>
            </a:r>
            <a:r>
              <a:rPr b="0" lang="ro-RO" sz="1200" spc="-1" strike="noStrike">
                <a:solidFill>
                  <a:srgbClr val="000000"/>
                </a:solidFill>
                <a:latin typeface="Arial"/>
              </a:rPr>
              <a:t>[…]. Trasaţi diametrele care corespund acestor repere.</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semicilindrul din sticlă organică cu centrul în centrul diagramei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oziţionează laserul în dreptul unui reper din cadranul IV </a:t>
            </a:r>
            <a:r>
              <a:rPr b="0" lang="en-GB" sz="1200" spc="-1" strike="noStrike">
                <a:solidFill>
                  <a:srgbClr val="000000"/>
                </a:solidFill>
                <a:latin typeface="Arial"/>
              </a:rPr>
              <a:t>[…] </a:t>
            </a:r>
            <a:r>
              <a:rPr b="0" lang="ro-RO" sz="1200" spc="-1" strike="noStrike">
                <a:solidFill>
                  <a:srgbClr val="000000"/>
                </a:solidFill>
                <a:latin typeface="Arial"/>
              </a:rPr>
              <a:t>şi trimite lumina spre centrul feţei plane a semicilindrului, razant la suprafaţa foi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petaţi pasul c) pentru toate reperele cadranului IV</a:t>
            </a:r>
            <a:r>
              <a:rPr b="0" lang="en-GB" sz="1200" spc="-1" strike="noStrike">
                <a:solidFill>
                  <a:srgbClr val="000000"/>
                </a:solidFill>
                <a:latin typeface="Arial"/>
              </a:rPr>
              <a:t>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versaţi rolurile şi repetaţi pasul c) pentru toate reperele din cadranul I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 pe caiet tabelul şi completează-l cu datele colectate.</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xaţi laserul ca să trimită lumina razant la suprafaţa mese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pe o foaie de hârtie, în calea luminii, o prismă optică cu secţiunea triunghi echilateral. Urmăriţi lumina care se refractă succesiv de două ori prin prismă şi ajunge </a:t>
            </a:r>
            <a:r>
              <a:rPr b="0" lang="en-GB" sz="1200" spc="-1" strike="noStrike">
                <a:solidFill>
                  <a:srgbClr val="000000"/>
                </a:solidFill>
                <a:latin typeface="Arial"/>
              </a:rPr>
              <a:t>pe</a:t>
            </a:r>
            <a:r>
              <a:rPr b="0" lang="ro-RO" sz="1200" spc="-1" strike="noStrike">
                <a:solidFill>
                  <a:srgbClr val="000000"/>
                </a:solidFill>
                <a:latin typeface="Arial"/>
              </a:rPr>
              <a:t> un obstaco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provocăr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hiul de pisică: Aşază pe podea un “ochi de pisică”  din cele folosite la biciclete. Redu cât mai mult iluminarea în încăpere şi trimite lumina lanternei către „ochiul de pisică”. </a:t>
            </a:r>
            <a:r>
              <a:rPr b="0" lang="en-GB"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ână la Luna şi înapoi: Viteza luminii în vid a  fost măsurată cu mare precizie</a:t>
            </a:r>
            <a:r>
              <a:rPr b="0" lang="en-GB" sz="1200" spc="-1" strike="noStrike">
                <a:solidFill>
                  <a:srgbClr val="000000"/>
                </a:solidFill>
                <a:latin typeface="Arial"/>
              </a:rPr>
              <a:t>:</a:t>
            </a:r>
            <a:r>
              <a:rPr b="0" lang="ro-RO" sz="1200" spc="-1" strike="noStrike">
                <a:solidFill>
                  <a:srgbClr val="000000"/>
                </a:solidFill>
                <a:latin typeface="Arial"/>
              </a:rPr>
              <a:t> 299 792 458 m/s (aproximativ</a:t>
            </a:r>
            <a:r>
              <a:rPr b="0" lang="en-GB" sz="1200" spc="-1" strike="noStrike">
                <a:solidFill>
                  <a:srgbClr val="000000"/>
                </a:solidFill>
                <a:latin typeface="Arial"/>
              </a:rPr>
              <a:t>,</a:t>
            </a:r>
            <a:r>
              <a:rPr b="0" lang="ro-RO" sz="1200" spc="-1" strike="noStrike">
                <a:solidFill>
                  <a:srgbClr val="000000"/>
                </a:solidFill>
                <a:latin typeface="Arial"/>
              </a:rPr>
              <a:t> 300 000 km/s). Cât te aştepţi să dureze drumul dus-întors al luminii între suprafaţa Pământului şi cea a Lun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arenţele pot înşela: De ce oare pe oglinzile retrovizoare ale vehiculelor este înscris un mesaj de avertisment: Atenţie! Obiectele sunt mai apropiate decât p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ta</dc:creator>
  <dc:description/>
  <dc:language>en-US</dc:language>
  <cp:lastModifiedBy>Guest</cp:lastModifiedBy>
  <dcterms:modified xsi:type="dcterms:W3CDTF">2012-06-15T12:33:20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