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A59-A324-4BB8-92CD-BB3F6FD9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463-8CCD-4759-A594-0F56F93F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124-6A7C-4BA8-A6ED-2B259643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C9D-8AE2-4101-AB86-4D944D82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D048-C76D-4E47-B047-D6091651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A9CA-A4F3-4459-A6B9-E71CCB17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1EEE-13DD-44D5-8547-08A22485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75EA-EB41-4DE0-A8F1-7A2EE021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129A-D662-4B93-B7A5-BE9785D2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030A-53DB-43A0-97B4-C2B878C7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2CCA-B195-4333-AB19-9159B93D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E01-54C5-4760-830B-CECD6B66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29B0-3CF5-402C-BB63-3EDF31BC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6CAA-7B02-4F8F-A575-180EC4C1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669-BEDA-4E58-8FE8-D98ADDC1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AC2F-99CA-44BD-BD2A-A7E5A626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330D-9B56-47A0-B61A-77880DA4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82E-7FF6-4513-AD2A-604D26FC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D61-8EBA-4296-8969-603F6CA2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3EF-B7E9-4111-8F86-833677FC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EFE-CDBF-440E-A2FA-3EFA015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980-0C38-43CF-BB82-7C803538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4A9-6CFC-4F9E-B031-D10C1F7A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6FA-B063-468A-8875-AF69A09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33A6-2F27-4C11-974D-0532E03E30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E78E-BFE0-4E12-9E64-8171DACE9C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VIAŢA SPIRITUALĂ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52280" y="228600"/>
            <a:ext cx="838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4</cp:lastModifiedBy>
  <dcterms:modified xsi:type="dcterms:W3CDTF">2012-06-19T10:45:0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