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BC3-E5F0-469C-8833-38A83397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1CC-6A99-41DD-A075-3C8C4054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B43-ADA0-4B29-A4FC-C5F360F8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45B7-F2EC-4E69-ABD5-9F0782ED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EFDA-A299-4F0C-B5A3-B72D04DC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958A-C581-4DB4-AE95-9C17D2AA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D63D-D604-447D-93E1-8E400E40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399C-3795-47E6-A25D-DEE6DDE8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7AA8-CE37-4A3D-992F-97B724F7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6CA9-FFDB-40E2-872E-C8EAF9CF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317C-06CB-4C45-B55A-027A1444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CA5-7474-434D-A896-24E6F339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1AAE-4CF9-49A6-949E-62ECC6A9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B46D-371B-4B86-852E-9E989A62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EC95-0D57-459D-8EA4-AEB34B1D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D410-2487-4203-A18F-579C86E4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A13E-36D3-4DDF-9EA9-69F05793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7C7-7C86-4001-87E9-BF5A9965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53F9-840B-4FA2-9788-FD9AD5BA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A9C-B545-4278-BDBC-985C8ED6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81DD-6144-4C98-8A2A-110ADA31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0AD-863E-4271-A625-ABDFAE98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77BA-4A1D-4405-870A-8F9B6E76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784-22E4-48D1-80D2-16B91254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D7B6-7B30-4775-BAFD-B70C972A5F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1B74-FBE6-4477-9892-E26332C627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330033"/>
                </a:solidFill>
                <a:latin typeface="Times New Roman"/>
              </a:rPr>
              <a:t>ALTE ROMANE  REALISTE INTERBELICE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68240" y="4037040"/>
            <a:ext cx="604692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9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9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330033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330033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330033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330033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57200" y="2857680"/>
            <a:ext cx="64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TE ROMANE  REALISTE INTERBELIC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70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330033"/>
                </a:solidFill>
                <a:latin typeface="Times New Roman"/>
              </a:rPr>
              <a:t>Examenul de bacalaureat 201</a:t>
            </a:r>
            <a:r>
              <a:rPr b="0" lang="en-US" sz="900" spc="-1" strike="noStrike">
                <a:solidFill>
                  <a:srgbClr val="330033"/>
                </a:solidFill>
                <a:latin typeface="Times New Roman"/>
              </a:rPr>
              <a:t>2</a:t>
            </a:r>
            <a:br>
              <a:rPr sz="900"/>
            </a:br>
            <a:r>
              <a:rPr b="0" lang="ro-RO" sz="900" spc="-1" strike="noStrike">
                <a:solidFill>
                  <a:srgbClr val="330033"/>
                </a:solidFill>
                <a:latin typeface="Times New Roman"/>
              </a:rPr>
              <a:t>Proba de evaluare a competenţelor digitale</a:t>
            </a:r>
            <a:r>
              <a:rPr b="0" lang="en-US" sz="900" spc="-1" strike="noStrike">
                <a:solidFill>
                  <a:srgbClr val="330033"/>
                </a:solidFill>
                <a:latin typeface="Times New Roman"/>
              </a:rPr>
              <a:t> – document de lucru</a:t>
            </a:r>
            <a:endParaRPr b="0" lang="en-US" sz="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1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ws24</cp:lastModifiedBy>
  <dcterms:modified xsi:type="dcterms:W3CDTF">2012-06-18T11:04:35Z</dcterms:modified>
  <cp:revision>27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