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0B6-D2FB-49ED-9E7A-5A735000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7D90-13ED-496D-B2CB-9CD472F3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2F25-5CF9-433D-AD22-E8B9F411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912E-E98F-4894-BE39-6C21DA7E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3CF5-1B49-4F99-821C-D411ABB7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1648-EB33-4B07-B02B-8EA44410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FC67-23BE-4E62-90A8-8F5074A7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1E2D-8EDC-4626-88B3-5764D7EE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C983-2D18-4AE2-B4A8-A494C3F0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F0B-71EC-44C4-9CA9-FA850582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AB39-1BF0-43AE-96AD-F5E61D06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90B0-24FA-4A07-A4A2-CBD4BC4B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F252-249F-4AD4-8FED-F5FF962A2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11280" y="1413000"/>
            <a:ext cx="34290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siunea iunie-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2a3</cp:lastModifiedBy>
  <dcterms:modified xsi:type="dcterms:W3CDTF">2012-06-18T10:54:08Z</dcterms:modified>
  <cp:revision>31</cp:revision>
  <dc:subject/>
  <dc:title>SALARIUL</dc:title>
</cp:coreProperties>
</file>