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0F6C1-CB68-44B5-97C6-0AA7C9244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B17D7-9E4D-4B6E-9B34-47E999985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B7E1A-92AD-4DD5-93A6-447E94F5D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874F1-3C22-44DE-B0AB-321D78207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CA3BF-5C0D-4B84-AFA6-59154C7C9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2F3D5-AF6A-4D09-BFDF-04AAC1F9A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3FC2A-2980-4ECD-B175-7F5DAA29A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24C9D-445F-4520-AEFA-C86D5625C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BC625-A054-46FE-845A-2A01E3D64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319BD-2A0B-45B2-9466-A5829C132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7BC98-183D-4B1B-8F8E-7D4C125FD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92993-43E5-4947-9FCF-EF8C08301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BD14-AD39-4FC2-9900-097FAF67F7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066680" y="4419720"/>
            <a:ext cx="6172200" cy="500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daptat după Manual de Psihologie, clasa a X-a, coordonator Mielu </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1" presetSubtype="2">
                                  <p:stCondLst>
                                    <p:cond delay="0"/>
                                  </p:stCondLst>
                                  <p:childTnLst>
                                    <p:animClr clrSpc="rgb">
                                      <p:cBhvr>
                                        <p:cTn id="6" dur="2000" fill="hold"/>
                                        <p:tgtEl>
                                          <p:spTgt spid="46"/>
                                        </p:tgtEl>
                                        <p:attrNameLst>
                                          <p:attrName>fillcolor</p:attrName>
                                        </p:attrNameLst>
                                      </p:cBhvr>
                                      <p:to>
                                        <a:srgbClr val="ffff09"/>
                                      </p:to>
                                    </p:animClr>
                                    <p:set>
                                      <p:cBhvr>
                                        <p:cTn id="7" dur="2000" fill="hold"/>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0-08-28T10:17:48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