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A3FDA4-EE31-49D4-A8C6-F235B66796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F750B-C5F7-48B1-9219-705176886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52465D-7B65-4173-BA3E-06FA4E324A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C305A5-9D35-47D5-BE16-FE21ABDC64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F6CBD-AA83-4BD6-9351-C96A52DC8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EBB34-1F4B-49B0-A719-34AF54AA1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E72C9-4F0D-458E-A5F5-E9A3FCE8B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7A9C6-FF02-4699-98DA-58C34F965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FDE59-648B-43F8-8CD3-B22FB125C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87A7B-77DF-45C4-B5D2-D219A0AE0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0782A-6718-4924-9635-63521D840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CF708-E0E5-4EF1-AA20-2B82A84309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98A54-2FBA-4CD2-9BAB-7B0AEE97D4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ÎMBRĂCĂMINTEA ROMANILOR</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latină, clasa a IX-a</a:t>
            </a:r>
            <a:r>
              <a:rPr b="0" lang="ro-RO" sz="1000" spc="-1" strike="noStrike">
                <a:solidFill>
                  <a:srgbClr val="000000"/>
                </a:solidFill>
                <a:latin typeface="Arial"/>
              </a:rPr>
              <a:t>, Daniela Văduva, consultant principal I. Fischer)</a:t>
            </a:r>
            <a:endParaRPr b="0" lang="en-US" sz="1000" spc="-1" strike="noStrike">
              <a:solidFill>
                <a:srgbClr val="000000"/>
              </a:solidFill>
              <a:latin typeface="Calibri"/>
            </a:endParaRPr>
          </a:p>
        </p:txBody>
      </p:sp>
      <p:sp>
        <p:nvSpPr>
          <p:cNvPr id="43"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4" name=""/>
          <p:cNvSpPr txBox="1"/>
          <p:nvPr/>
        </p:nvSpPr>
        <p:spPr>
          <a:xfrm>
            <a:off x="1835280" y="4437000"/>
            <a:ext cx="523872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esiunea Iunie - Iulie</a:t>
            </a:r>
            <a:endParaRPr b="0" lang="en-US" sz="1800" spc="1" strike="noStrike">
              <a:ln w="9360">
                <a:solidFill>
                  <a:srgbClr val="000000"/>
                </a:solidFill>
                <a:miter/>
              </a:ln>
              <a:solidFill>
                <a:srgbClr val="ffffff"/>
              </a:solidFill>
              <a:latin typeface="Arial Black"/>
              <a:ea typeface="Arial Black"/>
            </a:endParaRPr>
          </a:p>
        </p:txBody>
      </p:sp>
    </p:spTree>
  </p:cSld>
  <p:transition advTm="5000">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7f717"/>
            </a:gs>
            <a:gs pos="50000">
              <a:srgbClr val="fb1313"/>
            </a:gs>
            <a:gs pos="100000">
              <a:srgbClr val="d7f717"/>
            </a:gs>
          </a:gsLst>
          <a:lin ang="13500000"/>
        </a:gradFill>
      </p:bgPr>
    </p:bg>
    <p:spTree>
      <p:nvGrpSpPr>
        <p:cNvPr id="1" name=""/>
        <p:cNvGrpSpPr/>
        <p:nvPr/>
      </p:nvGrpSpPr>
      <p:grpSpPr>
        <a:xfrm>
          <a:off x="0" y="0"/>
          <a:ext cx="0" cy="0"/>
          <a:chOff x="0" y="0"/>
          <a:chExt cx="0" cy="0"/>
        </a:xfrm>
      </p:grpSpPr>
      <p:sp>
        <p:nvSpPr>
          <p:cNvPr id="45"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ga, îmbrăcămintea oficială a cetăţeanului roman, (interzisă străinilor) era o piesă din lână albă (toga candida) tăiată în două semicercuri, ale căror dimensiuni ajungeau până la şase metri. În timp de doliu sau alte nenorociri se purta toga de culoare neagră (toga sordida). Aranjarea ei era destul de complicată şi cerea foarte multă mig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gistraţii şi băieţii cetăţenilor romani (până la 17 ani) purtau toga praetexta, toga tivită pe margin</a:t>
            </a:r>
            <a:r>
              <a:rPr b="0" lang="en-US" sz="1200" spc="-1" strike="noStrike">
                <a:solidFill>
                  <a:srgbClr val="000000"/>
                </a:solidFill>
                <a:latin typeface="Arial"/>
              </a:rPr>
              <a:t>e</a:t>
            </a:r>
            <a:r>
              <a:rPr b="0" lang="ro-RO" sz="1200" spc="-1" strike="noStrike">
                <a:solidFill>
                  <a:srgbClr val="000000"/>
                </a:solidFill>
                <a:latin typeface="Arial"/>
              </a:rPr>
              <a:t> cu o bandă de purpură. După ce deveneau majori, tinerii îmbrăcau toga virilă (toga virili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nica, haină de uz curent, strânsă pe talie cu ajutorul unei cingători (cinctura), era purtată, de obicei, pe sub tog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lium şi paenula (îmbrăcăminte pentru timpul rece) au înlocuit cu timpul toga.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emeile purtau o tunică, cu sau fără mâneci, mai largă decât cea a bărbaţilor. Pe deasupra acesteia se punea stola, o cămaşă lungă până la glezne, strânsă pe talie cu o cingătoare. Peste stola se purta o manta simplă (ricinium), sau o haină mai mare (palla). […]</a:t>
            </a:r>
            <a:endParaRPr b="0" lang="en-US" sz="1200" spc="-1" strike="noStrike">
              <a:solidFill>
                <a:srgbClr val="000000"/>
              </a:solidFill>
              <a:latin typeface="Calibri"/>
            </a:endParaRPr>
          </a:p>
        </p:txBody>
      </p:sp>
      <p:pic>
        <p:nvPicPr>
          <p:cNvPr id="46" name="Picture 9" descr="comp_i"/>
          <p:cNvPicPr/>
          <p:nvPr/>
        </p:nvPicPr>
        <p:blipFill>
          <a:blip r:embed="rId1"/>
          <a:stretch/>
        </p:blipFill>
        <p:spPr>
          <a:xfrm>
            <a:off x="5148360" y="1484280"/>
            <a:ext cx="360036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1.</a:t>
            </a:r>
            <a:r>
              <a:rPr b="0" lang="ro-RO" sz="1200" spc="-1" strike="noStrike">
                <a:solidFill>
                  <a:srgbClr val="000000"/>
                </a:solidFill>
                <a:latin typeface="Arial"/>
              </a:rPr>
              <a:t>	</a:t>
            </a:r>
            <a:r>
              <a:rPr b="0" lang="ro-RO" sz="1200" spc="-1" strike="noStrike">
                <a:solidFill>
                  <a:srgbClr val="000000"/>
                </a:solidFill>
                <a:latin typeface="Arial"/>
              </a:rPr>
              <a:t>Conjugaţi la toate modurile şi timpurile din tema de perfect, verbele de mai jos: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ludo, -ere, -s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stendo, -ere, -nd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do, -are, -avi, -atum.</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cunoaşteţi următoarele forme verbale şi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navisse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pivi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uera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gnoverimu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eneru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lutaveritis.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mpletaţi propoziţiile următoare punând verbele la indicativ perfect.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esar post pugnam Roma</a:t>
            </a:r>
            <a:r>
              <a:rPr b="0" lang="en-US" sz="1200" spc="-1" strike="noStrike">
                <a:solidFill>
                  <a:srgbClr val="000000"/>
                </a:solidFill>
                <a:latin typeface="Arial"/>
              </a:rPr>
              <a:t>m</a:t>
            </a:r>
            <a:r>
              <a:rPr b="0" lang="ro-RO" sz="1200" spc="-1" strike="noStrike">
                <a:solidFill>
                  <a:srgbClr val="000000"/>
                </a:solidFill>
                <a:latin typeface="Arial"/>
              </a:rPr>
              <a:t> veni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udius ab adulescentia in villa habit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mani longo bello Gallos vince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b3s5</cp:lastModifiedBy>
  <dcterms:modified xsi:type="dcterms:W3CDTF">2012-06-18T11:06:21Z</dcterms:modified>
  <cp:revision>45</cp:revision>
  <dc:subject/>
  <dc:title>SALARIUL</dc:title>
</cp:coreProperties>
</file>