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4B3-1D95-4CF6-896A-0A8E0EC7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1D0-AC29-478E-94B3-AD285151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B64-690E-44B7-A908-6B15A298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0A7-2187-4776-A441-7F3BF566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A98-E75F-4153-813F-A6305770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88D-5E65-4263-A355-915D4F73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F35-39AD-4722-A512-374DF1EC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BDB-7A9B-4B77-8995-19E9B36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D58-1996-4C41-9851-46B14AAD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EA0-D3C3-4A79-8A9E-913AA62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BEA-23B1-4A59-A6CD-76509F81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9E1-632C-4562-8D1C-9187CEE9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536-F3F0-4D1F-981F-9C8929D7C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55008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709920" cy="709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05Z</dcterms:modified>
  <cp:revision>33</cp:revision>
  <dc:subject/>
  <dc:title>SALARIUL</dc:title>
</cp:coreProperties>
</file>