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24E9-8999-4D9D-A531-1AFBAB924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7655-5098-42CE-A80F-1145D543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A771-323B-4498-A70F-8A6A8C23A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14BB-3BC1-4C2D-8EB2-D4BE5F3C3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B91A6-BF5D-4753-AC8F-76649E40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7EA81-DB4D-46EF-A7C7-F1039961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BAEDF-95C6-4C34-B732-D5ED67F6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11F4E-EDF4-4E42-9854-8FBC2D70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81056-5D8E-4B0B-932D-1AC4170E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155BA-8B37-4F6B-8A6E-31124607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0A96B-2587-495E-8591-C99CD31B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C874-F25D-474B-A086-CD1CAA7C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C6E56-7327-4135-A878-1A0B869E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72D0A-F3D6-4C1E-8D5D-E174F7C1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7E5AC-7331-46DB-B76B-EE8B6246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7FCD7-D66C-48A3-87A8-68C4FB91A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D6F14-043D-4778-973B-09FFCF7AE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FFF3-9F3C-4DD6-B456-DF895E5B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81C4-3F69-436B-BC55-FEC0233A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493A-6A39-44EE-8562-9FD806A2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95CF-B6E0-4042-8784-6CA7D554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1528-E17A-4136-899D-5E283D9E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FD3C-8F0F-447F-8BAB-3D60BE73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3169-DE62-43A4-A3C0-39C5F9DE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4CD9-A3C6-4F66-9E30-131CE11F6864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13E6-F07B-4FB0-A26A-8F3043C79E6E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ETROLU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3040" y="3982680"/>
            <a:ext cx="685656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(Adaptat după </a:t>
            </a:r>
            <a:r>
              <a:rPr b="0" i="1" lang="es-ES" sz="1000" spc="-1" strike="noStrike">
                <a:solidFill>
                  <a:srgbClr val="ffffff"/>
                </a:solidFill>
                <a:latin typeface="Tahoma"/>
              </a:rPr>
              <a:t>Manualul de Chimie</a:t>
            </a: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s-ES" sz="1000" spc="-1" strike="noStrike">
                <a:solidFill>
                  <a:srgbClr val="ffffff"/>
                </a:solidFill>
                <a:latin typeface="Tahoma"/>
              </a:rPr>
              <a:t>clasa a X-a</a:t>
            </a: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Rodica Constantinescu, Maria-Luiza Popescu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– document de lucru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Primele cercetări legate de cunoaşterea compozi</a:t>
            </a: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ţiei 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petrolului românesc au fost iniţiate la sfârşitul secolului trecut de către Petru Poni (1841 - 1925) la Iaşi, care a izolat anumiţi termeni ai seriilor de hidrocarburi din petrol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Petrolul este un amestec </a:t>
            </a: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complex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de hidrocarburi gazoase şi solide, dizolvate în hidrocarburi lichide. Hidrocarburile frecvent întâlnite în compoziţia petrolului aparţin în general seriei alcanilor, cicloalcanilor (naftene) şi arenelor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Alchenele şi alchinele mai reactive lipsesc din petrol. Pe lângă hidrocarburile menţionate, în petrol mai apar şi compuşi organici cu oxigen, azot sau sulf, în cantităţi foarte mici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Sulful trebuie îndepărtat în cursul prelucrării petrolului, deoarece prin ardere rezultă dioxid de sulf (un gaz coroziv)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În funcţie de locul zăcământului şi de condiţiile în care acesta s-a format, în compoziţia petrolului pot predomina una sau alta dintre aceste clase de hidrocarburi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6" descr="comp_i"/>
          <p:cNvPicPr/>
          <p:nvPr/>
        </p:nvPicPr>
        <p:blipFill>
          <a:blip r:embed="rId2">
            <a:grayscl/>
          </a:blip>
          <a:stretch/>
        </p:blipFill>
        <p:spPr>
          <a:xfrm>
            <a:off x="5105520" y="1676520"/>
            <a:ext cx="180000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Petrolul este 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un lichid vâscos, de culoare brună, cu fluorescenţă verde-albăstruie, cu miros specif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densitatea petrolului este mai mică decât a apei, variind între 0,800 şi 0,930 g/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este insolubil în apă, formând cu aceasta o emulsi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Cracare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Cracarea este procesul în care au loc ruperi ale unor legături simple C-C din alcani şi cicloalcani. Cracarea poate fi termică sau catalitic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Materiile prime folosite la cracarea termică sunt motorina şi păcura, iar produşii rezultaţi sunt alcani şi alchene inferioare, numite gaze de cracare, benzină de cracare şi cocs petroli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Cracarea catalitică foloseşte în special motorina ca materie primă. Se obţin gaze de rafinărie, benzină mai bună decât cea obţinută prin cracarea termică şi cocs petroli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Ştiaţi că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În urma prelucrării complexe a petrolului se obţin circa 300 de produs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Metanul este principalul constituent al gazelor natura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Gazele naturale, care însoţesc în general zăcămintele de petrol, sunt o sursă de materii prime pentru obţinerea de produse: îngrăşăminte, mase plastice, cauciuc cloroprenic, acetilenă, metanol, formaldehidă, solvenţi, hidrogen et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v</cp:lastModifiedBy>
  <dcterms:modified xsi:type="dcterms:W3CDTF">2012-06-19T11:08:12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