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C9B03-9F05-417F-9C21-7EBAE0C2A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FA63-EC8C-4A67-84F7-9311773BE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FFC9A-2102-49DC-9326-15E2E80E7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A826B-1A0E-487E-B9DC-54C4D3B1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004D-3EA7-41CE-9983-01D22B9C5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70FD-3D01-472E-846C-1CA223BB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723C3-0CBE-4528-AFB1-C330131C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37D3-2D73-4CD1-8E22-539FCC0E8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7D91B-3E63-4D9A-B109-959E5825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93BD-98C6-40AE-AADB-A45500E0A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0586-BC9D-433E-985D-BC4258B67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271B-97C4-43B5-9FFC-04B417CA4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FC8D-1CAB-4F3C-A059-529F445CF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grayscl/>
          </a:blip>
          <a:stretch/>
        </p:blipFill>
        <p:spPr>
          <a:xfrm>
            <a:off x="4724280" y="1371600"/>
            <a:ext cx="1440000" cy="14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2:18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