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341-30E2-48C1-AC5F-4D7CB239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889-B671-4442-888C-C2CD69A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E29-6A12-4AFD-9FE8-A680F1CB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625-9A87-4147-A96E-ABAF71C9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BD6-1649-487C-BA3E-402A1741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D5A-D2D3-4B2F-A33B-3C43CE1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4BD-03D9-4F86-9A37-C16A7A9D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40F-9D85-4857-89B0-A0357800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2CA-BA36-420D-A204-64A1FF3D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FFC-57E2-4096-8343-65DF2045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2A7-09EA-4E5A-8ECA-ECA80F5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775-2BD6-4A1F-AF1E-CC4505C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F9FE-ECA4-4DA8-A822-A5D69E002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4480" y="3076560"/>
            <a:ext cx="3515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siunea iunie-iuli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8T11:23:36Z</dcterms:modified>
  <cp:revision>38</cp:revision>
  <dc:subject/>
  <dc:title>SALARIUL</dc:title>
</cp:coreProperties>
</file>