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A59-D91C-403A-9B5C-5FAFC71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D61-CD48-4FF3-AAC7-0C1846DD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D94-1E1B-4E51-9095-B58E67F8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18D-F98C-4015-943F-700AFB7E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254-F937-4B9A-9BDE-F2D0095B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740-450C-469D-B8F6-78F2DC0F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478-F839-4EA5-9E87-99834042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8DE-A3AA-40A2-B82B-6CC1A7A6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2D3-DB78-473C-8D5C-46766EE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9DE-64F9-4C1B-BA56-0908105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9DD-F63A-455F-AFBF-5ADFF7DA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193-5C7F-45AE-A058-8E4DD0A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52AB-4EF1-4576-A669-2E3C1A88C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1a3</cp:lastModifiedBy>
  <dcterms:modified xsi:type="dcterms:W3CDTF">2012-06-19T10:46:54Z</dcterms:modified>
  <cp:revision>32</cp:revision>
  <dc:subject/>
  <dc:title>SALARIUL</dc:title>
</cp:coreProperties>
</file>