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BE1D6-3A47-43F3-BBF8-BCA08D405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5A4E-73D2-4DF4-9706-F5579155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9C940-5157-4049-A122-DA1650171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1E2B5-082D-4EA7-8AAA-ED16F3726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8E7F6-3C7C-4C54-BF81-05FDB8732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8434-51F4-49C5-A642-E6887426E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9CF34-2222-473D-8728-D63950D27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11CB9-DD37-4DC1-8FA2-D291A7A8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3AFAC-AEE0-479C-ADF6-351A88FF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FC73-2655-439B-9F17-4C6FC2A8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FE5D-7150-4535-8CC2-067FF6D4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1D27-A0DC-4F60-A9DF-E8D80D1B5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5DA0-C426-4C2C-BCC9-37128FF5761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4716360" y="18446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8"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5Z</dcterms:modified>
  <cp:revision>2</cp:revision>
  <dc:subject>CNEE</dc:subject>
  <dc:title>CNEE</dc:title>
</cp:coreProperties>
</file>