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07BB3-C5C9-4A78-8252-C5A1D466B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3CE18-FE98-42B1-A6F5-C1D084045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D520F-881F-4CF9-8566-2FECB53C9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E383E-3312-4A4A-9A61-220A2021C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6D5D3-E6B2-4116-8691-CEA9B2747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2BC43-7A77-40BB-85C5-07F959A1F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C1953-55E3-4EC8-BCB8-DA6B18BA3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74849-9AA7-4F5E-9E93-8DAE14527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9C49C-F849-45E9-8B86-89C05BB19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22083-F25A-4525-9839-B85920EE4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10BC6-8D04-4003-8FB8-5FD5EA269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4398D-3389-42EE-8E82-E9D640671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34832-FFAB-48EA-84F8-6AF9F7C154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comp_i"/>
          <p:cNvPicPr/>
          <p:nvPr/>
        </p:nvPicPr>
        <p:blipFill>
          <a:blip r:embed="rId1"/>
          <a:stretch/>
        </p:blipFill>
        <p:spPr>
          <a:xfrm>
            <a:off x="5715000" y="1600200"/>
            <a:ext cx="306720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Guest</cp:lastModifiedBy>
  <dcterms:modified xsi:type="dcterms:W3CDTF">2012-06-15T12:34:01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