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0EA6E-F848-40A1-88EB-CCBE27CB8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3B50E-EEAA-4B21-BB19-278E9A288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D6A62-FA47-4E5E-862E-29D5BFBDA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304C0-A45F-468F-AA14-5442E5E9A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0338B-D75E-427C-AA84-1CB7E4A83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D1001-FF6B-4E96-8CAE-C2EF2F456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4C5E2-0315-4A05-910D-F355C2445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0FAA7-2E29-490C-BAAB-C4FD81198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D77AC-17CA-4EFD-88C6-5F83A5CEF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26AC0-C834-48AB-9809-507EBC0FC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46500-DFF6-46E7-8DA1-1DC9F9E4D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C7397-7CD7-47F9-84AD-175AB6D57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56939-2443-43FF-A502-9A2B8238EE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3362400" y="3273480"/>
            <a:ext cx="241920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esiunea iunie-iulie</a:t>
            </a:r>
            <a:endParaRPr b="0" lang="en-US" sz="1800" spc="1" strike="noStrike">
              <a:ln w="9360">
                <a:solidFill>
                  <a:srgbClr val="000000"/>
                </a:solidFill>
                <a:miter/>
              </a:ln>
              <a:solidFill>
                <a:srgbClr val="000000"/>
              </a:solidFill>
              <a:latin typeface="Arial Black"/>
              <a:ea typeface="Arial Black"/>
            </a:endParaRPr>
          </a:p>
        </p:txBody>
      </p:sp>
    </p:spTree>
  </p:cSld>
  <p:transition advTm="5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c126b"/>
            </a:gs>
          </a:gsLst>
          <a:lin ang="54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9" descr="comp_i"/>
          <p:cNvPicPr/>
          <p:nvPr/>
        </p:nvPicPr>
        <p:blipFill>
          <a:blip r:embed="rId1"/>
          <a:stretch/>
        </p:blipFill>
        <p:spPr>
          <a:xfrm>
            <a:off x="5148360" y="1484280"/>
            <a:ext cx="3600360" cy="3600360"/>
          </a:xfrm>
          <a:prstGeom prst="rect">
            <a:avLst/>
          </a:prstGeom>
          <a:ln w="0">
            <a:noFill/>
          </a:ln>
        </p:spPr>
      </p:pic>
    </p:spTree>
  </p:cSld>
  <p:transition advTm="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Tree>
  </p:cSld>
  <p:transition advTm="5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2-06-18T10:58:17Z</dcterms:modified>
  <cp:revision>44</cp:revision>
  <dc:subject/>
  <dc:title>SALARIUL</dc:title>
</cp:coreProperties>
</file>