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F0AC-A92D-4BBC-B0EF-534F8C06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EE35-5C3E-40E5-9A13-1BF9B297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3597-D5DE-4036-BF67-525F763E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3D7-32DC-444E-8A6B-D6AA5E44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85CD-358C-4D10-92FE-619006E3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AED7-37D4-410E-B817-EF2F09F5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8D89-15EB-4FC9-B0F4-C42C4B66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AD5B-D2CF-4831-A9C2-368DDB43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D79A-1822-458E-8DE9-3E51A23E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B09B-E1F5-4D86-A630-EE9DFC80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75D3-FBC6-4CE2-91D5-7EB3F0EF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EBAE-74C3-4079-A201-10D22400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D82F-A1CF-46D4-822B-C42CD907E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PARIŢIA ŞI RĂSPÂNDIREA CREŞTINISMULU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rimisul lui Dumnezeu, fiul său, Isus, se naşte la Bethleem şi trăieşte la Nazareth. Viaţa sa este povestită în cele patru Evanghelii cunoscute şi sub numele de Noul Testament – scrierea sfântă a creştinilor. La 30 de ani, Isus începe să predice cuvântul lui Dumnezeu în Galileea, o provincie a Palestin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ntru a arăta natura sa divină, Isus săvârşeşte miracole. Dintre discipolii săi, doisprezece sunt aleşi pentru a duce mai departe în întreaga lume noua învăţătură. Ei sunt numiţi apostoli, iar cel mai important este Petr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sus predică pentru cei slabi, săraci sau persecutaţi, promiţându-le împărăţia cerurilor, a lui Dumnezeu cel unic şi atotputernic. Noua credinţă se răspândeşte repe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vreii aşteptau un alt fel de Mesia, venind să-i elibereze de sub stăpânirea romană. De aceea nu îl recunos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siderându-l impostor, preoţii îl predau romanilor. Aceştia îl judecă şi îl condamnă la moarte prin crucifi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3619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dactaţi pe scurt semnificaţia următorilor terme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rce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rdonaţi cronologic următoarele evenimen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vizarea Imperiului r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tragerea administraţiei şi armatei romane din Da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nirea hunilor în 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urmări au av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ătrunderea ostrogoţilor în It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mnia împăratului Justin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mnia împăratului Diocleţi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8T13:53:51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