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0B6-8E31-4C8C-9130-BD9AFEF7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84D-458A-49FC-A93F-D92590B1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E97-2C23-40B4-882D-3F5E2929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64C-631A-422A-AF4F-E33C6C80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021-B0EE-4C3D-9E42-2B339E37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C8F-EBAE-4968-9401-6A7E1D3D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53F-1804-483D-BDD0-F98D4687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79A-9945-47ED-9EB4-AA8AEB42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DAA-B17F-4351-9E3B-4F6DF474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3AB-C7D6-409D-A293-B7D16714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0A2-C94A-4AAF-82CE-9DEEB8AC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E1C-7151-4B23-B330-24ECC501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E0CE-A57F-4968-BC51-9F5BFC16F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  <a:lum contrast="-12000"/>
          </a:blip>
          <a:srcRect l="26496" t="67263" r="21116" b="31042"/>
          <a:stretch/>
        </p:blipFill>
        <p:spPr>
          <a:xfrm>
            <a:off x="6218280" y="3357720"/>
            <a:ext cx="1401840" cy="4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8:06Z</dcterms:modified>
  <cp:revision>30</cp:revision>
  <dc:subject/>
  <dc:title>SALARIUL</dc:title>
</cp:coreProperties>
</file>