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F4F-07AD-4A5B-80B3-5677FD13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0F4-A8F2-4FA9-828A-647E15A2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7ED-4669-43F8-A56D-F445B01A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951-14D1-4CA2-8392-14954722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3C9-115C-41BE-AD16-D4EDF53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A02-3018-400A-8B20-B4DF8032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4B9-5095-4BDC-8DFB-BFF03FBD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7AF-E4C3-43CB-9635-119D8C0A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240-8EDD-4843-A4CA-45F5950F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965-1FAB-4F67-8E27-10364C9E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994-B729-4441-A3CE-F02A2AC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276-E5AB-48CB-84E4-59E2E70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B8EF-5327-42DA-B89E-F50AFE6D1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ÎMBRĂCĂMINTEA ROMANIL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anualul de Limba latină, clasa a IX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aniela Văduva, consultant principal I. Fische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148360" y="4724280"/>
            <a:ext cx="18478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oga, îmbrăcămintea oficială a cetăţeanului roman, (interzisă străinilor) era o piesă din lână albă (toga candida) tăiată în două semicercuri, ale căror dimensiuni ajungeau până la şase metri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 timp de doliu sau alte nenorociri se purta tog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culoare neagră (toga sordida). Aranjarea ei era destul de complicată şi cerea foarte multă mig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agistraţii şi băieţii cetăţenilor romani (până la 17 ani) purtau toga praetexta, toga tivită pe marg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u o bandă de purpură. După ce deveneau majori, tinerii îmbrăcau toga virilă (toga viri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nica, haină de uz curent, strânsă pe talie cu ajutorul unei cingători (cinctura), era purtată, de obicei, pe sub tog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llium şi paenula (îmbrăcăminte pentru timpul rece) au înlocuit cu timpul tog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emeile purtau o tunică, cu sau fără mâneci, mai largă decât cea a bărbaţilor. Pe deasupra acesteia se punea stola, o cămaşă lungă până la glezne, strânsă pe talie cu o cingătoare. Peste stola se purta o manta simplă (ricinium), sau o haină mai mare (palla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0"/>
            <a:ext cx="9217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mp_i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76500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gaţi la toate modurile şi timpurile din tema de perfect, verbele de mai jo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cludo, -ere, -si, -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stendo, -ere, -ndi, -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do, -are, -avi, -at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cunoaşteţi următoarele forme verbale şi traduceţ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enaviss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piv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luera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overimu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neru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alutaveritis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taţi propoziţiile următoare punând verbele la indicativ perfect. Traduceţ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esar post pugnam Ro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en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udius ab adulescentia in villa habit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omani longo bello Gallos vinc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40464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a3</cp:lastModifiedBy>
  <dcterms:modified xsi:type="dcterms:W3CDTF">2012-06-18T11:17:06Z</dcterms:modified>
  <cp:revision>45</cp:revision>
  <dc:subject/>
  <dc:title>SALARIUL</dc:title>
</cp:coreProperties>
</file>