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D7C5-CD83-430F-8864-66C69A48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FD1-89ED-4C06-AD50-EFD11368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7CD-67C4-48CD-9241-8CFB3BED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042A-29AD-4D37-B0BE-14CD1180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518-618C-4DEB-86C4-4F8B5815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E7E-E47F-4A8E-BA15-09D1A250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4EC-5B06-4762-9B93-040E56EE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5534-BD8F-48A9-B0FC-3A073F05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827F-178A-4D77-9C6C-1349B7CC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C23-EB30-45F4-8968-EC4439F1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AAE-9415-419F-A905-99D6E96F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A58-11CC-43FD-A233-911A19BF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81B8-8B0A-409B-A44C-0CA327FD8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90920" y="4572000"/>
            <a:ext cx="378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esiunea iunie-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12a3</cp:lastModifiedBy>
  <dcterms:modified xsi:type="dcterms:W3CDTF">2012-06-10T10:59:16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