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D3E-D2E3-448A-B435-6EEBCDC8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EE7A-A770-495A-8A2E-404D28F7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5B51-2092-40C3-A7A2-A6AC2508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B0F-A6A7-4DCF-865B-BEDF22F9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BA0B-06D4-47D2-8186-F178874F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9D4A-53EA-4A82-BFD3-BDA9A576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1DC3-3611-42E6-95E4-79B0D6C0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6932-8CF3-446E-9B51-53AC22A7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C61E-6A63-49BE-BBEB-00409D66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D623-4274-4516-8AED-A5028460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6BE8-8917-4C4A-9114-6D007514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71C-8F6F-4B07-B23C-0B4B2F64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0CA2-D937-48DE-93DE-8FACBC1F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0D61-C17F-48EA-93DF-011D9EA1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0B4A-1B60-4FC7-9180-8FCD0AF5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A396-DBF6-4AF5-9DCD-BDC56063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EBEF-E574-4DDA-B51F-84CB2454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95A-A76A-4D69-BDFC-3C001B7F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303E-2681-45CC-A044-04544F22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2DD7-6169-4E44-B0FB-3B64424B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8BB2-2E6F-4774-A674-E054CBAC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1599-2D78-4366-B851-EF9E1711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AFC-49C7-4FE9-8704-E93F5D1B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853A-B658-4AF6-A30E-0C17044E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41ED-0D90-4825-9AFE-DB3298EED08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C6FB-1B1D-42C7-AB05-12388A45318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ETODA BACKTRACKING</a:t>
            </a:r>
            <a:endParaRPr b="1" lang="en-US" sz="1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5120" y="4059000"/>
            <a:ext cx="586728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64000" y="177336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ws16</cp:lastModifiedBy>
  <dcterms:modified xsi:type="dcterms:W3CDTF">2012-06-19T11:04:52Z</dcterms:modified>
  <cp:revision>32</cp:revision>
  <dc:subject/>
  <dc:title>SALARIUL</dc:title>
</cp:coreProperties>
</file>