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AAA1-29C5-4F0E-BAB8-5E5C55B17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AC64-261E-43FF-95DA-AE9EE7855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48C0-F966-43D8-B5F0-BC96DF7AE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6896-9927-4012-91E3-0B7DE300E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0DF07-5465-452E-84A6-18595614B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92D4E-5E7E-4926-820C-5B040A74A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A81FE-D454-456D-86E5-AFA77AF9C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513A9-773C-4BBA-BEBC-CFC6F2EF3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621F3-43D7-4CF0-A8B6-4EBC8D60D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DA449-7008-4071-9A6C-548CBE323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43C46-F0B7-4090-BAC7-C55AAA6E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990A-BE1A-4CF3-86C4-0DD88D2CE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406AD-A75E-4EEA-AF44-69C229AE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0FF67-DEDE-4C84-B217-369C4541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D51A2-0D24-47AA-BB36-D040DBD8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6D5FB-67F1-46BF-A523-418C0F127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407BB-6CB7-4AD6-8D92-7038C7DBF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972C-003F-4BBD-94DF-F0773927E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A6BA-310C-499B-86EA-E1F65FBB9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10D6-42D0-463B-83EE-27509077D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DA2A-7501-4BAA-92A3-D66177500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0B42-7487-439C-9D66-238147F0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F453-7123-43A9-B729-CD89D6BF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DE7C-C035-478D-84B9-40F5116A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B0527-CEC1-45F2-B04A-099F8D6B9EC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FB117-2B0D-439D-B72C-18B2C09227A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Calibri"/>
              </a:rPr>
              <a:t>PRĂJITURI CU FRIŞCĂ</a:t>
            </a:r>
            <a:endParaRPr b="0" lang="en-US" sz="17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9440"/>
            <a:ext cx="6400800" cy="68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900" spc="-1" strike="noStrike">
                <a:solidFill>
                  <a:srgbClr val="000000"/>
                </a:solidFill>
                <a:latin typeface="Arial"/>
              </a:rPr>
              <a:t>Manualul pentru calificarea Cofetar – Patiser,  Anul de completare</a:t>
            </a:r>
            <a:r>
              <a:rPr b="0" lang="ro-RO" sz="900" spc="-1" strike="noStrike">
                <a:solidFill>
                  <a:srgbClr val="000000"/>
                </a:solidFill>
                <a:latin typeface="Arial"/>
              </a:rPr>
              <a:t>, coord. Cristian Dincă)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Prăjiturile cu frişcă sunt prăjituri cu o structură eterogenă (în ceea ce priveşte suportul), iar în componenţa lor se foloseşte o mare cantitate de frişcă. Ele se pot prezenta fie la bucată (rotunde, tronconice, sub formă de scafă, pătrate, dreptunghiulare), fie ca piese întregi, paralelipipedic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În structura prăjiturii, frişca bătută îndeplineşte următoarele funcţii: componentă de umplere a prăjiturii, înlocuind sau completând crema; componentă a cremei, imprimând structura afânată; componenta pentru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decorare; furnizoare de factori nutritivi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Tehnologia prăjiturilor cu frişcă este variată, dar se impune respectarea următoarelor cerinţe: indiferent de funcţie, frişca se foloseşte bătută, iar baterea se face în momentul utilizării; dacă este o componentă a cremei, frişca trebuie însoţită de gelatină care are rolul de a stabiliza structura spumoasă; dacă este utilizată la decorare, se va turna cu puţin timp înaintea expedierii spre vânzare, cu poşul cu spriţ mare (pentru a evita eliminarea aerului şi a umidităţii prin presarea intensă a poşului). […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Întreaga structură a prăjiturilor cu frişcă este un concentrat de factori nutritivi cu valoare biologică mare, proteine complete, lipide emulsionate, vitaminele liposolubile A şi D, substanţe minerale (Ca, P, Fe) glucide simpl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Frişca bătută, element de bază, participă la întregirea sau echilibrarea valorii alimentare a prăjiturilor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n</a:t>
            </a: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 frişc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53964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5508720" y="155736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răjituri cu frişcă cu supor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Din cataif – cataif cu frişcă. Operaţii pregătitoare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 algn="just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SzPct val="6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prepararea cataifului crud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[…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 algn="just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SzPct val="6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prepararea siropului [...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 algn="just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SzPct val="6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pregătirea cataifului însiropat [...]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Din aluat dospit – Savarină. Operaţii pregătitoar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 algn="just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SzPct val="6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prepararea aluatului dospi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 algn="just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SzPct val="6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porţionarea aluatului în forme pentru savarine unse uşor cu ulei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 algn="just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SzPct val="6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dospirea finală, coacerea la foc potrivit, scoaterea în stare caldă, răcirea. [...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Din coji indiene – Indiene cu frişcă. Operaţii pregătitoar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 algn="just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SzPct val="6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uniformizarea cojilor şi împerecherea lo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 algn="just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SzPct val="6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fluidizarea fondantului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 algn="just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SzPct val="6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tramparea şi glasarea suprafeţei bombate pentru jumătate din numărul cojilor.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Din pişcoturi de şampanie – Prăjitura Diplomat. Operaţii pregătitoar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 algn="just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SzPct val="6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jumătate din cantitatea de pişcoturi se taie în două, transversal (pe lăţime), se aşază pe platou pentru a se stropi cu 1/2 din cantitatea de lichior Triple sec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 algn="just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SzPct val="6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omogenizarea cremei şarlotă de vanilie cu răzătură de portocale şi fructe confiate asortate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[…]</a:t>
            </a: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 algn="just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SzPct val="6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tăierea fructelor confiate după scurgerea de sirop, pentru decorare.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539640" y="26028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b3s7</cp:lastModifiedBy>
  <dcterms:modified xsi:type="dcterms:W3CDTF">2012-06-19T11:03:37Z</dcterms:modified>
  <cp:revision>30</cp:revision>
  <dc:subject/>
  <dc:title>SALARIUL</dc:title>
</cp:coreProperties>
</file>