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C69-1512-4CCE-B68F-42D5082F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DA6-5303-4A51-B577-AF9BD035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471-E1CF-4A0D-962F-9FDDAC7A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910-1B00-4219-99CA-FE86E5ED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25C-7A6B-4059-9483-C83EF216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3C3-C9AF-42B8-B38E-304BB7B3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C73-912B-4839-A067-D0586CFB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41D-3B99-471F-90C3-7974D6DB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958-7622-4C73-BCCF-976123F0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E05-D1D3-46C0-AEE7-0118A47E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931-E296-4D60-B3B1-50E9C26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492-2552-4288-9EF8-E2E551C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555F-99C9-4A66-A15C-2667DA452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504d"/>
            </a:gs>
            <a:gs pos="100000">
              <a:srgbClr val="d7b93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6b2</cp:lastModifiedBy>
  <dcterms:modified xsi:type="dcterms:W3CDTF">2012-06-18T11:11:49Z</dcterms:modified>
  <cp:revision>30</cp:revision>
  <dc:subject/>
  <dc:title>SALARIUL</dc:title>
</cp:coreProperties>
</file>