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8A243-6D5E-45A8-8C56-0455A4A09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3DBAB-316F-4260-BB03-CE2D5D0EC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FA5AF-32BA-4681-A532-E0ADC346A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A6777-4B79-4F2A-8927-2102D4DD3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EFE89-7BEB-47E6-841B-DC172A7FA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287C3-21CD-4412-BA29-272C9B0C2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798CF-EDC7-4E7A-ADCF-0DCEF48DE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1AC03-C837-40D5-8BC4-E3016DC58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437E7-EE26-4EA3-955F-FBE9FA3ED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E8902-4E00-43C8-94A0-451EE4EF3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6B528-9C13-4672-842A-3BBC32A51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09214-301B-47A0-9915-E2FCBE536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A10B-C635-4541-82DB-CBE9C97293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1828800" y="3143160"/>
            <a:ext cx="6400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Adaptat după Manualul de Fizică, clasa a IX-a, Mircea Nistor,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2f"/>
            </a:gs>
            <a:gs pos="100000">
              <a:srgbClr val="ccff66"/>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8" name="Content Placeholder 5" descr="comp_i.jpg"/>
          <p:cNvPicPr/>
          <p:nvPr/>
        </p:nvPicPr>
        <p:blipFill>
          <a:blip r:embed="rId1"/>
          <a:stretch/>
        </p:blipFill>
        <p:spPr>
          <a:xfrm>
            <a:off x="5334120" y="1828800"/>
            <a:ext cx="2523960" cy="2523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Elev</cp:lastModifiedBy>
  <dcterms:modified xsi:type="dcterms:W3CDTF">2012-06-18T11:09:06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