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0083-3E3F-47BC-BA87-3BCA67DFF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A2CC-7E7D-4737-8BBA-B8023262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F08B-8310-4E09-A0A4-DC71DC5F5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E977-2B6C-47FE-8FF9-98F248CEC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2D9C-B166-4346-81A9-9EB43200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E723-299E-4D2B-9A1A-C2276CA9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0836-9FD4-46BB-A4AF-0DA4A39E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F4FE-8C23-406F-9E4C-CAF72770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47D7-BDF4-44EB-9BCF-599A850E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AF30-0237-4E23-8866-6CF945E2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3C89-A286-45D2-A829-7370D260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389E-6EC1-4E2E-8199-A1C7AA49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70FA-BAFA-4C2D-83D9-B1F3D50BA5FA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METODA BACKTRACKING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Informatică, clasa a X-a,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Livia Ţoca, Andreea-Ruxanda Demco, Cristian Opincaru, Adrian Sindi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 multe ori, în aplicaţii apar probleme în care se cere găsirea unor soluţii de forma x=x1x2…xn, unde xi</a:t>
            </a:r>
            <a:r>
              <a:rPr b="0" lang="ro-RO" sz="1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i, i=1,…,n, în care x1...xn trebuie să îndeplinească anumite condiţii. Am putea să generăm toate combinaţiile posibile de valori şi apoi să le alegem doar pe cele convenabi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siderând mulţimile Ai={ai,1, ai,2,…,ai,n(i)}, aceste combinaţii s-ar putea construi astfel: pentru fiecare valoare posibilă fixată pentru componenta xi, vom alege toate valorile posib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componenta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 şi pentru fiecare astfel de valoare fixată pentru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vom alege toate valorile posibile pentru componenta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zolvând problema în acest mod, deci generând toate elementele produsului cartezian A1xA2x..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 şi verificând abia apoi dacă fiecare combinaţie este o soluţie, eficienţa este scăzut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tfel, dacă de exemplu ne propunem să generăm toate cuvintele formate cu literele a, b, c, aşa încât fiecare literă să apară o singură dată, combinaţiile posibile sunt în număr de 27, dintre care convin doar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ica Backtracking propune generarea soluţiei prin completarea vectorului x în ordinea x1x2...xn şi are la bază un principiu „de bun simţ”: dacă se constată că având o combinaţie parţială de forma v1v2...vk-1 (unde v1, ..., vk-1 sunt valori deja fixate), dacă alegem pentru xk o valoare vk şi combinaţia rezultată nu ne permite să ajungem la o soluţie, se renunţă la această valoare şi se încearcă o alta (dintre cele netestate în această etapă). Într-adevăr, oricum am alege celelalte valori, dacă una nu corespunde nu putem avea o soluţi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1"/>
          <a:stretch/>
        </p:blipFill>
        <p:spPr>
          <a:xfrm>
            <a:off x="5364000" y="177336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erciţii şi proble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pentru nivelul k oarecare al vectorului soluţie am verificat toate valorile posibi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goritmul se înche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evine pe nivelul anteri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trece pe nivelul urmă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ce s-a găsit o valoare convenabilă pentru componenta k, următorul pas es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trece la componenta următoare, 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(dacă nu s-a ajuns la soluţie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ămâne la componenta k, căutând în continuare o altă valoare convenabil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evine la componenta k-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diţii se revine la componenta anterioar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ce am găsit o valoare convenabilă pentru componenta k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valoarea testată pentru componenta k nu convin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am testat toate valorile posibile pentru componenta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LiviaT</cp:lastModifiedBy>
  <dcterms:modified xsi:type="dcterms:W3CDTF">2012-03-14T13:41:32Z</dcterms:modified>
  <cp:revision>31</cp:revision>
  <dc:subject/>
  <dc:title>SALARIUL</dc:title>
</cp:coreProperties>
</file>