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94E4-169C-445D-89A7-6BFF71312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C9F4-E58C-4B72-8150-7A597168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AFE6-E12B-4C63-BDC6-D2169FE3B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2C26-41B2-4542-9797-6BD4A0470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E31B-6A7F-44E7-A495-43480D2D1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7428-91CC-41F7-AEA5-4DD4931E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592C-41B5-4A7D-8FBC-0357E8D8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3018-A182-4B2A-A25B-C715DA8F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6FA4-D4CF-46B1-A3BA-2E3709AE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A13A-5B72-4C9B-BCF4-4880851E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A78C-5C8A-4E9E-BDDF-FFFAD944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83BA-917E-4556-81A5-724BB358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7FBC-9BE3-40F4-B8F3-480E8B76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86F2-9268-460B-8AE7-6E36A155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3D7E-03E3-4A5C-9F04-ADE2790E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8D22-D67E-49AD-9882-70564618C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8440-5E15-4578-A0F6-C75FBDC9D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0E00-E0B0-424F-B352-C2BF5B86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22BC-8293-448A-AFDB-5E2155A3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7881-9CBF-42E6-9845-29817E60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75BC-8BCD-41A6-930B-0CD63115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8918-30EA-4C52-AF39-18D47888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7EF1-3FA6-4591-B7E9-14598DFE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6628-D0F5-4EA8-8010-6E3E8063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89C0-05CE-47F2-90B2-A0053700BA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19D5-3049-4566-91A0-D8394A794B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778040" y="3889080"/>
            <a:ext cx="6045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9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9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a pentr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>
            <a:grayscl/>
            <a:lum contrast="-6000"/>
          </a:blip>
          <a:stretch/>
        </p:blipFill>
        <p:spPr>
          <a:xfrm>
            <a:off x="5508720" y="155736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24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24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24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24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Elev</cp:lastModifiedBy>
  <dcterms:modified xsi:type="dcterms:W3CDTF">2012-06-19T11:14:28Z</dcterms:modified>
  <cp:revision>31</cp:revision>
  <dc:subject/>
  <dc:title>SALARIUL</dc:title>
</cp:coreProperties>
</file>