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F5F7-C267-4ABD-9C36-23C354F0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68D0-137D-4825-815D-3DC3ACC3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0E32-01AB-42DB-9873-5A808AEF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F442-187B-4F9B-9FF0-AB29167C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399A-AAED-47C3-A1DA-79F5529B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1B64-7C0C-461B-B65D-7C4289BE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499A-C475-40ED-88FD-81EBA83F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93E1-E86D-4456-8FD3-136D6BAF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B380-7E6B-4111-BE1E-BB7E0792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87F0-6CB8-4219-9F51-C17F151F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3A68-4E04-4304-9C81-40AB0992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CCAD-A376-4F68-AF2D-A7B2803F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C7B5-4BE6-47A9-A6BB-32499319D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867280" y="1828800"/>
            <a:ext cx="132408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Sesiunea iunie-iuli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15b2</cp:lastModifiedBy>
  <dcterms:modified xsi:type="dcterms:W3CDTF">2012-06-18T11:05:4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