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4CE-163C-4EF4-85B3-26E54033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68F-7705-4221-A398-899EE9B4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1E9-4D34-4B43-8BF6-36E70D47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D51-F79F-4894-BE2E-E4B0FEB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358-9488-44F3-915A-4C6CA2A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F91-6185-4303-9340-269D0DF5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C88-C044-4486-BFB8-163D498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7B0-8167-487A-9CB5-08FD2B0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144-8BD0-47AB-B9AF-D1DA941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978-8C75-4BC9-8394-3C9E0BB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4AE-AC30-4F49-B8C1-CC4CD1B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1DE-771C-4911-A7D7-F04BAA98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C1D-BEBE-4569-831F-F2410169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editare) şi memorat într-un fişier sursă cu extensia pas pentru limbajul Pascal (exemplu: program1.cpp) sau extensia cpp pentru limbajul C/C++ (exemplu: program1.cpp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compilator prin compilare. Compilatorul realizează și verificarea sintactică a programului, semnalând erorile detect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rectarea erorilor se face prin editare, de la tastatură, fiind urmată de o nouă compilare. Când textul programului nu mai conţine nicio eroare, compilatorul generează un fişier obiect cu extensia obj (exemplu: program1.obj). Fişierul obiect este executat prin comanda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mediile de program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 fişier text este format dintr-o succesiune de caractere ASCII scrise pe una sau mai multe linii (rânduri), pe memorie externă (disc). Sfârşitul fişierului este marcat de o etichetă specială: EOF (End Of File). Prelucrarea unui fişier se face prin mai multe operaţii: deschidere (pentru citire sau scriere), citire, scriere, închide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n+m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A din primele n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B din următoarele m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x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R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A și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1,n2, respectiv n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6:24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