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343C-36F3-45BA-8F85-823F587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912B-60AE-4D93-A43C-085D247B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7FAB-1A74-4558-8003-AB02A0CB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7DED-3BF5-4CD3-B54E-AB6584B3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3BE5-90C9-4052-89B8-E26E21AF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B77-3748-4BFC-9968-2E9FB78E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F679-31ED-4853-963E-B54EDE3C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FF01-3652-49DD-AB9B-068CD33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6041-4903-4D02-81F7-252E4C2E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C7A-AA8B-45B4-807C-81B0837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FBFE-B127-4884-9886-EFAF545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070A-3865-42C4-9FE0-CFD31F71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DF9E-9801-4FFD-9FD3-822AA78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3E89-777E-4372-8FC7-4A0AEA2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0A2-C9FD-40FE-9A55-A02F919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829A-0D9F-4055-A778-B6245FDA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9913-DAEF-4D68-B533-36F5B17B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CF26-FE9E-46A0-A862-8D48EED1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45CB-CBEB-478E-89CF-27D019D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0A3E-E903-4BC6-8202-1246CE7F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3758-4112-463C-8BC1-EF0563E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0425-9808-48BF-AF6B-D632EE8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12AA-D7D3-4812-BC1E-C6323A4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5758-B7CE-4A6A-A4E9-BA213B5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794-0D3E-4AD9-BD1F-C81C65AFAF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9CE1-A5CD-41D8-96A7-82CF06138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fdef6"/>
                </a:solidFill>
                <a:latin typeface="Arial"/>
              </a:rPr>
              <a:t>APARIŢIA ŞI RĂSPÂNDIREA CREŞTINISMULUI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90720" y="3890520"/>
            <a:ext cx="678168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rcRect l="0" t="53063" r="0" b="0"/>
          <a:stretch/>
        </p:blipFill>
        <p:spPr>
          <a:xfrm>
            <a:off x="5181480" y="3368520"/>
            <a:ext cx="1435320" cy="67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ica</cp:lastModifiedBy>
  <dcterms:modified xsi:type="dcterms:W3CDTF">2012-06-19T10:59:5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