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093C5-B131-4D23-A3F9-972AD1F6F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15E08-A828-4101-A5AE-2E1991F58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F2037-095C-4937-98CB-B25A7DB4A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9B7FC-FC76-4729-800A-71AADE674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8143-D984-4295-9DA9-81039AEA8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83E9A-8A75-4CA5-9286-E6111B8B1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46B34-4757-4E6E-9933-4C6B14D7D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2B116-583D-4AD1-B8FD-D137B8043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6D44D-24CD-41BF-963E-CF93CD62B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832BD-9DB5-4AC8-B0D1-99BF655FA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056C2-876C-4C71-B46C-BC5C9AF8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0C9C-5DF1-4083-9D3F-CFFC8EA23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6951-1769-4E08-8BED-FA3DFE84C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19520" y="1219320"/>
            <a:ext cx="34574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siunea iunie - iulie</a:t>
            </a:r>
            <a:endParaRPr b="0" lang="en-US" sz="24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7a3</cp:lastModifiedBy>
  <dcterms:modified xsi:type="dcterms:W3CDTF">2012-06-10T05:14:4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