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691ED-7E5C-4E3A-84AE-6B5E4B7CB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C00DC-01A8-4F88-81FF-651D9904A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15B23-4B00-4FDE-9247-B90AE70E4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36327-B8A9-46BD-92E3-7DF78014B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38070-764B-4761-A39C-A49A999FB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63DB8-8EEA-4808-AD04-204EF15D8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6955B-61D5-4094-9A6D-D26E46095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E0419-B47A-4FF3-B0CC-3B680B91D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C61D7-B46B-4B33-8406-60842C9BD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E5B44-5270-4B06-926A-A3FC86CEB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9526A-4BDC-4A12-9DEE-BE63D34E1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5ACE7-9E10-49B6-8044-6CA07CA49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81AC-E2C2-471C-A51C-E2AC0814A3F4}"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IMAGINEA DE SINE ŞI DE ALTUL: ROLUL LOR ÎN DINAMICA PERSONALITĂŢII</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ro-RO" sz="1000" spc="-1" strike="noStrike">
                <a:solidFill>
                  <a:srgbClr val="000000"/>
                </a:solidFill>
                <a:latin typeface="Arial"/>
              </a:rPr>
              <a:t>Adaptat după </a:t>
            </a:r>
            <a:r>
              <a:rPr b="0" i="1" lang="ro-RO" sz="1000" spc="-1" strike="noStrike">
                <a:solidFill>
                  <a:srgbClr val="000000"/>
                </a:solidFill>
                <a:latin typeface="Arial"/>
              </a:rPr>
              <a:t>Manualul de Psihologie, clasa a X-a, </a:t>
            </a:r>
            <a:r>
              <a:rPr b="0" lang="ro-RO" sz="1000" spc="-1" strike="noStrike">
                <a:solidFill>
                  <a:srgbClr val="000000"/>
                </a:solidFill>
                <a:latin typeface="Arial"/>
              </a:rPr>
              <a:t>coordonator Mielu Zlate</a:t>
            </a:r>
            <a:r>
              <a:rPr b="0" lang="it-IT"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461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1197000"/>
            <a:ext cx="4824360" cy="54720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 văzut că viaţa psihică umană înţeleasă ca sistem se caracterizează prin capacitatea de a întreţine relaţii informaţionale atât cu lumea, cât şi cu sine şi, astfel, îşi dezvoltă în interacţiune permanentă o conştiinţă a lumii şi o conştiinţă de sine. Aceasta din urmă se focalizează pe Eu şi pe manifestările sal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strânsă interdependenţă cu dezvoltarea şi funcţionarea sistemului psihic uman şi a nucleului său stabil – personalitatea, se dezvoltă şi Eul. Eul este nucleul integrativ, de coordonare şi autoreglare a personalităţi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îndeplineşte funcţii de integrare şi coordonare nu numai în planul relaţiilor cu ambianţa, ci şi în raport cu sine. Aceste funcţii ale Eului se dezvoltă treptat. În jurul a doi ani şi jumătate, trei ani se achiziţionează o adevărată experienţă a afirmării Eului în înfruntarea cu cerinţele adultului şi în modelarea răspunsurilor copilului. Astfel, el începe să reacţioneze invers decât vor părinţii şi parcă îi sfidează dinadins: plânge să i se dea un obiect şi apoi după ce îl primeşte îl aruncă (P. Osterrieth). Copilul vrea să acţioneze singur, să facă ceva singur sau să nu manifeste un anumit comportament. El spune mereu „eu, eu” sau „eu singur” (H. Wallon).</a:t>
            </a:r>
            <a:r>
              <a:rPr b="0" lang="en-US" sz="1200" spc="-1" strike="noStrike">
                <a:solidFill>
                  <a:srgbClr val="000000"/>
                </a:solidFill>
                <a:latin typeface="Arial"/>
              </a:rPr>
              <a:t>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a:t>
            </a:r>
            <a:r>
              <a:rPr b="0" lang="ro-RO" sz="1200" spc="-1" strike="noStrike">
                <a:solidFill>
                  <a:srgbClr val="000000"/>
                </a:solidFill>
                <a:latin typeface="Arial"/>
              </a:rPr>
              <a:t>ştiinţa de sine şi apoi cunoaşterea de sine, desfăşurându-se pe lungi perioade de timp, conduc la cristalizarea imaginii de sine care poate fi definită astfel:</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maginea de sine este unificarea într-o totalitate a rezultatelor autocunoaşterii, a relaţionării cu alţii şi a trăirii evenimentelor autobiografice semnificative care au relevat calităţile şi defectele pe care le are fiecare cu privire la Eul fizic sau material, Eul spiritual şi cel social.</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 name="Rectangle 1"/>
          <p:cNvSpPr/>
          <p:nvPr/>
        </p:nvSpPr>
        <p:spPr>
          <a:xfrm>
            <a:off x="179280" y="405360"/>
            <a:ext cx="8461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46" name="Picture 9" descr="comp_i"/>
          <p:cNvPicPr/>
          <p:nvPr/>
        </p:nvPicPr>
        <p:blipFill>
          <a:blip r:embed="rId1"/>
          <a:stretch/>
        </p:blipFill>
        <p:spPr>
          <a:xfrm>
            <a:off x="5796000" y="2276640"/>
            <a:ext cx="2581200" cy="258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341000"/>
            <a:ext cx="8229600" cy="47847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fizic se referă la particularităţi cum ar fi:</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ipul somatic;</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laţia dintre statură şi greutat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loarea părului şi a ochilor;</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rticularităţi fizionomice</a:t>
            </a:r>
            <a:r>
              <a:rPr b="0" lang="en-GB" sz="1200" spc="-1" strike="noStrike">
                <a:solidFill>
                  <a:srgbClr val="000000"/>
                </a:solidFill>
                <a:latin typeface="Arial"/>
              </a:rPr>
              <a:t>,</a:t>
            </a:r>
            <a:r>
              <a:rPr b="0" lang="ro-RO" sz="1200" spc="-1" strike="noStrike">
                <a:solidFill>
                  <a:srgbClr val="000000"/>
                </a:solidFill>
                <a:latin typeface="Arial"/>
              </a:rPr>
              <a:t> etc. </a:t>
            </a:r>
            <a:r>
              <a:rPr b="0" lang="en-US"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spiritual se referă la</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alori, dorinţe, aspiraţii;</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suşiri caracteriale şi temperamental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şi talent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itudini şi concepţii. </a:t>
            </a:r>
            <a:r>
              <a:rPr b="0" lang="en-US"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social cuprinde acele calităţi care se dezvoltă în contextul relaţiilor şi activităţilor cu alţii, cum ar fi</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ocul ocupat în grupul clasei sau în cel al prietenilor;</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utaţia şi preţuirea celorlalţi;</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umarea şi realizarea statutului şi rolurilor etc.</a:t>
            </a:r>
            <a:endParaRPr b="0" lang="en-US" sz="1200" spc="-1" strike="noStrike">
              <a:solidFill>
                <a:srgbClr val="000000"/>
              </a:solidFill>
              <a:latin typeface="Calibri"/>
            </a:endParaRPr>
          </a:p>
        </p:txBody>
      </p:sp>
      <p:sp>
        <p:nvSpPr>
          <p:cNvPr id="48" name="Rectangle 1"/>
          <p:cNvSpPr/>
          <p:nvPr/>
        </p:nvSpPr>
        <p:spPr>
          <a:xfrm>
            <a:off x="179280" y="405360"/>
            <a:ext cx="8461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5:53Z</dcterms:modified>
  <cp:revision>2</cp:revision>
  <dc:subject>CNEE</dc:subject>
  <dc:title>CNEE</dc:title>
</cp:coreProperties>
</file>