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FF8-BEB4-4D79-9CD0-13487A51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8F0B-8B71-454F-95C2-D237F31A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34C8-FA2C-41BF-AF02-AF4ECCFC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37D-DF58-41A8-9132-F0A67442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6D4-7A6C-490F-B126-2F9307CA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559-C685-41FF-898C-263B4D5D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5426-C48E-44E6-BD68-1C8F344C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66A-2A1B-4B75-AD6D-0C84C891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A39-BCAF-4327-A6A8-660B65F4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1B5-A98F-4313-827C-B3ADC9BC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9CC-DC96-4198-8105-9745049E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180-D910-498B-B29B-4BE04503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34A8-51C3-45D0-AF85-A72D22DE2D4D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NEE</dc:creator>
  <dc:description/>
  <dc:language>en-US</dc:language>
  <cp:lastModifiedBy>Guest</cp:lastModifiedBy>
  <dcterms:modified xsi:type="dcterms:W3CDTF">2012-03-08T12:46:27Z</dcterms:modified>
  <cp:revision>2</cp:revision>
  <dc:subject>CNEE</dc:subject>
  <dc:title>CNEE</dc:title>
</cp:coreProperties>
</file>