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0B61-D974-42B0-B08F-78A2744B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0ED-41A4-4995-BB4D-91C0E0D7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78C-628A-4D76-BE2F-27A56394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72E-0ADA-44A2-9A22-369FE291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A75-65D5-4207-BD36-A7D8D83F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6FC-9F6F-4EFB-B3BE-D865473D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A7B-931C-4271-8BF8-82B922A6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F2D-22AB-44D4-9ED0-D22F4711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1F4-3F66-4E12-AE3C-DB5D34AC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2D72-046B-4811-A013-59A76472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DFC-3270-4305-8A02-C6BB8579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9EC-AFB9-443C-B45F-42ED2559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563B-A52F-4DCF-9B27-A5B3892B4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072040" y="2266920"/>
            <a:ext cx="1434960" cy="143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2</cp:lastModifiedBy>
  <dcterms:modified xsi:type="dcterms:W3CDTF">2012-06-19T11:33:47Z</dcterms:modified>
  <cp:revision>23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