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47F-B928-4609-B44B-1C688397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BB7-A52F-4274-B719-508C6579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674-E63E-445A-AB37-AA98E41B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C92-0D18-4869-96E7-C7A1E367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4B4-F5E7-44C4-B608-DF1B8470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E62-65AE-4DE3-9EF8-E25677D1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18D-151F-4892-90D5-C7A3171F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F96-1357-47ED-BB15-677789EF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158-E8F7-4436-AC55-F9622546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91C-8B9D-4138-8F55-27656684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6BC-EC54-4057-BB4E-D06AE5C4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1E5-2F6F-4433-BED5-3B365CD9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48E9-F170-4256-B341-3CFE40BC288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Guest</cp:lastModifiedBy>
  <dcterms:modified xsi:type="dcterms:W3CDTF">2012-06-15T12:33:30Z</dcterms:modified>
  <cp:revision>29</cp:revision>
  <dc:subject/>
  <dc:title>SALARIUL</dc:title>
</cp:coreProperties>
</file>