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624-AEE7-4EB9-B88D-505BFEF0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DBF-29D2-4C94-84D5-3700166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144-6F66-4B0E-8FB7-81BC6E31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917-A83A-48DE-B771-CCE3912C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4D3-4021-4342-9086-222B4334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C9D-BF19-44A4-A85B-6751F66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81A-24AF-420F-A4FE-8729B73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A3F-E220-49D1-8AC1-852D799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38B-C163-4626-B127-67EF9A4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A1B-E246-4008-A69B-C249964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FD3-1A00-415E-BCD3-898FA4D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D71-B7A0-4E90-930F-BF9C7E9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72C-6623-434C-B262-47B7C9D22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34:59Z</dcterms:modified>
  <cp:revision>29</cp:revision>
  <dc:subject/>
  <dc:title>SALARIUL</dc:title>
</cp:coreProperties>
</file>