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32798-0EE5-4CE4-BACD-FE019F778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6FCC1-46A2-4098-983B-4F126251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31641-B069-46DB-A4AA-5FC99172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4E365-2561-45A2-839C-902EA31CF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5988B-2C0A-45BF-A5B9-05499AA5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008D-CC67-4432-B002-6946838E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14632-8C31-47AE-B279-CA91632D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294A-8674-4C73-80F2-F8AA22C9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736C-1FB4-4BDD-87EB-46E2D6E7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60B3-26C3-423E-AAA2-2F8C1FE0C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5BF8-BBC2-491D-9CFD-E09F3584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15B9-3C4B-4F40-BC8A-93E151C1F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1A02-3868-4BCD-A319-98A5ED7F8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486240" y="3255840"/>
            <a:ext cx="21715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Sesiunea iunie - iulie</a:t>
            </a:r>
            <a:endParaRPr b="0" lang="en-US" sz="20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3312"/>
            </a:gs>
            <a:gs pos="100000">
              <a:srgbClr val="ffff00"/>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8</cp:lastModifiedBy>
  <dcterms:modified xsi:type="dcterms:W3CDTF">2005-12-05T03:36:07Z</dcterms:modified>
  <cp:revision>48</cp:revision>
  <dc:subject/>
  <dc:title>SALARIUL</dc:title>
</cp:coreProperties>
</file>