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A47BE-3AE0-46E2-9279-2B775805F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ABCF6-1954-4ABA-877B-54344F4C7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59120-CD04-488E-8E81-F6FD74A08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E5EE3-C4FD-4B33-A689-7A7132F60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967F8-37A8-4C41-A77E-47D71ADD6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0F483-5400-4B0E-BD2A-92FD0C4C1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1BD34-ACFD-44A0-85EB-E2FD31333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851F8-6170-4794-84CF-89EEC4426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987DD-FE9F-45DF-90B7-F6EB583C4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BBF3B-6931-4C0F-8A7B-C701E1427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AA858-29FD-4CE3-BA4E-8AAC80204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57CD8-D0CB-421D-8919-EFB733EC5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ABB8-F798-4D29-A5FD-1386C514D2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676520" y="4114800"/>
            <a:ext cx="716256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09680" y="1904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s29</cp:lastModifiedBy>
  <dcterms:modified xsi:type="dcterms:W3CDTF">2004-10-28T01:35:48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