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BF7-0FD7-45BC-A21F-572C68BF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467-EB85-4F46-8B01-C0E599DA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174-7DE8-47DA-B781-718431FD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9BF-A5A5-4B73-85E0-1D5F4357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73B-A2A2-4E9C-8A71-374AB7AC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2EE-802D-4CC4-BFEB-4A0ED09E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756-0B33-4EFF-BCE6-E16318F2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792-B434-4905-ACBA-327BE79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F4D-A9EC-48DB-8A2F-DAA867D8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896-2F4B-4E7B-8AAE-DA4964C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603-0FB8-4753-B32A-533EE55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AAC-C9B4-482E-97BE-1C23C19B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15CB-E6FF-4F3D-BBC6-BE453C1F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spberry" TargetMode="External"/><Relationship Id="rId2" Type="http://schemas.openxmlformats.org/officeDocument/2006/relationships/hyperlink" Target="http://en.wikipedia.org/wiki/Rubus" TargetMode="External"/><Relationship Id="rId3" Type="http://schemas.openxmlformats.org/officeDocument/2006/relationships/hyperlink" Target="http://en.wikipedia.org/wiki/Europe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ed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; occasionally as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uropean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rambois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or simply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is a red-fruited species of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native to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urop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northern Asia and commonly cultivated in other temperate regions.[1][2] A closely related plant in North America, sometimes regarded as the variet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var.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is more commonly treated as a distinct species,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American Red Raspberry), as is done here.[3] Red-fruited cultivated raspberries, even in North America, are generall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or horticultural derivatives of hybrids of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strigosus;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these plants are all addressed in the present art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0:50Z</dcterms:created>
  <dc:creator>Elev</dc:creator>
  <dc:description/>
  <dc:language>en-US</dc:language>
  <cp:lastModifiedBy>Elev</cp:lastModifiedBy>
  <dcterms:modified xsi:type="dcterms:W3CDTF">2012-06-18T10:3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