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7EA3E-B5AA-4893-8D4C-CD7D59240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0391-F2B6-4636-A388-4FC7475FA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3A7F1-1B44-4652-8A0A-A55C448D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33B2A-C6A4-4A39-9F1E-65299EC3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7AA5-7BB5-456D-AD2F-30F9B07A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C088-6852-4BE4-81B6-ACFB1055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9E1D-C3C7-44B8-8BF8-E829A0D3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94D3-75FF-47E5-964E-FD8C32819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3923-EAA0-4A44-8E92-379BB0AB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75E1-1FDB-492A-993B-75B4259DF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3080-DF6F-4C6E-9D7C-25613804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7142-5D79-4CF3-8A90-16422E04E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A780-9EE0-4F30-B2DC-F183FDD36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3886200"/>
            <a:ext cx="8153280" cy="1752480"/>
          </a:xfrm>
          <a:prstGeom prst="rect">
            <a:avLst/>
          </a:prstGeom>
          <a:noFill/>
          <a:ln w="0">
            <a:noFill/>
          </a:ln>
        </p:spPr>
        <p: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2814480" y="3116160"/>
            <a:ext cx="351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371240"/>
            <a:ext cx="4267080" cy="4419720"/>
          </a:xfrm>
          <a:prstGeom prst="rect">
            <a:avLst/>
          </a:prstGeom>
          <a:noFill/>
          <a:ln w="0">
            <a:noFill/>
          </a:ln>
          <a:effectLst>
            <a:outerShdw dist="107932" dir="13500000" blurRad="0" rotWithShape="0">
              <a:srgbClr val="808080">
                <a:alpha val="50000"/>
              </a:srgbClr>
            </a:outerShdw>
          </a:effectLst>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3a3</cp:lastModifiedBy>
  <dcterms:modified xsi:type="dcterms:W3CDTF">2012-06-18T11:02: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