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42539-2CBB-4E1B-B31F-6D9C1A40B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33B3A-705B-450B-BF20-10211FA59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16C74D-BC04-4A39-84B9-86A37B57AE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8B12A5-CC8E-4956-A2B4-4D14A8490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9396C3-D4A5-4A73-9474-6FED52DC95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239871-615E-4332-97B6-D23FA7812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BEF1C9-EAA2-42C4-8C27-6C39704286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651C7A-E574-41D3-8114-9A0175539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5828DD-1236-4535-A82C-289582583F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02995D-9D0F-4639-A27D-C1588CF91B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190DF-30E5-4338-B575-7401E5AA7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2A5C6-CD85-4CCF-BB02-46FD1B876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F8F2E-4F67-4050-AA26-AE24296EE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1222B-E95F-4B9D-9C10-F838832B1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5F78C9-ED9D-4217-8DFF-F5163D8979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787537-CF3D-4849-9EDD-C5AE1F422D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DAE23A-A0AE-415C-95B3-681794A067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93458-6B2D-48CF-A769-262C3ADAF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72A21-A896-4A46-89CA-BBF0BC391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BFD3E-C393-4AF2-B894-706DB39C6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181E2-164A-460E-932B-A3D2CF7AC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2EFF6-0B53-4385-A3E2-6DDC4FF51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5F541-39E2-41DB-AA86-0EFD3FC9D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E44B1-A67E-4B93-B245-ACA48CBBB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67DFA-F8CC-48FD-B06D-AA62F4F27BD8}"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3281A-AC3B-41AC-8D3E-F6EFAF0E0471}"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SIMFONIA</a:t>
            </a:r>
            <a:r>
              <a:rPr b="0" lang="en-US" sz="1800" spc="-1" strike="noStrike">
                <a:solidFill>
                  <a:srgbClr val="feec94"/>
                </a:solidFill>
                <a:latin typeface="Arial"/>
              </a:rPr>
              <a:t> </a:t>
            </a:r>
            <a:endParaRPr b="1" lang="en-US" sz="1800" spc="-1" strike="noStrike">
              <a:solidFill>
                <a:srgbClr val="feec94"/>
              </a:solidFill>
              <a:latin typeface="Times New Roman"/>
            </a:endParaRPr>
          </a:p>
        </p:txBody>
      </p:sp>
      <p:sp>
        <p:nvSpPr>
          <p:cNvPr id="120" name="PlaceHolder 2"/>
          <p:cNvSpPr>
            <a:spLocks noGrp="1"/>
          </p:cNvSpPr>
          <p:nvPr>
            <p:ph type="subTitle"/>
          </p:nvPr>
        </p:nvSpPr>
        <p:spPr>
          <a:xfrm>
            <a:off x="1371600" y="388728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ffffff"/>
                </a:solidFill>
                <a:latin typeface="Arial"/>
              </a:rPr>
              <a:t>)</a:t>
            </a:r>
            <a:endParaRPr b="0" lang="en-US" sz="1000" spc="-1" strike="noStrike">
              <a:solidFill>
                <a:srgbClr val="ffffff"/>
              </a:solidFill>
              <a:latin typeface="Times New Roman"/>
            </a:endParaRPr>
          </a:p>
        </p:txBody>
      </p:sp>
      <p:sp>
        <p:nvSpPr>
          <p:cNvPr id="121"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ffffff"/>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ffffff"/>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ffffff"/>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ffffff"/>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ffffff"/>
              </a:solidFill>
              <a:latin typeface="Times New Roman"/>
            </a:endParaRPr>
          </a:p>
        </p:txBody>
      </p:sp>
      <p:sp>
        <p:nvSpPr>
          <p:cNvPr id="123"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124" name="Picture 10" descr=""/>
          <p:cNvPicPr/>
          <p:nvPr/>
        </p:nvPicPr>
        <p:blipFill>
          <a:blip r:embed="rId1">
            <a:grayscl/>
            <a:lum contrast="-18000"/>
          </a:blip>
          <a:stretch/>
        </p:blipFill>
        <p:spPr>
          <a:xfrm>
            <a:off x="5219640" y="907920"/>
            <a:ext cx="1440000" cy="144000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ffffff"/>
                </a:solidFill>
                <a:latin typeface="Arial"/>
              </a:rPr>
              <a:t> </a:t>
            </a:r>
            <a:endParaRPr b="0" lang="en-US" sz="1200" spc="-1" strike="noStrike">
              <a:solidFill>
                <a:srgbClr val="ffffff"/>
              </a:solidFill>
              <a:latin typeface="Times New Roman"/>
            </a:endParaRPr>
          </a:p>
          <a:p>
            <a:pPr marL="609480" indent="-609480" algn="just">
              <a:lnSpc>
                <a:spcPct val="100000"/>
              </a:lnSpc>
              <a:spcBef>
                <a:spcPts val="30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ffffff"/>
                </a:solidFill>
                <a:latin typeface="Arial"/>
              </a:rPr>
              <a:t> </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R. Schumann, J. Sibelius, H. Berlioz, A. Dvorak, G. Mahler, I. Stravinski;</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francez, ceh, austriac, rus, finlandez, german.</a:t>
            </a:r>
            <a:endParaRPr b="0" lang="en-US" sz="1200" spc="-1" strike="noStrike">
              <a:solidFill>
                <a:srgbClr val="ffffff"/>
              </a:solidFill>
              <a:latin typeface="Times New Roman"/>
            </a:endParaRPr>
          </a:p>
          <a:p>
            <a:pPr marL="609480" indent="-609480" algn="just">
              <a:lnSpc>
                <a:spcPct val="100000"/>
              </a:lnSpc>
              <a:spcBef>
                <a:spcPts val="30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ranscrieţi următoarele numere şi scrieţi în dreptul fiecăruia numele compozitorului care a scris:</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4 simfonii;</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5 simfonii;</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11 simfonii;</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9 simfonii;</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7 simfonii;</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6 simfonii.</a:t>
            </a:r>
            <a:endParaRPr b="0" lang="en-US" sz="1200" spc="-1" strike="noStrike">
              <a:solidFill>
                <a:srgbClr val="ffffff"/>
              </a:solidFill>
              <a:latin typeface="Times New Roman"/>
            </a:endParaRPr>
          </a:p>
          <a:p>
            <a:pPr marL="609480" indent="-609480" algn="just">
              <a:lnSpc>
                <a:spcPct val="100000"/>
              </a:lnSpc>
              <a:spcBef>
                <a:spcPts val="30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Copiaţi pe caiete şi completaţi grila următoare:</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Simfonia _ _ _ _ _ S _ _ _ _ de Berlioz;</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Compozitor francez (Hector _ _ _ _ I _ _);</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În Romantism, numărul părţilor se _ _ _ _ F _ _ _;</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Simfonie cu _ _ O _ _ _ _.</a:t>
            </a:r>
            <a:endParaRPr b="0" lang="en-US" sz="1200" spc="-1" strike="noStrike">
              <a:solidFill>
                <a:srgbClr val="ffffff"/>
              </a:solidFill>
              <a:latin typeface="Times New Roman"/>
            </a:endParaRPr>
          </a:p>
        </p:txBody>
      </p:sp>
      <p:sp>
        <p:nvSpPr>
          <p:cNvPr id="126"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p:txBody>
      </p:sp>
    </p:spTree>
  </p:cSld>
  <p:transition spd="med">
    <p:cover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Elev</cp:lastModifiedBy>
  <dcterms:modified xsi:type="dcterms:W3CDTF">2012-06-19T10:57:28Z</dcterms:modified>
  <cp:revision>47</cp:revision>
  <dc:subject/>
  <dc:title>SALARIUL</dc:title>
</cp:coreProperties>
</file>