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37E8-1F24-4A05-8814-2E9CA10D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54F1-E6BF-4AF3-80F5-D9D1C2AA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AA39-C749-40EF-93C8-EAA697BF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39FA-47F9-4C22-95BC-F848771F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FCA7-2E50-4527-A66C-6E097494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D6DB-C868-49BF-B9F1-0BA42C3B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74B6-991E-4C56-88FB-F4ED87E1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6818-04A3-4A84-BF84-8CFC63A9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4060-07D7-48E8-93AB-4F8D2542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08D6-204F-42BF-853D-54E2A806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76DB-E175-4EB0-A008-95FF19C6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6F74-2221-4C7A-B462-95F0F65A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FC7F-0E0A-4C66-B506-A54923D10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VEST ŞI DE SUD-V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Geograf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57400" y="1828800"/>
            <a:ext cx="5181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Sesiunea iunie - 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 advTm="5000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eastă regiu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grafi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 se află în partea de vest a continentului, la contactul cu Europa şi Africa. Are, în cea mai mare parte, limite marine, cele terestre fiind prezente numai în est, unde se învecinează cu Asia de Sud, şi pe o mică porţiune în nord, unde se întinde lanţul muntos Caucaz, care constituie graniţa dintre Asia şi Europa. Deşi deţine numai o şeptime din suprafaţa Asiei şi mai puţin de o zecime din populaţia acesteia, Asia de Vest şi de Sud-Vest concentrează peste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ime din ţările continentului.Totodată este regiunea din Asia cu cea mai mare varietate de populaţii: arabi, persani şi turci – care formează majoritatea, evrei, armeni, greci, azeri, georgieni ş.a. Armenii, evreii şi grecii sunt printre cele mai vechi popoare ale lumi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Vest şi de Sud-Vest este cea mai bogată regiune din lume în petrol şi gaz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 dezvoltare economică, ţările de aici au niveluri dife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, Asia de Vest şi de Sud–Vest este o regiune de platouri vechi, constând din: două peninsule, Arabia şi Asia Mică, ocupate de platouri înconjurate de munţi; Podişul Iranian, desfăşurat la est de Golful Persic; o câmpie joasă şi fertilă, Câmpia Mesopotamiei.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âmpia Mesopotamiei este singura câmpie mai întinsă din Asia de Vest şi de Sud–Vest. Este foarte fertilă, datorită celor două fluvii car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limitează: Tigru şi Eufrat. Fertilitatea ei a favorizat încă din vechime dezvoltarea unor mari civilizaţii: sumeriană, akkadiană, babilonian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comp_i"/>
          <p:cNvPicPr/>
          <p:nvPr/>
        </p:nvPicPr>
        <p:blipFill>
          <a:blip r:embed="rId1"/>
          <a:stretch/>
        </p:blipFill>
        <p:spPr>
          <a:xfrm>
            <a:off x="5638680" y="198108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ificarea ţărilor Asiei de Vest şi de Sud-V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Apropi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rcia, capitala: 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pru, capitala: Nico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ria, capitala: Dama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ban, capitala: Beir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srael, capitala: Ierusal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rdania, capitala: Amma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Mijloci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abia Saudită, capitala: Riy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Yemen, capitala: S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’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an, capitala: Mu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miratele Arabe Unite, capital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bu Dha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Qatar, capitala: Do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ahrain, capitala: Mana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te ţ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menia, capitala: Erev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orgia, capitala: Tbil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erbaijan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pital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Ba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admin2</cp:lastModifiedBy>
  <dcterms:modified xsi:type="dcterms:W3CDTF">2012-06-18T10:52:21Z</dcterms:modified>
  <cp:revision>38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