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5F422-8400-4FCA-9C9F-85C3CBAE0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F2E9E-1B3C-40EA-A565-D155A9119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CA4CE-2F6C-4192-BB19-53FA461D3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DB2C7-5E0D-4815-9536-89BBD6764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FE9FB-25C8-45F3-9A0C-C51A829DC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DB60F-206F-487B-8011-F72B6BEAA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6AC7C-755D-4F2D-A1C7-4DE3289ED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FC424-A5D5-4AB3-BAD4-8E82727B1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7C481-9FD6-4693-A258-BBBF035E2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6CE4E-9E6F-4EE3-B9A7-DFE39140C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865AF-AACC-4716-BCF0-70E94C953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9E36C-2591-4D0A-8559-40D2E0E1B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E86E3-5504-4EF7-9A5B-1FDE72526D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213372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pic>
        <p:nvPicPr>
          <p:cNvPr id="45" name="Picture 8" descr="comp_i"/>
          <p:cNvPicPr/>
          <p:nvPr/>
        </p:nvPicPr>
        <p:blipFill>
          <a:blip r:embed="rId1"/>
          <a:stretch/>
        </p:blipFill>
        <p:spPr>
          <a:xfrm>
            <a:off x="152280" y="3124080"/>
            <a:ext cx="3067200" cy="3067200"/>
          </a:xfrm>
          <a:prstGeom prst="rect">
            <a:avLst/>
          </a:prstGeom>
          <a:ln w="0">
            <a:noFill/>
          </a:ln>
        </p:spPr>
      </p:pic>
    </p:spTree>
  </p:cSld>
  <p:transition spd="slow" advTm="5000">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8" name="Picture 8" descr="comp_i"/>
          <p:cNvPicPr/>
          <p:nvPr/>
        </p:nvPicPr>
        <p:blipFill>
          <a:blip r:embed="rId1"/>
          <a:stretch/>
        </p:blipFill>
        <p:spPr>
          <a:xfrm>
            <a:off x="5715000" y="1600200"/>
            <a:ext cx="3067200" cy="3067200"/>
          </a:xfrm>
          <a:prstGeom prst="rect">
            <a:avLst/>
          </a:prstGeom>
          <a:ln w="0">
            <a:noFill/>
          </a:ln>
        </p:spPr>
      </p:pic>
    </p:spTree>
  </p:cSld>
  <p:transition spd="slow" advTm="5000">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50" name="Text Box 7"/>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zentăm mai jos câteva exemple de itemi din unele teste de inteligenţă.</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re este numărul care lipseşte din al treilea şir </a:t>
            </a:r>
            <a:r>
              <a:rPr b="0" lang="en-GB"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p:transition spd="slow" advTm="5000">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s11b2</cp:lastModifiedBy>
  <dcterms:modified xsi:type="dcterms:W3CDTF">2012-06-18T11:00:37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