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40DDC-4F94-435E-ADC4-442731F6A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C3106-E988-4B62-8AB2-C5FD4F91E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7C148-985E-40DA-BA2E-4DE06DDEB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6E68C-8EBB-4278-8905-0944D91BB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71633-5B93-4F49-BE84-738ACF989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04470-7351-4FB8-9383-D8FEFF24A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A71C0-D863-4946-BC16-431711E0F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BF095-E8E7-410C-977B-BC2E78046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F7AF8-1262-47C3-9AB2-505E11B91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9ED7B-C0F3-4F99-948B-A54672431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42046-846C-4A5C-8FE2-CE3B481E1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C78B4-BAC8-4F4C-B98A-57081E456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465E3-B90D-496F-A49A-A2F0565EF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D0A68-5C81-4751-B6EA-F2E37DE4D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983B0-D4A2-4CC0-81A7-DAEA2BE8D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505BC-41FE-4547-8136-04288811C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0C0C9-A573-4795-8C43-E8F484AAD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54A1EF-7818-402E-A3E0-DADC6C1B0F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2BBFB-A84B-408C-A7B6-366DAED12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EEF5CE-9917-45C7-B7A1-9B2AC5C69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FF3EE-5C12-4517-A541-79EC97FC9F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8C6275-A551-4C33-BD8E-A0AB8D4EC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E0E1B-76EE-4B48-A8A3-5727A4566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92B07-8026-4165-8C79-974BA4E94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EA8BE1-8849-42D4-BE05-B4930AA47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CDBA1-6D85-4ED0-B1CC-82A046454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2B0C9-BBB6-4A6A-A03E-33244670D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9842F7-EC86-4B03-B307-E0D7432BA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AD17EA-2B9D-4ED7-91C3-D1B782DE7B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446716-5883-4D21-9D8A-8B9F79106A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06D1A-6F44-4EF5-87AE-9A0682383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70F2E-4CE7-4488-A363-E289CBB19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A2860-FAA0-4752-BB61-422105BDB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34FFA-B228-483B-A57F-A26BF758A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B9F60-15CE-42F7-8605-6412807C8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DC018-B2AA-4F63-9ECB-40BB7C344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F1F5-74FB-4316-9C2A-4924761A02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41" name=""/>
          <p:cNvGrpSpPr/>
          <p:nvPr/>
        </p:nvGrpSpPr>
        <p:grpSpPr>
          <a:xfrm>
            <a:off x="0" y="0"/>
            <a:ext cx="9140760" cy="6851520"/>
            <a:chOff x="0" y="0"/>
            <a:chExt cx="9140760" cy="6851520"/>
          </a:xfrm>
        </p:grpSpPr>
        <p:sp>
          <p:nvSpPr>
            <p:cNvPr id="4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 name=""/>
            <p:cNvGrpSpPr/>
            <p:nvPr/>
          </p:nvGrpSpPr>
          <p:grpSpPr>
            <a:xfrm>
              <a:off x="304920" y="3625920"/>
              <a:ext cx="1990440" cy="1465200"/>
              <a:chOff x="304920" y="3625920"/>
              <a:chExt cx="1990440" cy="1465200"/>
            </a:xfrm>
          </p:grpSpPr>
          <p:sp>
            <p:nvSpPr>
              <p:cNvPr id="5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2"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Arial"/>
            </a:endParaRPr>
          </a:p>
        </p:txBody>
      </p:sp>
      <p:sp>
        <p:nvSpPr>
          <p:cNvPr id="8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84"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BBBA-DCD7-411F-9DB5-605C7523C135}"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21" name=""/>
          <p:cNvGrpSpPr/>
          <p:nvPr/>
        </p:nvGrpSpPr>
        <p:grpSpPr>
          <a:xfrm>
            <a:off x="0" y="0"/>
            <a:ext cx="9140760" cy="6851520"/>
            <a:chOff x="0" y="0"/>
            <a:chExt cx="9140760" cy="6851520"/>
          </a:xfrm>
        </p:grpSpPr>
        <p:sp>
          <p:nvSpPr>
            <p:cNvPr id="12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4" name=""/>
            <p:cNvGrpSpPr/>
            <p:nvPr/>
          </p:nvGrpSpPr>
          <p:grpSpPr>
            <a:xfrm>
              <a:off x="304920" y="3625920"/>
              <a:ext cx="1990440" cy="1465200"/>
              <a:chOff x="304920" y="3625920"/>
              <a:chExt cx="1990440" cy="1465200"/>
            </a:xfrm>
          </p:grpSpPr>
          <p:sp>
            <p:nvSpPr>
              <p:cNvPr id="13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Arial"/>
            </a:endParaRPr>
          </a:p>
        </p:txBody>
      </p:sp>
      <p:sp>
        <p:nvSpPr>
          <p:cNvPr id="16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6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7792-AB5F-48AE-99D9-19641405B4AE}"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201"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202"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20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20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06"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68360" y="83664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ofica</cp:lastModifiedBy>
  <dcterms:modified xsi:type="dcterms:W3CDTF">2012-06-18T11:10:13Z</dcterms:modified>
  <cp:revision>47</cp:revision>
  <dc:subject/>
  <dc:title>SALARIUL</dc:title>
</cp:coreProperties>
</file>