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A00BB-8E74-478F-B365-5C51A1F5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7F255-C5A0-486A-9B25-76F3F390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C13EC-3D32-40C6-A8BA-328472923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AF5D8-8359-40D5-A30D-67B93E7CB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AC9EE-2518-435A-965F-552FA9BDE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8543-54E8-472A-836D-44B2B5FC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6421-887C-4DB4-B6AB-10A4C225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BA14-6C98-45C4-A2BA-EF68EFA21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5022-90C1-4667-A144-D826D2C89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0BB8-921E-42BF-BA29-9F20BF09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3A77-8CFB-4F34-BBA9-6C52B9B8A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160F-9888-4039-9BCB-5E4A40E76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C505-E13C-4C4B-A346-5FEB47E043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905120" y="45720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esiunea iunie - iuli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advTm="5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spd="med" advTm="5000">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ws19</cp:lastModifiedBy>
  <dcterms:modified xsi:type="dcterms:W3CDTF">2012-06-18T11:04: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