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DE1C3-8960-4E70-A2A9-65683D7F0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9D532-7EAB-460F-80AB-9D8EC116B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BCE2C-9766-4FE2-B9A1-CE86736E9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FF985-3404-46AD-AFDA-81875256D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734FF-118C-4911-B8C8-03739E153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99420-4292-49BE-AB9E-1DA993C8F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C65D3-8102-4D86-9159-D1E7234A7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2A5A2-DB59-4C67-8638-AFA04B273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55B6F-8DAF-42E0-A35F-938D98A88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82280-85E1-414C-A150-C67602B1C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94A00-1B2D-4329-912F-E12BA6818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66E69-1D7E-4073-836A-7079E8AF6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E4D2-B9CF-425D-A3F9-6AA6C368DD58}"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8" descr=""/>
          <p:cNvPicPr/>
          <p:nvPr/>
        </p:nvPicPr>
        <p:blipFill>
          <a:blip r:embed="rId1"/>
          <a:stretch/>
        </p:blipFill>
        <p:spPr>
          <a:xfrm>
            <a:off x="5292720" y="177336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34Z</dcterms:modified>
  <cp:revision>38</cp:revision>
  <dc:subject/>
  <dc:title>SALARIUL</dc:title>
</cp:coreProperties>
</file>