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604E-2B0D-495B-8DCB-FB7F6D69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4276-18F6-4C06-8C52-01C64774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534A-80EC-4501-857F-02CB61F3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E273-3CAB-42F9-BDC2-C453A0A6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4354-50D8-4BE3-907E-6E6F696B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F3B0-55F9-46AC-BD3B-AB5F8D4F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EE4D-2C2F-4960-8C0F-7B8DE9C1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1A09-794E-4ADE-95D0-2B46F4D6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20A-0DA1-495F-B004-00BFBADB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EA7C-D60F-4C04-BE68-866B972D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3E6D-8D3D-4E9B-848F-C3A2DAE6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4D6E-D8AA-4DB5-B9F7-8BBE5306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73E0-EF83-49AB-898D-65BED72FD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izii şi bazele sunt substanţe compuse anorganice sau organice implicate în multe procese naturale sau în reacţiile aplicate în laboratoarele de chimie şi în industria chimic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dicatorii acido-bazici sunt substanţe organi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 îşi schimbă structura şi, în consecinţă, culoarea, în funcţie de caracterul acid sau b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c al soluţ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oluţia apoasă diluată de acid clorhidric, concentraţia ionilor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mare, pentru că, practic, toate moleculele de acid clorhidric au ionizat la dizolvare. Acidul clorhidric este un acid tare. În aceste condiţii, mai multe molecule de turnesol şi-au schimbat structura şi culoarea roşie este mai intensă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şi alte teorii în chimie care definesc noţiunile de acid şi baz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ul 1880, Svante Arrhenius  a definit acizii ca substanţe compuse care, în soluţie apoasă, formează ioni hidrataţi de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rogen (H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aq)) şi bazele ca substanţe compuse care eliberează în soluţie ioni metalici (Me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ioni hidroxid (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 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bstanţe ca HCI,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,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OH sunt acizi Arrhenius, iar substanţe ca NaOH, Ca(OH)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KOH sunt baze Arrhen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p:transition advTm="4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8"/>
          <p:cNvSpPr/>
          <p:nvPr/>
        </p:nvSpPr>
        <p:spPr>
          <a:xfrm>
            <a:off x="533520" y="1066680"/>
            <a:ext cx="784836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licaț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 Compoziţia  procentuală de masă a unui oxoacid cu M=98 este:  2,04% H, 32,653% S,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306%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abiliţi formula moleculară a oxoacid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ecuaţiile reacţiilor de ionizare ce au loc la dizolvarea oxoacidului în ap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reciaţi tăria oxoacidului, ştiind că are constantele de aciditate :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,2*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. Metilamina (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este o bază slabă. În soluţia apoasă de metilamină,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. Acidul iodhidric  (HI) este un acid foarte tare. În soluţia apoasă de acid iodhidric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ii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concentraţii egale cu concentraţia iniţială a acid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ionii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1596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CIZI ŞI BA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ul de Chimie,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Elena Alexandrescu, Viorica Zaharia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629080" y="2781360"/>
            <a:ext cx="3886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esiunea iunie - iuli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5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3s12</cp:lastModifiedBy>
  <dcterms:modified xsi:type="dcterms:W3CDTF">2012-06-18T11:18:24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