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B18B2-8B53-4689-9ADE-E4F0F478C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5C36F-6252-467F-8154-03D5D144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12838-5A60-4F40-9119-6D9898EB6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EAF54-ADB4-4150-AAF2-E7E061413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3BF4-136C-4476-8D57-8288256FE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4F7D-C488-41C7-957A-81D3E8E9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FAE5-CDC6-4D2F-9B6C-3E61BB816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801BC-F6E9-4D25-A405-913888B4C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3EDB1-107D-4BD9-8BCC-DAAD27C8C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79487-A40F-4CD1-A996-7FF6F142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B424-8CA1-4986-A7C0-1973D6F6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3AC5-3062-481C-98D8-4F4FE80B9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383C-3E02-4887-A6D2-0B1A8333F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191120" y="4800600"/>
            <a:ext cx="377172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Sesiunea iunie-iulie</a:t>
            </a:r>
            <a:endParaRPr b="0" lang="en-US" sz="2800" spc="1" strike="noStrike">
              <a:ln w="9360">
                <a:solidFill>
                  <a:srgbClr val="000000"/>
                </a:solidFill>
                <a:miter/>
              </a:ln>
              <a:solidFill>
                <a:srgbClr val="000000"/>
              </a:solidFill>
              <a:latin typeface="Arial Black"/>
              <a:ea typeface="Arial Black"/>
            </a:endParaRPr>
          </a:p>
        </p:txBody>
      </p:sp>
    </p:spTree>
  </p:cSld>
  <p:transition advTm="5000">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advTm="5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0a3</cp:lastModifiedBy>
  <dcterms:modified xsi:type="dcterms:W3CDTF">2012-06-18T10:58: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