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DA672-EDF2-4A98-A1CB-44632E225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A25D0-DE3C-49EF-887C-7E5D7F46F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DDBE1D-924A-4C2E-8451-2FF560A2B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88E34-C553-4ABB-AD33-2E7A70493C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5765B-1BAE-4B27-8B9B-1594E0CDB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B7619-5DAF-40B3-9DD0-31DD23B5B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9EAA9-8E7B-4975-AE41-8E4940379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4279F-EE46-43CE-9781-B00F086E5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16B38-4FCE-431F-8CC0-C50C0D0D8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C698C-1380-4FD5-B752-F3C7F3653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42ACD-7D5C-45D8-A1FD-51D6B8EEE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3AEA7-D9DA-4C55-8EBB-3410B13221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70B46-C1B1-41AA-8982-DA13526F0CF1}"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UMOSUL</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Estetică, clasa a XII-a,</a:t>
            </a:r>
            <a:r>
              <a:rPr b="0" lang="ro-RO" sz="1000" spc="-1" strike="noStrike">
                <a:solidFill>
                  <a:srgbClr val="000000"/>
                </a:solidFill>
                <a:latin typeface="Arial"/>
              </a:rPr>
              <a:t> Adrian Iorgulescu, Doina Pungă, Gheorghe Stroia)</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2843280" y="3141720"/>
            <a:ext cx="34290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siunea iunie-iuli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ategorie fundamentală a esteticii, frumosul reflectă însuşirile şi proprietăţile naturii, vieţii sociale şi ale creaţiilor umane capabile să trezească în personalitatea valorificatoare stări de satisfacţie, emoţie şi bucurie estetică, precum şi aptitudinile şi înzestrările specifice ale fiinţei omeneşti generatoare a sentimentelor de plăcere şi admiraţie. Frumosul oglindeşte deopotrivă ordinea lumii exterioare, obiective şi armonia trăirilor interioare, subiective, sociabilitatea şi individualitatea omului, îmbinând planul senzorialităţii afective cu cel al raţionalităţii lucide în efortul de a obţine o imagine globală unitară asupra condiţiei umane. </a:t>
            </a:r>
            <a:r>
              <a:rPr b="0" lang="en-US" sz="1200" spc="-1" strike="noStrike">
                <a:solidFill>
                  <a:srgbClr val="000000"/>
                </a:solidFill>
                <a:latin typeface="Arial"/>
                <a:ea typeface="Calibri"/>
              </a:rPr>
              <a:t>[…]</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 plan european, primele reflecţii asupra frumosului s-au ivit în orizontul spiritual elen. Întrebându-se „ce e frumosul</a:t>
            </a:r>
            <a:r>
              <a:rPr b="0" lang="en-US" sz="1200" spc="-1" strike="noStrike">
                <a:solidFill>
                  <a:srgbClr val="000000"/>
                </a:solidFill>
                <a:latin typeface="Arial"/>
                <a:ea typeface="Calibri"/>
              </a:rPr>
              <a:t>?</a:t>
            </a:r>
            <a:r>
              <a:rPr b="0" lang="ro-RO" sz="1200" spc="-1" strike="noStrike">
                <a:solidFill>
                  <a:srgbClr val="000000"/>
                </a:solidFill>
                <a:latin typeface="Arial"/>
                <a:ea typeface="Calibri"/>
              </a:rPr>
              <a:t>”, Platon îl aprecia ca pe un lucru folositor, potrivit scopului său, făcut cu meşteşug şi care produce o plăcere recepţionată cu ajutorul văzului şi auzului.</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ntru el, ca şi pentru mulţi alţii, nu toate plăcerile sunt estetice, ci numai acelea care ţin de simţurile superioare, singurele apte să asigure o stare agreabilă, de desfătare spiritu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Nu trebuie să năzuieşti către orice plăcere, spunea Democrit, ci numai către plăcerea pentru ceea ce este frumo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eşi de natură ideală, abstractă, plasat ca arhetip universal în zonele ideii pure, frumosul, afirma Platon, are strânse contacte cu binele, „identificându-se pretutindeni cu măsura şi proporţia”.</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7"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8" name="Picture 8" descr=""/>
          <p:cNvPicPr/>
          <p:nvPr/>
        </p:nvPicPr>
        <p:blipFill>
          <a:blip r:embed="rId1"/>
          <a:stretch/>
        </p:blipFill>
        <p:spPr>
          <a:xfrm>
            <a:off x="5292720" y="1773360"/>
            <a:ext cx="3333600" cy="3333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osul natural, asigurat de existenţa elementelor primordial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can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iz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im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iologice.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osul uman, constituit din:</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useţea corpului omenesc, alcătuită în principal din elemente naturale, native, dar şi dintr-o îndelungată şlefuire civiliza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useţea sufletească, rezultat aproape integral al eforturilor de înnobilare umană;</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useţea etică a vastelor relaţii dintre oameni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useţea ambientală a locului şi rezultatele muncii omeneşt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osul artistic. Existenţa sa este asigurată […] d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courile reflectării frumuseţii din realitat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pacităţile demiurgice ale omului de artă care, pornind de la lumea reală, făureşte o realitate nouă.[…]</a:t>
            </a:r>
            <a:endParaRPr b="0" lang="en-US" sz="1200" spc="-1" strike="noStrike">
              <a:solidFill>
                <a:srgbClr val="000000"/>
              </a:solidFill>
              <a:latin typeface="Calibri"/>
            </a:endParaRPr>
          </a:p>
        </p:txBody>
      </p:sp>
      <p:sp>
        <p:nvSpPr>
          <p:cNvPr id="50"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Elev</cp:lastModifiedBy>
  <dcterms:modified xsi:type="dcterms:W3CDTF">2010-09-27T10:14:12Z</dcterms:modified>
  <cp:revision>39</cp:revision>
  <dc:subject/>
  <dc:title>SALARIUL</dc:title>
</cp:coreProperties>
</file>