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F55ED-AB29-4EF6-843B-0B62905BE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A01E3-AFA8-488E-AE2D-7D905DF37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7E609-E298-45F3-909D-2532D1E76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779DE-3BAA-4079-A116-673D45EFB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E08AB-89A3-4409-A921-BC65D03F3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480ED-31FE-42EF-A415-3D79B0A1D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96448-611A-413A-B8A3-8CC8DC8FD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8383F-907C-4B5D-9D02-8D7A888DC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C9349-390F-4522-989F-C1AB8DF67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D665E-6C9F-4C7E-A080-E24780B52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C2056-BD1C-41FE-9140-6BDD75822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5124D-FAB2-4FC5-B9BA-9A3497B27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55B9-F609-4B26-901B-F994BC592E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ransition spd="med">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5148360" y="1484280"/>
            <a:ext cx="1439640" cy="1440000"/>
          </a:xfrm>
          <a:prstGeom prst="rect">
            <a:avLst/>
          </a:prstGeom>
          <a:ln w="9360">
            <a:solidFill>
              <a:srgbClr val="969696"/>
            </a:solidFill>
            <a:miter/>
          </a:ln>
        </p:spPr>
      </p:pic>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13a3</cp:lastModifiedBy>
  <dcterms:modified xsi:type="dcterms:W3CDTF">2012-06-19T11:00:04Z</dcterms:modified>
  <cp:revision>43</cp:revision>
  <dc:subject/>
  <dc:title>SALARIUL</dc:title>
</cp:coreProperties>
</file>