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EAA4B-8A82-4048-A8D7-22066AEA5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76037-8470-4978-AF1B-636AFD409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38B60-5031-4856-88FD-4C63AC188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8CDDE-173B-4519-BFDD-6CE3D7065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DC395-83E9-4A96-BB3A-4FCCD7EB5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92145-4806-4B62-9FFD-95478E53A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BFC96-9CE3-43D5-BEFD-727F90C5C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42D9B-84AC-48FE-9423-BF2E4056F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21DCD-81A8-4062-940D-1E5D8E802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8A01-65B2-4B77-ACCA-C3182FD8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68C83-6013-4021-9F21-B4F18CCF5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22CEA-7A2D-468D-9669-1557FE5AE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748F-46D5-49C4-A46F-86EAD392AD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C:\Users\Guest\Desktop\comp_i.jpg"/>
          <p:cNvPicPr/>
          <p:nvPr/>
        </p:nvPicPr>
        <p:blipFill>
          <a:blip r:embed="rId1"/>
          <a:stretch/>
        </p:blipFill>
        <p:spPr>
          <a:xfrm>
            <a:off x="5334120" y="1828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08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