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5730-90F4-4ECA-AF43-AB20D8AA5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D672-74F7-4326-8E7F-8CC0BAE0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3FF5-13A3-4A26-91DB-CC2EA359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4B3E-A34A-4F29-8E3A-F18CE087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A196-8FA8-44DA-AEDD-C3391E48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FFED-5561-47BA-A551-E92FEDAD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68A5-78C1-4EF1-8823-5094D6C7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AFF0-B6F6-4448-8720-5D38CB0E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533C-8653-4512-8CED-00ADEA60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F4C1-61C3-4218-81F4-0BBD2219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A4FB-C28E-47BA-A317-4060ADC1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E2A4-761D-442A-B627-34872A79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6C1C-1964-4D78-B518-AD8924EE2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a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468360" y="18900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grayscl/>
            <a:lum contrast="-6000"/>
          </a:blip>
          <a:stretch/>
        </p:blipFill>
        <p:spPr>
          <a:xfrm>
            <a:off x="5508720" y="155736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10a3</cp:lastModifiedBy>
  <dcterms:modified xsi:type="dcterms:W3CDTF">2012-06-19T11:00:10Z</dcterms:modified>
  <cp:revision>30</cp:revision>
  <dc:subject/>
  <dc:title>SALARIUL</dc:title>
</cp:coreProperties>
</file>