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817B8-E21E-499B-9DDD-4EFA3BC5D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93FAE-0451-4B3A-8376-204E76462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6298F-65B1-4854-AA8F-DC1F15138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E4EAE-6C39-400F-BB7B-1F55A4A86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73AFD-14F6-4CFD-AC0E-8D3C559EA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2F017-ED69-4201-941D-5A576A678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0FF37-0653-4D85-A126-AC7ECF40A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5D70B-D13D-4827-B7C1-8F27711BF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C869C-1161-48C8-90BC-C66BD8B5F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A2E91-7DD0-40BE-A9DA-AF7167D7F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3718F-FC8D-416A-A90E-4166C7520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EEC50-D58A-4CF5-8438-1502EABD6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4F186-1FBE-4F89-BBE8-77A79982C8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4" name=""/>
          <p:cNvSpPr txBox="1"/>
          <p:nvPr/>
        </p:nvSpPr>
        <p:spPr>
          <a:xfrm>
            <a:off x="1523880" y="4114800"/>
            <a:ext cx="64771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Adaptat după Manualul de Istorie, clasa a V-a, Zoe Petre, </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7" name="Picture 6" descr=""/>
          <p:cNvPicPr/>
          <p:nvPr/>
        </p:nvPicPr>
        <p:blipFill>
          <a:blip r:embed="rId1"/>
          <a:stretch/>
        </p:blipFill>
        <p:spPr>
          <a:xfrm>
            <a:off x="4952880" y="1447920"/>
            <a:ext cx="3600720" cy="3600360"/>
          </a:xfrm>
          <a:prstGeom prst="rect">
            <a:avLst/>
          </a:prstGeom>
          <a:ln w="0">
            <a:noFill/>
          </a:ln>
        </p:spPr>
      </p:pic>
      <p:graphicFrame>
        <p:nvGraphicFramePr>
          <p:cNvPr id="48" name=""/>
          <p:cNvGraphicFramePr/>
          <p:nvPr/>
        </p:nvGraphicFramePr>
        <p:xfrm>
          <a:off x="1523880" y="1371600"/>
          <a:ext cx="6096240" cy="4067280"/>
        </p:xfrm>
        <a:graphic>
          <a:graphicData uri="http://schemas.openxmlformats.org/presentationml/2006/ole">
            <p:oleObj r:id="rId2" spid="">
              <p:embed/>
              <p:pic>
                <p:nvPicPr>
                  <p:cNvPr id="49" name="" descr=""/>
                  <p:cNvPicPr/>
                  <p:nvPr/>
                </p:nvPicPr>
                <p:blipFill>
                  <a:blip r:embed="rId3"/>
                  <a:stretch/>
                </p:blipFill>
                <p:spPr>
                  <a:xfrm>
                    <a:off x="1523880" y="1371600"/>
                    <a:ext cx="609624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cp:lastModifiedBy>
  <dcterms:modified xsi:type="dcterms:W3CDTF">2012-06-18T11:13:24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