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D08-9D6B-4FAE-9061-ADBCD783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12C6-5221-4941-9BCA-8318DBFF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C5DB-43A0-4BEB-8431-4D47D82A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7E0E-55D4-453B-9423-944E0D66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99D-0575-48EC-BC4A-FE968FD0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C6FD-0CAB-4EFE-AD0E-C031D8EF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63D-0E32-4E14-B915-6EA714F8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2624-EE67-4268-B568-9339F0B1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4623-4833-43ED-8CF3-7748F51E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93C8-6E61-4ED3-AF1A-C394BE89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820-F591-495D-A536-B571319F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986-4B47-4915-B79D-692E0BD6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75BD-E903-4B38-B597-1EF02D90908A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ATUL DA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36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to-dacii locuiau în spaţiul carpato-dunărean, făcând parte din neamul tracilor […]. Cea mai veche informaţie scrisă o furnizează Herodot care în anul    514 î.H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i aminteşte pe geţi, caracterizându-i drept  ,,cei mari viteji şi mai drepţi dintre traci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interni: ,,liantul” religios bazat pe cultul lui Zalmoxis; progresul economic reprezentat de înfloritoarea civilizaţie a fierului; organizarea în triburi şi uniuni tribale conduse de şefi militari, având reşedinţe fortificate (dava); formarea aristocraţiei militare şi sacerdotale (tarabostes, pileati) […], devenită clasă politică conducătoare (majoritatea populaţiei o formau oamenii de rând, comati)[…]; puternica personalitate a unor căpetenii politico-militare, devenite adevăraţi regi locali, între care cel mai important avea să fie Burebista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externi. Aflaţi în plin proces evolutiv specific epocii fierului, geto-dacii au cunoscut diverse influenţe externe în planul civilizaţiei materiale şi spirituale din partea celţilor, perşilor, sciţilor, grecilor, romanil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 în atenţia lumii greceşti până spre secolul al II-lea î.Hr., geto-dacii au intrat apoi în zona de influenţă a Rom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plan politico-militar, creşterea ameninţării celte şi îndeosebi romane, a grăbit procesul de constituire a stăpânirii lui Burebist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se recunoaşte client al Romei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Cel dintâi şi cel mai mar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 din  Tracia” a fo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n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acea din anul 89 s-a încheiat înt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Domiț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Caesar şi 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Caes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</dc:creator>
  <dc:description/>
  <dc:language>en-US</dc:language>
  <cp:lastModifiedBy>TIC6_col</cp:lastModifiedBy>
  <dcterms:modified xsi:type="dcterms:W3CDTF">2010-03-24T10:26:26Z</dcterms:modified>
  <cp:revision>20</cp:revision>
  <dc:subject/>
  <dc:title>Slide 1</dc:title>
</cp:coreProperties>
</file>