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033D-1C9A-4D01-91A2-7B7DACAC1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30AA-0AA0-4060-8308-C5D71DD9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7D34-C122-4FB1-8550-E5ED8D570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8EA3-B132-4743-A5A5-BB3CD0571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345C-1D32-47AD-A291-5B23283F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B14A-731D-4E54-8F00-4F96B039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8066-4628-4902-B1D6-B8EE8116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6321-B6EB-43C8-A238-8BED45FB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BEE0-6EEF-4AC4-BD4D-9583946D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9BCF-99A0-4270-9E11-257783E0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5D2D-BDFB-49EC-8C62-E32E3C27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7F7D-EA07-4651-AB95-A6B78954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0974-F5BD-4C59-865E-89822FE84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MIJLOACE DE MĂSURARE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ultură de specialitate pentru Şcolile de Arte şi Meserii – domeniul mecanic- clasa a I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Adriana Popescu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- SIMULAR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4267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Mijloace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 măsurare reprezintă totalitatea mijloacelor tehnice cu care se determină cantitativ mărimea de măsurat.</a:t>
            </a: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 Şabloane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nt măsuri terminale executate din tablă cu diferite profile, în funcție de piesele care se controlează.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icrometru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e un aparat la care deplasările unghiulare se transform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în deplasări liniare și care este utilizat pentru măsurarea lungimilor.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Lungime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o mărime fizică fundamentală în Sistemul Internaţion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Unitatea de măsură pentru lungime este metrul, m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Sticla plan-paralelă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o măsură terminală cu valoare unică, din sticlă, cu suprafeţe plane şi paralel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alele plan-parale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unt măsuri terminale a căror mărime este determinată de distanţa dintre două suprafeţe de măsurare plane şi paralele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tilizarea calelor se bazează pe proprietatea lor de a adera una pe alta, pe suprafeţele de măsurare, printr-o uşoară apăsare şi o mişcare tangenţială de deplasare, formându-se u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bloc de cal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care poate avea orice dimensiune. Dimensiunea blocului de cale este egală cu suma lungimilor calelor component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294336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lasificarea calibrelor nete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piesa pe care o controleaz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pentru arb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pentru aleza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diametrul limită care verifică piese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partea trece 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partea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nu trece NT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 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destinaţ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de luc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de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de recep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calib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Admin</cp:lastModifiedBy>
  <dcterms:modified xsi:type="dcterms:W3CDTF">2010-01-19T07:36:03Z</dcterms:modified>
  <cp:revision>21</cp:revision>
  <dc:subject/>
  <dc:title>MIJLOACE DE MĂSURA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